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ED1-7116-4BB2-B86D-84A306D9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9C3-3C9B-4F75-8440-6B441451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64A-4385-49B0-AD4A-07881422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3B8-62F7-4AC8-8F06-19A86F5E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853C-1965-4D8D-8F1D-1604FF61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6965-49C2-45A6-AEB7-60A78B39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09AF-B228-4164-BAAA-23D0F022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0A2C-B2BF-43A3-9E9B-4941C1DB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9583-CAFC-43C7-9B8D-57D0D627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A2CA-7211-4D1E-8925-BCBB15D3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4E87-1E4A-4D6D-9AFF-F279AB59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1B1-8B18-4981-8486-EB1CDE4B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D4D7-09E4-4B92-AB7D-DF20FEA3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F15B-3EA1-4E18-9C78-8B57F8F7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ABD1-4C2D-42B5-9358-5E59D79F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5B4A-C5F9-427A-902C-1F021CC8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BB15-8F95-4210-BDBE-3B01339B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719B-E70E-423E-901F-F63BFD70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AEB-0C75-4E76-A263-F925012D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AF1-6A95-4165-A21D-28D961E1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F6E-0F72-47FF-8FE4-FE131611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B3F-DCEC-4EA6-B874-CBA04A19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A46-1C44-4914-8A01-3532F793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094-49DC-4F52-A763-C08D2FA0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8E1E-CDB9-4519-958C-0FBE93FA187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982B-9625-4351-A6FA-0FB8C2A8F9B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44;&#1088;&#1077;&#1074;&#1085;&#1103;&#1103;_&#1043;&#1088;&#1077;&#1094;&#1080;&#1103;" TargetMode="External"/><Relationship Id="rId3" Type="http://schemas.openxmlformats.org/officeDocument/2006/relationships/hyperlink" Target="http://ru.wikipedia.org/wiki/&#1041;&#1086;&#1088;&#1100;&#1073;&#1072;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99"/>
                </a:solidFill>
                <a:latin typeface="Arial"/>
              </a:rPr>
              <a:t>Детям о спорт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33573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ставитель: Борисова Алена Юрье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питатель ГБДОУ №64 Калининского райо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анкт-Петербург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643040"/>
            <a:ext cx="867564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ждый спортсмен получает награды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грады - это призы, полученные  спортсменом на соревнованиях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Это медали, кубки, венки, чаши, статуэтки, грамоты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аграды  и грамот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Picture 9" descr="1089"/>
          <p:cNvPicPr/>
          <p:nvPr/>
        </p:nvPicPr>
        <p:blipFill>
          <a:blip r:embed="rId1"/>
          <a:stretch/>
        </p:blipFill>
        <p:spPr>
          <a:xfrm>
            <a:off x="826920" y="1628640"/>
            <a:ext cx="1444680" cy="2189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suvenir6_big"/>
          <p:cNvPicPr/>
          <p:nvPr/>
        </p:nvPicPr>
        <p:blipFill>
          <a:blip r:embed="rId2"/>
          <a:stretch/>
        </p:blipFill>
        <p:spPr>
          <a:xfrm>
            <a:off x="4000680" y="157176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20080703dasdasmas_3"/>
          <p:cNvPicPr/>
          <p:nvPr/>
        </p:nvPicPr>
        <p:blipFill>
          <a:blip r:embed="rId3"/>
          <a:stretch/>
        </p:blipFill>
        <p:spPr>
          <a:xfrm>
            <a:off x="2000160" y="428616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F009b"/>
          <p:cNvPicPr/>
          <p:nvPr/>
        </p:nvPicPr>
        <p:blipFill>
          <a:blip r:embed="rId4"/>
          <a:stretch/>
        </p:blipFill>
        <p:spPr>
          <a:xfrm>
            <a:off x="6286680" y="4143240"/>
            <a:ext cx="147780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11008_10_12ggro"/>
          <p:cNvPicPr/>
          <p:nvPr/>
        </p:nvPicPr>
        <p:blipFill>
          <a:blip r:embed="rId5"/>
          <a:stretch/>
        </p:blipFill>
        <p:spPr>
          <a:xfrm>
            <a:off x="-5334120" y="-5715000"/>
            <a:ext cx="1878120" cy="173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9" descr="kubokfeder"/>
          <p:cNvPicPr/>
          <p:nvPr/>
        </p:nvPicPr>
        <p:blipFill>
          <a:blip r:embed="rId3"/>
          <a:stretch/>
        </p:blipFill>
        <p:spPr>
          <a:xfrm>
            <a:off x="785880" y="500040"/>
            <a:ext cx="3284640" cy="4637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bb4df6b04a3c"/>
          <p:cNvPicPr/>
          <p:nvPr/>
        </p:nvPicPr>
        <p:blipFill>
          <a:blip r:embed="rId4"/>
          <a:stretch/>
        </p:blipFill>
        <p:spPr>
          <a:xfrm>
            <a:off x="5000760" y="1857240"/>
            <a:ext cx="3305160" cy="4637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85724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портсмены тренируются в день по 4 часа , для того чтобы выступать на соревнования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ы соревнований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дск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район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овые (Чемпионат Мир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ропейские (Чемпионат Европы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ые соревнования судят судьи .Их количество зависит от вида спорта и типа соревнования. Это от 2 до 8 судей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амыми главными соревнованиями являются Олимпийские игры.Они проводятся раз в 4 год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вают летние и зимн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6" descr="ео"/>
          <p:cNvPicPr/>
          <p:nvPr/>
        </p:nvPicPr>
        <p:blipFill>
          <a:blip r:embed="rId3"/>
          <a:stretch/>
        </p:blipFill>
        <p:spPr>
          <a:xfrm>
            <a:off x="4770360" y="1600200"/>
            <a:ext cx="3792600" cy="2189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0000385246-preview"/>
          <p:cNvPicPr/>
          <p:nvPr/>
        </p:nvPicPr>
        <p:blipFill>
          <a:blip r:embed="rId4"/>
          <a:stretch/>
        </p:blipFill>
        <p:spPr>
          <a:xfrm>
            <a:off x="4859280" y="3860640"/>
            <a:ext cx="3792600" cy="218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1" name="Picture 9" descr="10m"/>
          <p:cNvPicPr/>
          <p:nvPr/>
        </p:nvPicPr>
        <p:blipFill>
          <a:blip r:embed="rId1"/>
          <a:stretch/>
        </p:blipFill>
        <p:spPr>
          <a:xfrm>
            <a:off x="1746360" y="1600200"/>
            <a:ext cx="145872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399981"/>
          <p:cNvPicPr/>
          <p:nvPr/>
        </p:nvPicPr>
        <p:blipFill>
          <a:blip r:embed="rId2"/>
          <a:stretch/>
        </p:blipFill>
        <p:spPr>
          <a:xfrm>
            <a:off x="5116680" y="1600200"/>
            <a:ext cx="3101760" cy="2189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spartak_new_22"/>
          <p:cNvPicPr/>
          <p:nvPr/>
        </p:nvPicPr>
        <p:blipFill>
          <a:blip r:embed="rId3"/>
          <a:stretch/>
        </p:blipFill>
        <p:spPr>
          <a:xfrm>
            <a:off x="5940360" y="3941640"/>
            <a:ext cx="1454040" cy="2189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4"/>
          <p:cNvPicPr/>
          <p:nvPr/>
        </p:nvPicPr>
        <p:blipFill>
          <a:blip r:embed="rId4"/>
          <a:stretch/>
        </p:blipFill>
        <p:spPr>
          <a:xfrm>
            <a:off x="835200" y="3941640"/>
            <a:ext cx="3281040" cy="218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ренажер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и существуют для того чтобы спортсмен мог тренировать  свои мышцы и просто поддерживать физическую форму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5" descr="11527999363955"/>
          <p:cNvPicPr/>
          <p:nvPr/>
        </p:nvPicPr>
        <p:blipFill>
          <a:blip r:embed="rId2"/>
          <a:stretch/>
        </p:blipFill>
        <p:spPr>
          <a:xfrm>
            <a:off x="4892760" y="1600200"/>
            <a:ext cx="3547800" cy="45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9" name="Picture 4" descr="clip43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Что такое спорт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пор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это главная составная часть физкультуры. Также в спорте организуются соревнования по различным спортивным дисциплинам (видам спорта) – от банального футбола до виндсерфинга. Спорт бывает любительским, а бывает профессиональным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9" descr="4"/>
          <p:cNvPicPr/>
          <p:nvPr/>
        </p:nvPicPr>
        <p:blipFill>
          <a:blip r:embed="rId2"/>
          <a:stretch/>
        </p:blipFill>
        <p:spPr>
          <a:xfrm>
            <a:off x="4648320" y="251784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итание спортсменов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ртсмены затрачивают большое количество энергии, поэтому в их пище необходимо употреблять белок,также углеводы и жиры, но в меньшем количестве. Правильное питание спортсмена обеспечивает ему хорошее состояние здоровья, для победы на соревнования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000160"/>
            <a:ext cx="82296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Verdana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ак было раньше…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ервые  попытки возникновения спорта возникли еще у пещерных людей это была борьба. В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Древней Грец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уже существовало большое разнообразие видов спорта. Наибольшее развитие получили различные виды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борьб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бег, метание дисков и состязания на колесницах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6" descr="http://upload.wikimedia.org/wikipedia/commons/thumb/c/cc/Croquet.jpg/180px-Croquet.jpg"/>
          <p:cNvPicPr/>
          <p:nvPr/>
        </p:nvPicPr>
        <p:blipFill>
          <a:blip r:embed="rId5"/>
          <a:stretch/>
        </p:blipFill>
        <p:spPr>
          <a:xfrm>
            <a:off x="4643280" y="1700280"/>
            <a:ext cx="4032360" cy="446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Кто такой спортсмен?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ртсмен – это человек, занимающийся каким –либо видом спорта профессионально, или любительс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фессиональный спор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виды спорта в которых спортсмены борются за награды и участвуют в соревнования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ельский спорт – это  спорт, где человек занимается тем видам спорта, каким ему хоч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иды спор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ов спорта очень много: это плавание , прыжки, бег, борьба, теннис, хоккей, футбол, баскетбол, гольф, волейбол, метание , спортивная гимнасти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ы спорта делятся на групповые и индивидуальны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Участвуют больше одного человека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манд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4" descr="normal_IMG_1380"/>
          <p:cNvPicPr/>
          <p:nvPr/>
        </p:nvPicPr>
        <p:blipFill>
          <a:blip r:embed="rId2"/>
          <a:stretch/>
        </p:blipFill>
        <p:spPr>
          <a:xfrm>
            <a:off x="4427640" y="1557360"/>
            <a:ext cx="4465440" cy="324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image001"/>
          <p:cNvPicPr/>
          <p:nvPr/>
        </p:nvPicPr>
        <p:blipFill>
          <a:blip r:embed="rId3"/>
          <a:stretch/>
        </p:blipFill>
        <p:spPr>
          <a:xfrm>
            <a:off x="900000" y="2637000"/>
            <a:ext cx="2448000" cy="298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Участвует 1 человек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ндивидуаль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10m"/>
          <p:cNvPicPr/>
          <p:nvPr/>
        </p:nvPicPr>
        <p:blipFill>
          <a:blip r:embed="rId2"/>
          <a:stretch/>
        </p:blipFill>
        <p:spPr>
          <a:xfrm>
            <a:off x="5292720" y="2276640"/>
            <a:ext cx="2849400" cy="374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60"/>
          <p:cNvPicPr/>
          <p:nvPr/>
        </p:nvPicPr>
        <p:blipFill>
          <a:blip r:embed="rId3"/>
          <a:stretch/>
        </p:blipFill>
        <p:spPr>
          <a:xfrm>
            <a:off x="1042920" y="2276640"/>
            <a:ext cx="3013200" cy="37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5" name="Picture 4" descr="Olympiad-Peking-2008-pic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9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на</dc:creator>
  <dc:description/>
  <dc:language>en-US</dc:language>
  <cp:lastModifiedBy>Clausmensen11</cp:lastModifiedBy>
  <dcterms:modified xsi:type="dcterms:W3CDTF">2013-09-28T18:11:31Z</dcterms:modified>
  <cp:revision>8</cp:revision>
  <dc:subject/>
  <dc:title>PowerPoint Presentation</dc:title>
</cp:coreProperties>
</file>