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C06-972D-45AA-A210-234E342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1A3-3CFC-4E48-A5B2-12110215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36F-3224-4F09-A0E1-76ECED2D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B0B-B84F-4A72-975D-E7E1A8A8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770-492D-439E-9A1D-1EFF39A5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D2B-556C-4F19-863F-E5C532CA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C7C2-8032-44C2-BCC6-24547130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112-0A70-49C0-80EA-6C007362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F395-5C63-4195-BE53-198DFD85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5CD-E448-4A52-B758-2A6F708B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2F03-D380-420B-90E3-616F1B6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1FC-0AD1-479B-9669-341DB855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A172-E08F-489B-8AEC-C24E59A3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ED0B-4664-4A53-BA52-265313A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B8E-6FA8-46FE-9F4F-A00F037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501-13BC-4401-963B-2848FDBE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EAA-EA90-4E5A-81B3-C301A937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BE174-8193-4134-B4B5-04307866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F0903-CB53-48A7-A064-CBA4EC7F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9F152-8060-45BE-867B-17A390F9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20763-9461-410F-8B23-9C8448FE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9E38F-1C03-4BFE-9F96-9BC6641C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EDC-26C8-4328-A553-093CA7F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4EF1C-F1D5-40F2-818E-3589DCD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EA655-977D-4793-8D22-B2FBDAE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029D7-3F2A-434B-93B3-A4B8266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976F6-C8C9-4382-A371-268A141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07910-0B3D-4D7B-9E65-B3F922E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DDA05-4747-4241-AC14-B28946D7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7EE10-3D80-4400-8A0A-80BC4D83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647D-857D-402F-9B37-A8FF7E3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0096-2EC9-48E5-9C41-7480205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1C3A-2FDF-462B-9F84-96032A82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E9E-C3AF-4FD2-BFB4-88AB7517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8BAB-5E29-4AFC-9B1A-C60E4002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A81B-EB2B-48FC-AA21-B93465F2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1BB9-723B-43C3-AC9C-FE325A1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EF25-AD44-46F6-B648-4A89F65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8890-3762-45F4-9783-ED3E398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B496-2C97-4E8E-AB37-75A24F1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919F-6A87-4CDB-98A2-254C2C9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E3E1-20CD-42F6-A9F1-34C6E748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4698-C4D8-45AF-BFD3-4FEA1065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38103-33CF-4655-9C13-3D3EAF60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C87-B434-4FFD-BE08-6424B12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32C03-26E2-434C-96A3-7D5BC0C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42949-4E28-4423-8BFE-4C6F366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E6070-62F7-4A89-84CD-9612808D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0DAFA-2A9F-4556-8807-BCA1057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9E920-52AE-474E-84DF-66F6CB3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74A6B-ABDD-4B97-97A1-53BA541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E000A-BB69-4B59-B127-7B99BEB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F9704-D5B8-4626-99D7-4101B05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C5744-67F4-4FDE-B4FD-5D060E8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2113E-2ECC-4D3A-9D85-E2364EF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FD8-14AA-4100-902D-2522740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F1DA3-458A-421E-AC9B-63297B4F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E30CB-26EF-4599-9992-EB67E1A8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B83B9-2A1D-4E9F-9748-B9687DA1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026A9-B5ED-441A-A4EA-1589AB0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6E6AC-BC51-48F9-A7B5-CFE230D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BBDF5-FF03-46D3-9E1A-FC6797AE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27E27-10EB-479C-B5CF-93B4AE2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57338-2208-49B8-BB2F-656105F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77143-ECA5-4D88-90D1-09B4434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C45A6-D74B-4FFF-A141-AE07784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4B4-33D3-4CFD-BB3C-1E8F0B0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AFA0A-D39C-49CD-A213-89D3838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99140-DF5A-47EF-84C9-F9044702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A5817-6DD0-4F2A-B566-79DB7214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B0A9B-53DF-4C79-B672-0FDFE366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1377A-3688-4FEA-A8D8-A0480BA8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CE111-6137-418F-97A9-6CE6D30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127D3-BADC-454C-B039-2565D62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BDBFF-7F27-4C1F-89FA-56A39E2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7B45B-62D8-42A8-8CEA-E46780A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46894-0F4E-4F4E-B1E1-C76F58B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3BE-3351-4893-A0E2-0D4DB5D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F6D47-FAC0-438F-ACA2-8690690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22417-ACFE-4469-BCBE-B4746B5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3778D-C71D-4FC1-9388-360E7BBE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EA8FA-2D4A-4315-9B3F-18098800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04C83-31DA-4FF6-B783-2EB03C32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871-6CF3-40EB-A13B-694CD6C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BF37-F32A-40C9-87BC-58D193B0E3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D60-3F30-4060-8039-E63B5C4F57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C09-F5C0-4CD1-AD4A-8346C3196A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09F-EC69-4A31-A740-97382B52C9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4A6-DC8A-4A51-913A-E007AC1B17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61BE-52B9-4A77-A65D-1C511D9DFD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66a"/>
            </a:gs>
            <a:gs pos="100000">
              <a:srgbClr val="bdc1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B47-5A5A-4A6F-863A-30EAEDE995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360" y="2786040"/>
            <a:ext cx="624348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ece1"/>
                </a:solidFill>
                <a:latin typeface="Arial"/>
              </a:rPr>
              <a:t>by Alena Sokolova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14360" y="5003280"/>
            <a:ext cx="624348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Gorno-Altaisk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Прямоугольник 3"/>
          <p:cNvGrpSpPr/>
          <p:nvPr/>
        </p:nvGrpSpPr>
        <p:grpSpPr>
          <a:xfrm>
            <a:off x="858960" y="-55440"/>
            <a:ext cx="8351640" cy="1560240"/>
            <a:chOff x="858960" y="-55440"/>
            <a:chExt cx="8351640" cy="1560240"/>
          </a:xfrm>
        </p:grpSpPr>
        <p:pic>
          <p:nvPicPr>
            <p:cNvPr id="35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858960" y="-55440"/>
              <a:ext cx="835164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214280" y="142920"/>
              <a:ext cx="764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Do we need libraries</a:t>
              </a: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»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ircl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PROBLEM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’S LIBR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RT OF MODERN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4" descr="Рисунок1"/>
          <p:cNvPicPr/>
          <p:nvPr/>
        </p:nvPicPr>
        <p:blipFill>
          <a:blip r:embed="rId1"/>
          <a:stretch/>
        </p:blipFill>
        <p:spPr>
          <a:xfrm>
            <a:off x="1908000" y="3789360"/>
            <a:ext cx="4680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98400" y="260280"/>
            <a:ext cx="316872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AIM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7120" y="1052280"/>
            <a:ext cx="746784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WE NEED LIBR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Заголовок 13" descr=""/>
          <p:cNvPicPr/>
          <p:nvPr/>
        </p:nvPicPr>
        <p:blipFill>
          <a:blip r:embed="rId1"/>
          <a:stretch/>
        </p:blipFill>
        <p:spPr>
          <a:xfrm>
            <a:off x="0" y="4975200"/>
            <a:ext cx="8182080" cy="1882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727200" y="1773360"/>
            <a:ext cx="74674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OB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09560" y="2565360"/>
            <a:ext cx="74674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95280" y="3178080"/>
            <a:ext cx="7467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SUB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468360" y="3716280"/>
            <a:ext cx="746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PORTANCE OF CHILDREN’S LIBR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IZ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O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Заголовок 13" descr=""/>
          <p:cNvPicPr/>
          <p:nvPr/>
        </p:nvPicPr>
        <p:blipFill>
          <a:blip r:embed="rId1"/>
          <a:stretch/>
        </p:blipFill>
        <p:spPr>
          <a:xfrm>
            <a:off x="0" y="4724280"/>
            <a:ext cx="8182080" cy="1882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457200" y="2276640"/>
            <a:ext cx="7467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ACTU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57200" y="3025800"/>
            <a:ext cx="7467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NDENCY OF USING ELECTRONIC RESOU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DO YOU GO TO THE LIBRARY?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 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6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7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4267080" y="1600200"/>
          <a:ext cx="365616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36561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When did you go to the library last time?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ntly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2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’t remember – 41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4267080" y="1600200"/>
          <a:ext cx="365616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36561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Your teacher asks you to prepare a report. You: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 to the library 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f the Internet 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Object 6"/>
          <p:cNvGraphicFramePr/>
          <p:nvPr/>
        </p:nvGraphicFramePr>
        <p:xfrm>
          <a:off x="4267080" y="1600200"/>
          <a:ext cx="365616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36561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Do we need libraries? Why?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et som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develop our mi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et a 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know some interesting fa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have a rest from compu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Содержимое 15" descr="01.jpg"/>
          <p:cNvPicPr/>
          <p:nvPr/>
        </p:nvPicPr>
        <p:blipFill>
          <a:blip r:embed="rId1"/>
          <a:stretch/>
        </p:blipFill>
        <p:spPr>
          <a:xfrm>
            <a:off x="4284720" y="2421000"/>
            <a:ext cx="4033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2:10:07Z</dcterms:created>
  <dc:creator>Пользователь Windows</dc:creator>
  <dc:description/>
  <dc:language>en-US</dc:language>
  <cp:lastModifiedBy>Анна</cp:lastModifiedBy>
  <dcterms:modified xsi:type="dcterms:W3CDTF">2013-09-28T14:56:14Z</dcterms:modified>
  <cp:revision>38</cp:revision>
  <dc:subject/>
  <dc:title>Слайд 1</dc:title>
</cp:coreProperties>
</file>