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1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C2F-6C90-4A17-A30C-260B1583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941-7FA3-482A-B93C-09D4DD47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7B2-454E-4910-AC8F-A4760146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FF3-7B4D-4561-828A-445879A4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7B3E-4A3D-4FD2-9021-F4428A07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8462-B1E7-4CDF-ADCC-63695066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A25F-7523-4F86-AFAF-96458298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68CC-49A7-4CD3-B227-AF392389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F424-F8B0-4C50-9235-E4E9BCF9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9D49-05B3-4FFB-B487-88C49027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F1E0-4404-4F9F-9829-DD3DC681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9A7-1F8B-43CD-8734-F63FDA2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8870-1829-49BF-8569-A91FCACB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9C5B-D293-4360-8CE3-7A7407B6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DE9F-C9E2-4189-A0E3-05BD197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0A27-8A20-42FD-B939-8E4485DE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87C2-17A4-4C1C-ACB2-312B7403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329-F1ED-4775-99DF-394132C6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A30-7FD5-49A6-9767-5154050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228-9683-406B-A78B-C4D89787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DB6-D69C-4AA4-AA72-B7F594EC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C9E-107F-470B-AD64-09403D5B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A68-FBFF-431C-9BC0-0D60F462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8FE-2972-4695-B19B-5D2F5537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8371-D691-4941-A30F-F4D85E787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6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dcef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152280" y="1600200"/>
            <a:ext cx="8991360" cy="4723920"/>
            <a:chOff x="152280" y="1600200"/>
            <a:chExt cx="8991360" cy="4723920"/>
          </a:xfrm>
        </p:grpSpPr>
        <p:sp>
          <p:nvSpPr>
            <p:cNvPr id="5" name="Freeform 8"/>
            <p:cNvSpPr/>
            <p:nvPr/>
          </p:nvSpPr>
          <p:spPr>
            <a:xfrm>
              <a:off x="316800" y="1809720"/>
              <a:ext cx="2644560" cy="4318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9"/>
            <p:cNvSpPr/>
            <p:nvPr/>
          </p:nvSpPr>
          <p:spPr>
            <a:xfrm>
              <a:off x="233640" y="2221920"/>
              <a:ext cx="70920" cy="61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0"/>
            <p:cNvSpPr/>
            <p:nvPr/>
          </p:nvSpPr>
          <p:spPr>
            <a:xfrm>
              <a:off x="874440" y="2495880"/>
              <a:ext cx="8136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1"/>
            <p:cNvSpPr/>
            <p:nvPr/>
          </p:nvSpPr>
          <p:spPr>
            <a:xfrm>
              <a:off x="2506320" y="2620800"/>
              <a:ext cx="204120" cy="164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2"/>
            <p:cNvSpPr/>
            <p:nvPr/>
          </p:nvSpPr>
          <p:spPr>
            <a:xfrm>
              <a:off x="1517040" y="3476160"/>
              <a:ext cx="329760" cy="187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3"/>
            <p:cNvSpPr/>
            <p:nvPr/>
          </p:nvSpPr>
          <p:spPr>
            <a:xfrm>
              <a:off x="1788480" y="3619080"/>
              <a:ext cx="206640" cy="90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4"/>
            <p:cNvSpPr/>
            <p:nvPr/>
          </p:nvSpPr>
          <p:spPr>
            <a:xfrm>
              <a:off x="2007360" y="3676680"/>
              <a:ext cx="7920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5"/>
            <p:cNvSpPr/>
            <p:nvPr/>
          </p:nvSpPr>
          <p:spPr>
            <a:xfrm>
              <a:off x="2124360" y="3683520"/>
              <a:ext cx="24840" cy="55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6"/>
            <p:cNvSpPr/>
            <p:nvPr/>
          </p:nvSpPr>
          <p:spPr>
            <a:xfrm>
              <a:off x="1742400" y="1798560"/>
              <a:ext cx="375480" cy="195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7"/>
            <p:cNvSpPr/>
            <p:nvPr/>
          </p:nvSpPr>
          <p:spPr>
            <a:xfrm>
              <a:off x="1909440" y="1707120"/>
              <a:ext cx="30456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2337480" y="1863360"/>
              <a:ext cx="48636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333160" y="1680480"/>
              <a:ext cx="91800" cy="80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2157840" y="1836360"/>
              <a:ext cx="135360" cy="93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2300040" y="1854360"/>
              <a:ext cx="1123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2239560" y="1773720"/>
              <a:ext cx="133200" cy="75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2183040" y="1702440"/>
              <a:ext cx="9180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2420640" y="1709280"/>
              <a:ext cx="237960" cy="171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152280" y="2255400"/>
              <a:ext cx="518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1731960" y="33937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1738080" y="34495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2164320" y="3744000"/>
              <a:ext cx="30960" cy="2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2423160" y="266508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2214360" y="220824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2349720" y="1809720"/>
              <a:ext cx="8352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2481120" y="2050200"/>
              <a:ext cx="7920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2514960" y="1600200"/>
              <a:ext cx="1452600" cy="770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2959200" y="201024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5"/>
            <p:cNvSpPr/>
            <p:nvPr/>
          </p:nvSpPr>
          <p:spPr>
            <a:xfrm>
              <a:off x="3549960" y="2157480"/>
              <a:ext cx="269280" cy="120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6"/>
            <p:cNvSpPr/>
            <p:nvPr/>
          </p:nvSpPr>
          <p:spPr>
            <a:xfrm>
              <a:off x="3760560" y="179388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7"/>
            <p:cNvSpPr/>
            <p:nvPr/>
          </p:nvSpPr>
          <p:spPr>
            <a:xfrm>
              <a:off x="4322520" y="1722960"/>
              <a:ext cx="322920" cy="140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8"/>
            <p:cNvSpPr/>
            <p:nvPr/>
          </p:nvSpPr>
          <p:spPr>
            <a:xfrm>
              <a:off x="4524480" y="1796040"/>
              <a:ext cx="102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9"/>
            <p:cNvSpPr/>
            <p:nvPr/>
          </p:nvSpPr>
          <p:spPr>
            <a:xfrm>
              <a:off x="3915360" y="2402280"/>
              <a:ext cx="227160" cy="29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0"/>
            <p:cNvSpPr/>
            <p:nvPr/>
          </p:nvSpPr>
          <p:spPr>
            <a:xfrm>
              <a:off x="3802680" y="2509560"/>
              <a:ext cx="141840" cy="15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1"/>
            <p:cNvSpPr/>
            <p:nvPr/>
          </p:nvSpPr>
          <p:spPr>
            <a:xfrm>
              <a:off x="7321320" y="5056200"/>
              <a:ext cx="989640" cy="1103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2"/>
            <p:cNvSpPr/>
            <p:nvPr/>
          </p:nvSpPr>
          <p:spPr>
            <a:xfrm>
              <a:off x="7628760" y="4474800"/>
              <a:ext cx="665280" cy="467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3"/>
            <p:cNvSpPr/>
            <p:nvPr/>
          </p:nvSpPr>
          <p:spPr>
            <a:xfrm>
              <a:off x="7647120" y="4479120"/>
              <a:ext cx="649080" cy="469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4"/>
            <p:cNvSpPr/>
            <p:nvPr/>
          </p:nvSpPr>
          <p:spPr>
            <a:xfrm>
              <a:off x="8127360" y="6194880"/>
              <a:ext cx="93600" cy="129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5"/>
            <p:cNvSpPr/>
            <p:nvPr/>
          </p:nvSpPr>
          <p:spPr>
            <a:xfrm>
              <a:off x="8411040" y="5994360"/>
              <a:ext cx="342360" cy="189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6"/>
            <p:cNvSpPr/>
            <p:nvPr/>
          </p:nvSpPr>
          <p:spPr>
            <a:xfrm>
              <a:off x="8766000" y="5883120"/>
              <a:ext cx="217080" cy="204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7"/>
            <p:cNvSpPr/>
            <p:nvPr/>
          </p:nvSpPr>
          <p:spPr>
            <a:xfrm>
              <a:off x="8880840" y="5791680"/>
              <a:ext cx="77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8"/>
            <p:cNvSpPr/>
            <p:nvPr/>
          </p:nvSpPr>
          <p:spPr>
            <a:xfrm>
              <a:off x="5284800" y="4708800"/>
              <a:ext cx="256320" cy="447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9"/>
            <p:cNvSpPr/>
            <p:nvPr/>
          </p:nvSpPr>
          <p:spPr>
            <a:xfrm>
              <a:off x="6395040" y="4013280"/>
              <a:ext cx="10188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0"/>
            <p:cNvSpPr/>
            <p:nvPr/>
          </p:nvSpPr>
          <p:spPr>
            <a:xfrm>
              <a:off x="7089840" y="4160520"/>
              <a:ext cx="231120" cy="407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1"/>
            <p:cNvSpPr/>
            <p:nvPr/>
          </p:nvSpPr>
          <p:spPr>
            <a:xfrm>
              <a:off x="6893640" y="4033440"/>
              <a:ext cx="148320" cy="304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2"/>
            <p:cNvSpPr/>
            <p:nvPr/>
          </p:nvSpPr>
          <p:spPr>
            <a:xfrm>
              <a:off x="6996240" y="4278600"/>
              <a:ext cx="83160" cy="291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3"/>
            <p:cNvSpPr/>
            <p:nvPr/>
          </p:nvSpPr>
          <p:spPr>
            <a:xfrm>
              <a:off x="7089840" y="4583880"/>
              <a:ext cx="135720" cy="118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4"/>
            <p:cNvSpPr/>
            <p:nvPr/>
          </p:nvSpPr>
          <p:spPr>
            <a:xfrm>
              <a:off x="7307280" y="4372200"/>
              <a:ext cx="17316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5"/>
            <p:cNvSpPr/>
            <p:nvPr/>
          </p:nvSpPr>
          <p:spPr>
            <a:xfrm>
              <a:off x="7248600" y="3440880"/>
              <a:ext cx="45720" cy="158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6"/>
            <p:cNvSpPr/>
            <p:nvPr/>
          </p:nvSpPr>
          <p:spPr>
            <a:xfrm>
              <a:off x="7277760" y="3706200"/>
              <a:ext cx="12708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7"/>
            <p:cNvSpPr/>
            <p:nvPr/>
          </p:nvSpPr>
          <p:spPr>
            <a:xfrm>
              <a:off x="7367400" y="4053240"/>
              <a:ext cx="13392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8"/>
            <p:cNvSpPr/>
            <p:nvPr/>
          </p:nvSpPr>
          <p:spPr>
            <a:xfrm>
              <a:off x="7526520" y="4367520"/>
              <a:ext cx="59760" cy="109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9"/>
            <p:cNvSpPr/>
            <p:nvPr/>
          </p:nvSpPr>
          <p:spPr>
            <a:xfrm>
              <a:off x="7492680" y="4550400"/>
              <a:ext cx="37080" cy="35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0"/>
            <p:cNvSpPr/>
            <p:nvPr/>
          </p:nvSpPr>
          <p:spPr>
            <a:xfrm>
              <a:off x="7549200" y="4528440"/>
              <a:ext cx="93960" cy="79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1"/>
            <p:cNvSpPr/>
            <p:nvPr/>
          </p:nvSpPr>
          <p:spPr>
            <a:xfrm>
              <a:off x="7692840" y="4683960"/>
              <a:ext cx="500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2"/>
            <p:cNvSpPr/>
            <p:nvPr/>
          </p:nvSpPr>
          <p:spPr>
            <a:xfrm>
              <a:off x="8250480" y="4590360"/>
              <a:ext cx="95760" cy="104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3"/>
            <p:cNvSpPr/>
            <p:nvPr/>
          </p:nvSpPr>
          <p:spPr>
            <a:xfrm>
              <a:off x="7421760" y="4721760"/>
              <a:ext cx="95760" cy="111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4"/>
            <p:cNvSpPr/>
            <p:nvPr/>
          </p:nvSpPr>
          <p:spPr>
            <a:xfrm>
              <a:off x="7319520" y="4764240"/>
              <a:ext cx="6660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5"/>
            <p:cNvSpPr/>
            <p:nvPr/>
          </p:nvSpPr>
          <p:spPr>
            <a:xfrm>
              <a:off x="7275600" y="4699440"/>
              <a:ext cx="50040" cy="69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6"/>
            <p:cNvSpPr/>
            <p:nvPr/>
          </p:nvSpPr>
          <p:spPr>
            <a:xfrm>
              <a:off x="7346520" y="4724280"/>
              <a:ext cx="709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7244280" y="3984480"/>
              <a:ext cx="56160" cy="122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8"/>
            <p:cNvSpPr/>
            <p:nvPr/>
          </p:nvSpPr>
          <p:spPr>
            <a:xfrm>
              <a:off x="7350840" y="3964320"/>
              <a:ext cx="39600" cy="124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7396560" y="3926520"/>
              <a:ext cx="205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0"/>
            <p:cNvSpPr/>
            <p:nvPr/>
          </p:nvSpPr>
          <p:spPr>
            <a:xfrm>
              <a:off x="7417440" y="3953160"/>
              <a:ext cx="43920" cy="106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1"/>
            <p:cNvSpPr/>
            <p:nvPr/>
          </p:nvSpPr>
          <p:spPr>
            <a:xfrm>
              <a:off x="6856200" y="4106880"/>
              <a:ext cx="248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2"/>
            <p:cNvSpPr/>
            <p:nvPr/>
          </p:nvSpPr>
          <p:spPr>
            <a:xfrm>
              <a:off x="6835320" y="405576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3"/>
            <p:cNvSpPr/>
            <p:nvPr/>
          </p:nvSpPr>
          <p:spPr>
            <a:xfrm>
              <a:off x="6826680" y="4015800"/>
              <a:ext cx="23040" cy="30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4"/>
            <p:cNvSpPr/>
            <p:nvPr/>
          </p:nvSpPr>
          <p:spPr>
            <a:xfrm>
              <a:off x="6801840" y="3926520"/>
              <a:ext cx="2304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5"/>
            <p:cNvSpPr/>
            <p:nvPr/>
          </p:nvSpPr>
          <p:spPr>
            <a:xfrm>
              <a:off x="6806160" y="3981960"/>
              <a:ext cx="3528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8551080" y="5370480"/>
              <a:ext cx="93600" cy="133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9033120" y="5261400"/>
              <a:ext cx="110520" cy="101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8699400" y="5205240"/>
              <a:ext cx="3528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8682840" y="5156280"/>
              <a:ext cx="4320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8363160" y="4724280"/>
              <a:ext cx="50040" cy="73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8434080" y="4819680"/>
              <a:ext cx="536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8490600" y="4960440"/>
              <a:ext cx="5796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8561520" y="4938120"/>
              <a:ext cx="5796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8540640" y="4857840"/>
              <a:ext cx="5364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8486280" y="4802040"/>
              <a:ext cx="54360" cy="77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8419680" y="4766760"/>
              <a:ext cx="50040" cy="57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8502840" y="4884480"/>
              <a:ext cx="50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5142600" y="1823040"/>
              <a:ext cx="293760" cy="24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5317920" y="2054880"/>
              <a:ext cx="8352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5745600" y="1707120"/>
              <a:ext cx="8748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5808240" y="1735920"/>
              <a:ext cx="10440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5921280" y="1743120"/>
              <a:ext cx="10404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649920" y="1803240"/>
              <a:ext cx="183600" cy="68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6837120" y="1800720"/>
              <a:ext cx="9576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793560" y="1865160"/>
              <a:ext cx="7704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7319520" y="2364480"/>
              <a:ext cx="158400" cy="255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7446960" y="2627280"/>
              <a:ext cx="11484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7371720" y="2805840"/>
              <a:ext cx="22752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5157360" y="1683000"/>
              <a:ext cx="108360" cy="66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4934160" y="1702440"/>
              <a:ext cx="39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4984200" y="1700640"/>
              <a:ext cx="770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5111640" y="1680480"/>
              <a:ext cx="41400" cy="35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5073480" y="1720440"/>
              <a:ext cx="3096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453080" y="1756080"/>
              <a:ext cx="3780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5608080" y="4991760"/>
              <a:ext cx="6480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5691240" y="4975920"/>
              <a:ext cx="230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5551560" y="463284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5677200" y="4470120"/>
              <a:ext cx="2268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5626800" y="4468320"/>
              <a:ext cx="22680" cy="41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5603760" y="451728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5551560" y="459288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5591520" y="456372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3"/>
            <p:cNvSpPr/>
            <p:nvPr/>
          </p:nvSpPr>
          <p:spPr>
            <a:xfrm>
              <a:off x="4061160" y="2361960"/>
              <a:ext cx="21240" cy="33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4"/>
            <p:cNvSpPr/>
            <p:nvPr/>
          </p:nvSpPr>
          <p:spPr>
            <a:xfrm>
              <a:off x="3934080" y="2286720"/>
              <a:ext cx="212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5"/>
            <p:cNvSpPr/>
            <p:nvPr/>
          </p:nvSpPr>
          <p:spPr>
            <a:xfrm>
              <a:off x="3437280" y="1803240"/>
              <a:ext cx="4299480" cy="36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7"/>
          <p:cNvSpPr/>
          <p:nvPr/>
        </p:nvSpPr>
        <p:spPr>
          <a:xfrm rot="5400000">
            <a:off x="22824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8"/>
          <p:cNvSpPr/>
          <p:nvPr/>
        </p:nvSpPr>
        <p:spPr>
          <a:xfrm rot="5400000">
            <a:off x="53280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9"/>
          <p:cNvSpPr/>
          <p:nvPr/>
        </p:nvSpPr>
        <p:spPr>
          <a:xfrm rot="5400000">
            <a:off x="83772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8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7" descr="MCj03080630000[1]"/>
          <p:cNvPicPr/>
          <p:nvPr/>
        </p:nvPicPr>
        <p:blipFill>
          <a:blip r:embed="rId2"/>
          <a:stretch/>
        </p:blipFill>
        <p:spPr>
          <a:xfrm rot="2013600">
            <a:off x="740880" y="5500800"/>
            <a:ext cx="390600" cy="8395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7"/>
          <p:cNvGrpSpPr/>
          <p:nvPr/>
        </p:nvGrpSpPr>
        <p:grpSpPr>
          <a:xfrm>
            <a:off x="152280" y="1066680"/>
            <a:ext cx="8991360" cy="4724280"/>
            <a:chOff x="152280" y="1066680"/>
            <a:chExt cx="8991360" cy="4724280"/>
          </a:xfrm>
        </p:grpSpPr>
        <p:sp>
          <p:nvSpPr>
            <p:cNvPr id="156" name="Freeform 8"/>
            <p:cNvSpPr/>
            <p:nvPr/>
          </p:nvSpPr>
          <p:spPr>
            <a:xfrm>
              <a:off x="316800" y="1276200"/>
              <a:ext cx="2644560" cy="4318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233640" y="1688760"/>
              <a:ext cx="70920" cy="61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874440" y="1962360"/>
              <a:ext cx="81360" cy="70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>
              <a:off x="2506320" y="2087280"/>
              <a:ext cx="204120" cy="16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1517040" y="2943000"/>
              <a:ext cx="32976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1788480" y="3085920"/>
              <a:ext cx="206640" cy="90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"/>
            <p:cNvSpPr/>
            <p:nvPr/>
          </p:nvSpPr>
          <p:spPr>
            <a:xfrm>
              <a:off x="2007360" y="3143520"/>
              <a:ext cx="79200" cy="42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2124360" y="3150000"/>
              <a:ext cx="24840" cy="55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1742400" y="1265040"/>
              <a:ext cx="375480" cy="195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1909440" y="1173600"/>
              <a:ext cx="304560" cy="135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2337480" y="1329840"/>
              <a:ext cx="486360" cy="420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9"/>
            <p:cNvSpPr/>
            <p:nvPr/>
          </p:nvSpPr>
          <p:spPr>
            <a:xfrm>
              <a:off x="2333160" y="1146960"/>
              <a:ext cx="91800" cy="80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2157840" y="1302840"/>
              <a:ext cx="135360" cy="93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1"/>
            <p:cNvSpPr/>
            <p:nvPr/>
          </p:nvSpPr>
          <p:spPr>
            <a:xfrm>
              <a:off x="2300040" y="1320840"/>
              <a:ext cx="11232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"/>
            <p:cNvSpPr/>
            <p:nvPr/>
          </p:nvSpPr>
          <p:spPr>
            <a:xfrm>
              <a:off x="2239560" y="1240200"/>
              <a:ext cx="133200" cy="75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2183040" y="1168920"/>
              <a:ext cx="91800" cy="53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4"/>
            <p:cNvSpPr/>
            <p:nvPr/>
          </p:nvSpPr>
          <p:spPr>
            <a:xfrm>
              <a:off x="2420640" y="1175760"/>
              <a:ext cx="2379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5"/>
            <p:cNvSpPr/>
            <p:nvPr/>
          </p:nvSpPr>
          <p:spPr>
            <a:xfrm>
              <a:off x="152280" y="1721880"/>
              <a:ext cx="5184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6"/>
            <p:cNvSpPr/>
            <p:nvPr/>
          </p:nvSpPr>
          <p:spPr>
            <a:xfrm>
              <a:off x="1731960" y="2860560"/>
              <a:ext cx="33480" cy="26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7"/>
            <p:cNvSpPr/>
            <p:nvPr/>
          </p:nvSpPr>
          <p:spPr>
            <a:xfrm>
              <a:off x="1738080" y="2916000"/>
              <a:ext cx="33480" cy="26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2164320" y="3210840"/>
              <a:ext cx="30960" cy="25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9"/>
            <p:cNvSpPr/>
            <p:nvPr/>
          </p:nvSpPr>
          <p:spPr>
            <a:xfrm>
              <a:off x="2423160" y="2131920"/>
              <a:ext cx="78840" cy="40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0"/>
            <p:cNvSpPr/>
            <p:nvPr/>
          </p:nvSpPr>
          <p:spPr>
            <a:xfrm>
              <a:off x="2214360" y="1675080"/>
              <a:ext cx="78840" cy="40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1"/>
            <p:cNvSpPr/>
            <p:nvPr/>
          </p:nvSpPr>
          <p:spPr>
            <a:xfrm>
              <a:off x="2349720" y="1276200"/>
              <a:ext cx="8352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2"/>
            <p:cNvSpPr/>
            <p:nvPr/>
          </p:nvSpPr>
          <p:spPr>
            <a:xfrm>
              <a:off x="2481120" y="1516680"/>
              <a:ext cx="79200" cy="40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3"/>
            <p:cNvSpPr/>
            <p:nvPr/>
          </p:nvSpPr>
          <p:spPr>
            <a:xfrm>
              <a:off x="2514960" y="1066680"/>
              <a:ext cx="1452600" cy="771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4"/>
            <p:cNvSpPr/>
            <p:nvPr/>
          </p:nvSpPr>
          <p:spPr>
            <a:xfrm>
              <a:off x="2959200" y="1476720"/>
              <a:ext cx="83520" cy="53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5"/>
            <p:cNvSpPr/>
            <p:nvPr/>
          </p:nvSpPr>
          <p:spPr>
            <a:xfrm>
              <a:off x="3549960" y="1623960"/>
              <a:ext cx="269280" cy="12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6"/>
            <p:cNvSpPr/>
            <p:nvPr/>
          </p:nvSpPr>
          <p:spPr>
            <a:xfrm>
              <a:off x="3760560" y="1260720"/>
              <a:ext cx="83520" cy="53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7"/>
            <p:cNvSpPr/>
            <p:nvPr/>
          </p:nvSpPr>
          <p:spPr>
            <a:xfrm>
              <a:off x="4322520" y="1189440"/>
              <a:ext cx="322920" cy="140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8"/>
            <p:cNvSpPr/>
            <p:nvPr/>
          </p:nvSpPr>
          <p:spPr>
            <a:xfrm>
              <a:off x="4524480" y="1262520"/>
              <a:ext cx="102600" cy="46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9"/>
            <p:cNvSpPr/>
            <p:nvPr/>
          </p:nvSpPr>
          <p:spPr>
            <a:xfrm>
              <a:off x="3915360" y="1869120"/>
              <a:ext cx="227160" cy="295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0"/>
            <p:cNvSpPr/>
            <p:nvPr/>
          </p:nvSpPr>
          <p:spPr>
            <a:xfrm>
              <a:off x="3802680" y="1976040"/>
              <a:ext cx="141840" cy="150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1"/>
            <p:cNvSpPr/>
            <p:nvPr/>
          </p:nvSpPr>
          <p:spPr>
            <a:xfrm>
              <a:off x="7321320" y="4523040"/>
              <a:ext cx="989640" cy="1103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2"/>
            <p:cNvSpPr/>
            <p:nvPr/>
          </p:nvSpPr>
          <p:spPr>
            <a:xfrm>
              <a:off x="7628760" y="3941280"/>
              <a:ext cx="665280" cy="46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3"/>
            <p:cNvSpPr/>
            <p:nvPr/>
          </p:nvSpPr>
          <p:spPr>
            <a:xfrm>
              <a:off x="7647120" y="3945960"/>
              <a:ext cx="649080" cy="469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4"/>
            <p:cNvSpPr/>
            <p:nvPr/>
          </p:nvSpPr>
          <p:spPr>
            <a:xfrm>
              <a:off x="8127360" y="5661720"/>
              <a:ext cx="93600" cy="129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5"/>
            <p:cNvSpPr/>
            <p:nvPr/>
          </p:nvSpPr>
          <p:spPr>
            <a:xfrm>
              <a:off x="8411040" y="5460840"/>
              <a:ext cx="342360" cy="18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6"/>
            <p:cNvSpPr/>
            <p:nvPr/>
          </p:nvSpPr>
          <p:spPr>
            <a:xfrm>
              <a:off x="8766000" y="5349960"/>
              <a:ext cx="217080" cy="204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7"/>
            <p:cNvSpPr/>
            <p:nvPr/>
          </p:nvSpPr>
          <p:spPr>
            <a:xfrm>
              <a:off x="8880840" y="5258520"/>
              <a:ext cx="77040" cy="57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8"/>
            <p:cNvSpPr/>
            <p:nvPr/>
          </p:nvSpPr>
          <p:spPr>
            <a:xfrm>
              <a:off x="5284800" y="4175280"/>
              <a:ext cx="256320" cy="44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9"/>
            <p:cNvSpPr/>
            <p:nvPr/>
          </p:nvSpPr>
          <p:spPr>
            <a:xfrm>
              <a:off x="6395040" y="3480120"/>
              <a:ext cx="101880" cy="135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0"/>
            <p:cNvSpPr/>
            <p:nvPr/>
          </p:nvSpPr>
          <p:spPr>
            <a:xfrm>
              <a:off x="7089840" y="3627000"/>
              <a:ext cx="231120" cy="40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1"/>
            <p:cNvSpPr/>
            <p:nvPr/>
          </p:nvSpPr>
          <p:spPr>
            <a:xfrm>
              <a:off x="6893640" y="3500280"/>
              <a:ext cx="148320" cy="30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2"/>
            <p:cNvSpPr/>
            <p:nvPr/>
          </p:nvSpPr>
          <p:spPr>
            <a:xfrm>
              <a:off x="6996240" y="3745440"/>
              <a:ext cx="83160" cy="29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3"/>
            <p:cNvSpPr/>
            <p:nvPr/>
          </p:nvSpPr>
          <p:spPr>
            <a:xfrm>
              <a:off x="7089840" y="4050720"/>
              <a:ext cx="135720" cy="11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4"/>
            <p:cNvSpPr/>
            <p:nvPr/>
          </p:nvSpPr>
          <p:spPr>
            <a:xfrm>
              <a:off x="7307280" y="3838680"/>
              <a:ext cx="173160" cy="262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5"/>
            <p:cNvSpPr/>
            <p:nvPr/>
          </p:nvSpPr>
          <p:spPr>
            <a:xfrm>
              <a:off x="7248600" y="2907360"/>
              <a:ext cx="45720" cy="158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6"/>
            <p:cNvSpPr/>
            <p:nvPr/>
          </p:nvSpPr>
          <p:spPr>
            <a:xfrm>
              <a:off x="7277760" y="3172680"/>
              <a:ext cx="127080" cy="262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7"/>
            <p:cNvSpPr/>
            <p:nvPr/>
          </p:nvSpPr>
          <p:spPr>
            <a:xfrm>
              <a:off x="7367400" y="3520080"/>
              <a:ext cx="133920" cy="173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8"/>
            <p:cNvSpPr/>
            <p:nvPr/>
          </p:nvSpPr>
          <p:spPr>
            <a:xfrm>
              <a:off x="7526520" y="3834360"/>
              <a:ext cx="59760" cy="10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9"/>
            <p:cNvSpPr/>
            <p:nvPr/>
          </p:nvSpPr>
          <p:spPr>
            <a:xfrm>
              <a:off x="7492680" y="4017240"/>
              <a:ext cx="37080" cy="35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0"/>
            <p:cNvSpPr/>
            <p:nvPr/>
          </p:nvSpPr>
          <p:spPr>
            <a:xfrm>
              <a:off x="7549200" y="3994920"/>
              <a:ext cx="9396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"/>
            <p:cNvSpPr/>
            <p:nvPr/>
          </p:nvSpPr>
          <p:spPr>
            <a:xfrm>
              <a:off x="7692840" y="4150800"/>
              <a:ext cx="50040" cy="73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2"/>
            <p:cNvSpPr/>
            <p:nvPr/>
          </p:nvSpPr>
          <p:spPr>
            <a:xfrm>
              <a:off x="8250480" y="4057200"/>
              <a:ext cx="95760" cy="104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3"/>
            <p:cNvSpPr/>
            <p:nvPr/>
          </p:nvSpPr>
          <p:spPr>
            <a:xfrm>
              <a:off x="7421760" y="4188600"/>
              <a:ext cx="95760" cy="111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4"/>
            <p:cNvSpPr/>
            <p:nvPr/>
          </p:nvSpPr>
          <p:spPr>
            <a:xfrm>
              <a:off x="7319520" y="4231080"/>
              <a:ext cx="66600" cy="60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5"/>
            <p:cNvSpPr/>
            <p:nvPr/>
          </p:nvSpPr>
          <p:spPr>
            <a:xfrm>
              <a:off x="7275600" y="4166280"/>
              <a:ext cx="50040" cy="69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6"/>
            <p:cNvSpPr/>
            <p:nvPr/>
          </p:nvSpPr>
          <p:spPr>
            <a:xfrm>
              <a:off x="7346520" y="4191120"/>
              <a:ext cx="70920" cy="53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7"/>
            <p:cNvSpPr/>
            <p:nvPr/>
          </p:nvSpPr>
          <p:spPr>
            <a:xfrm>
              <a:off x="7244280" y="3451320"/>
              <a:ext cx="56160" cy="12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8"/>
            <p:cNvSpPr/>
            <p:nvPr/>
          </p:nvSpPr>
          <p:spPr>
            <a:xfrm>
              <a:off x="7350840" y="3431160"/>
              <a:ext cx="39600" cy="124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9"/>
            <p:cNvSpPr/>
            <p:nvPr/>
          </p:nvSpPr>
          <p:spPr>
            <a:xfrm>
              <a:off x="7396560" y="3393000"/>
              <a:ext cx="2052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0"/>
            <p:cNvSpPr/>
            <p:nvPr/>
          </p:nvSpPr>
          <p:spPr>
            <a:xfrm>
              <a:off x="7417440" y="3420000"/>
              <a:ext cx="43920" cy="106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1"/>
            <p:cNvSpPr/>
            <p:nvPr/>
          </p:nvSpPr>
          <p:spPr>
            <a:xfrm>
              <a:off x="6856200" y="3573360"/>
              <a:ext cx="24840" cy="60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2"/>
            <p:cNvSpPr/>
            <p:nvPr/>
          </p:nvSpPr>
          <p:spPr>
            <a:xfrm>
              <a:off x="6835320" y="3522600"/>
              <a:ext cx="2052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3"/>
            <p:cNvSpPr/>
            <p:nvPr/>
          </p:nvSpPr>
          <p:spPr>
            <a:xfrm>
              <a:off x="6826680" y="3482640"/>
              <a:ext cx="23040" cy="30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4"/>
            <p:cNvSpPr/>
            <p:nvPr/>
          </p:nvSpPr>
          <p:spPr>
            <a:xfrm>
              <a:off x="6801840" y="3393000"/>
              <a:ext cx="23040" cy="42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5"/>
            <p:cNvSpPr/>
            <p:nvPr/>
          </p:nvSpPr>
          <p:spPr>
            <a:xfrm>
              <a:off x="6806160" y="3448800"/>
              <a:ext cx="35280" cy="29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6"/>
            <p:cNvSpPr/>
            <p:nvPr/>
          </p:nvSpPr>
          <p:spPr>
            <a:xfrm>
              <a:off x="8551080" y="4837320"/>
              <a:ext cx="93600" cy="133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7"/>
            <p:cNvSpPr/>
            <p:nvPr/>
          </p:nvSpPr>
          <p:spPr>
            <a:xfrm>
              <a:off x="9033120" y="4728240"/>
              <a:ext cx="110520" cy="101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8"/>
            <p:cNvSpPr/>
            <p:nvPr/>
          </p:nvSpPr>
          <p:spPr>
            <a:xfrm>
              <a:off x="8699400" y="4672080"/>
              <a:ext cx="35280" cy="53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9"/>
            <p:cNvSpPr/>
            <p:nvPr/>
          </p:nvSpPr>
          <p:spPr>
            <a:xfrm>
              <a:off x="8682840" y="4623120"/>
              <a:ext cx="43200" cy="37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0"/>
            <p:cNvSpPr/>
            <p:nvPr/>
          </p:nvSpPr>
          <p:spPr>
            <a:xfrm>
              <a:off x="8363160" y="4191120"/>
              <a:ext cx="50040" cy="73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1"/>
            <p:cNvSpPr/>
            <p:nvPr/>
          </p:nvSpPr>
          <p:spPr>
            <a:xfrm>
              <a:off x="8434080" y="4286520"/>
              <a:ext cx="53640" cy="73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2"/>
            <p:cNvSpPr/>
            <p:nvPr/>
          </p:nvSpPr>
          <p:spPr>
            <a:xfrm>
              <a:off x="8490600" y="4426920"/>
              <a:ext cx="57960" cy="62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3"/>
            <p:cNvSpPr/>
            <p:nvPr/>
          </p:nvSpPr>
          <p:spPr>
            <a:xfrm>
              <a:off x="8561520" y="4404960"/>
              <a:ext cx="57960" cy="57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4"/>
            <p:cNvSpPr/>
            <p:nvPr/>
          </p:nvSpPr>
          <p:spPr>
            <a:xfrm>
              <a:off x="8540640" y="4324320"/>
              <a:ext cx="5364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5"/>
            <p:cNvSpPr/>
            <p:nvPr/>
          </p:nvSpPr>
          <p:spPr>
            <a:xfrm>
              <a:off x="8486280" y="4268880"/>
              <a:ext cx="5436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6"/>
            <p:cNvSpPr/>
            <p:nvPr/>
          </p:nvSpPr>
          <p:spPr>
            <a:xfrm>
              <a:off x="8419680" y="4233600"/>
              <a:ext cx="50040" cy="57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7"/>
            <p:cNvSpPr/>
            <p:nvPr/>
          </p:nvSpPr>
          <p:spPr>
            <a:xfrm>
              <a:off x="8502840" y="4351320"/>
              <a:ext cx="50040" cy="57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8"/>
            <p:cNvSpPr/>
            <p:nvPr/>
          </p:nvSpPr>
          <p:spPr>
            <a:xfrm>
              <a:off x="5142600" y="1289520"/>
              <a:ext cx="293760" cy="240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9"/>
            <p:cNvSpPr/>
            <p:nvPr/>
          </p:nvSpPr>
          <p:spPr>
            <a:xfrm>
              <a:off x="5317920" y="1521360"/>
              <a:ext cx="83520" cy="26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0"/>
            <p:cNvSpPr/>
            <p:nvPr/>
          </p:nvSpPr>
          <p:spPr>
            <a:xfrm>
              <a:off x="5745600" y="1173600"/>
              <a:ext cx="87480" cy="62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1"/>
            <p:cNvSpPr/>
            <p:nvPr/>
          </p:nvSpPr>
          <p:spPr>
            <a:xfrm>
              <a:off x="5808240" y="1202400"/>
              <a:ext cx="1044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2"/>
            <p:cNvSpPr/>
            <p:nvPr/>
          </p:nvSpPr>
          <p:spPr>
            <a:xfrm>
              <a:off x="5921280" y="1209600"/>
              <a:ext cx="104040" cy="70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3"/>
            <p:cNvSpPr/>
            <p:nvPr/>
          </p:nvSpPr>
          <p:spPr>
            <a:xfrm>
              <a:off x="6649920" y="1269720"/>
              <a:ext cx="183600" cy="68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4"/>
            <p:cNvSpPr/>
            <p:nvPr/>
          </p:nvSpPr>
          <p:spPr>
            <a:xfrm>
              <a:off x="6837120" y="1267200"/>
              <a:ext cx="95760" cy="53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5"/>
            <p:cNvSpPr/>
            <p:nvPr/>
          </p:nvSpPr>
          <p:spPr>
            <a:xfrm>
              <a:off x="6793560" y="1331640"/>
              <a:ext cx="77040" cy="37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6"/>
            <p:cNvSpPr/>
            <p:nvPr/>
          </p:nvSpPr>
          <p:spPr>
            <a:xfrm>
              <a:off x="7319520" y="1830960"/>
              <a:ext cx="158400" cy="255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7"/>
            <p:cNvSpPr/>
            <p:nvPr/>
          </p:nvSpPr>
          <p:spPr>
            <a:xfrm>
              <a:off x="7446960" y="2093760"/>
              <a:ext cx="114840" cy="173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8"/>
            <p:cNvSpPr/>
            <p:nvPr/>
          </p:nvSpPr>
          <p:spPr>
            <a:xfrm>
              <a:off x="7371720" y="2272320"/>
              <a:ext cx="227520" cy="420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9"/>
            <p:cNvSpPr/>
            <p:nvPr/>
          </p:nvSpPr>
          <p:spPr>
            <a:xfrm>
              <a:off x="5157360" y="1149480"/>
              <a:ext cx="1083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0"/>
            <p:cNvSpPr/>
            <p:nvPr/>
          </p:nvSpPr>
          <p:spPr>
            <a:xfrm>
              <a:off x="4934160" y="1168920"/>
              <a:ext cx="39600" cy="46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1"/>
            <p:cNvSpPr/>
            <p:nvPr/>
          </p:nvSpPr>
          <p:spPr>
            <a:xfrm>
              <a:off x="4984200" y="1167120"/>
              <a:ext cx="77040" cy="60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2"/>
            <p:cNvSpPr/>
            <p:nvPr/>
          </p:nvSpPr>
          <p:spPr>
            <a:xfrm>
              <a:off x="5111640" y="1146960"/>
              <a:ext cx="41400" cy="3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3"/>
            <p:cNvSpPr/>
            <p:nvPr/>
          </p:nvSpPr>
          <p:spPr>
            <a:xfrm>
              <a:off x="5073480" y="1186920"/>
              <a:ext cx="30960" cy="29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4"/>
            <p:cNvSpPr/>
            <p:nvPr/>
          </p:nvSpPr>
          <p:spPr>
            <a:xfrm>
              <a:off x="7453080" y="1222560"/>
              <a:ext cx="37800" cy="73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5"/>
            <p:cNvSpPr/>
            <p:nvPr/>
          </p:nvSpPr>
          <p:spPr>
            <a:xfrm>
              <a:off x="5608080" y="4458240"/>
              <a:ext cx="6480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6"/>
            <p:cNvSpPr/>
            <p:nvPr/>
          </p:nvSpPr>
          <p:spPr>
            <a:xfrm>
              <a:off x="5691240" y="4442760"/>
              <a:ext cx="2304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"/>
            <p:cNvSpPr/>
            <p:nvPr/>
          </p:nvSpPr>
          <p:spPr>
            <a:xfrm>
              <a:off x="5551560" y="4099680"/>
              <a:ext cx="1872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8"/>
            <p:cNvSpPr/>
            <p:nvPr/>
          </p:nvSpPr>
          <p:spPr>
            <a:xfrm>
              <a:off x="5677200" y="3936960"/>
              <a:ext cx="22680" cy="42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9"/>
            <p:cNvSpPr/>
            <p:nvPr/>
          </p:nvSpPr>
          <p:spPr>
            <a:xfrm>
              <a:off x="5626800" y="3934800"/>
              <a:ext cx="22680" cy="41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0"/>
            <p:cNvSpPr/>
            <p:nvPr/>
          </p:nvSpPr>
          <p:spPr>
            <a:xfrm>
              <a:off x="5603760" y="3983760"/>
              <a:ext cx="2052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1"/>
            <p:cNvSpPr/>
            <p:nvPr/>
          </p:nvSpPr>
          <p:spPr>
            <a:xfrm>
              <a:off x="5551560" y="4059720"/>
              <a:ext cx="1872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2"/>
            <p:cNvSpPr/>
            <p:nvPr/>
          </p:nvSpPr>
          <p:spPr>
            <a:xfrm>
              <a:off x="5591520" y="4030200"/>
              <a:ext cx="2052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3"/>
            <p:cNvSpPr/>
            <p:nvPr/>
          </p:nvSpPr>
          <p:spPr>
            <a:xfrm>
              <a:off x="4061160" y="1828440"/>
              <a:ext cx="21240" cy="3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4"/>
            <p:cNvSpPr/>
            <p:nvPr/>
          </p:nvSpPr>
          <p:spPr>
            <a:xfrm>
              <a:off x="3934080" y="1753200"/>
              <a:ext cx="2124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5"/>
            <p:cNvSpPr/>
            <p:nvPr/>
          </p:nvSpPr>
          <p:spPr>
            <a:xfrm>
              <a:off x="3437280" y="1269720"/>
              <a:ext cx="4299480" cy="3663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156" descr="worldmap_ani8"/>
          <p:cNvPicPr/>
          <p:nvPr/>
        </p:nvPicPr>
        <p:blipFill>
          <a:blip r:embed="rId3"/>
          <a:stretch/>
        </p:blipFill>
        <p:spPr>
          <a:xfrm>
            <a:off x="7772400" y="228600"/>
            <a:ext cx="1090440" cy="109224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58"/>
          <p:cNvSpPr/>
          <p:nvPr/>
        </p:nvSpPr>
        <p:spPr>
          <a:xfrm rot="5400000">
            <a:off x="53280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59"/>
          <p:cNvSpPr/>
          <p:nvPr/>
        </p:nvSpPr>
        <p:spPr>
          <a:xfrm rot="5400000">
            <a:off x="83772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60"/>
          <p:cNvSpPr/>
          <p:nvPr/>
        </p:nvSpPr>
        <p:spPr>
          <a:xfrm rot="5400000">
            <a:off x="114264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26" descr="MCj03080630000[1]"/>
          <p:cNvPicPr/>
          <p:nvPr/>
        </p:nvPicPr>
        <p:blipFill>
          <a:blip r:embed="rId4"/>
          <a:stretch/>
        </p:blipFill>
        <p:spPr>
          <a:xfrm>
            <a:off x="457200" y="5181480"/>
            <a:ext cx="390600" cy="106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0" descr="185"/>
          <p:cNvPicPr/>
          <p:nvPr/>
        </p:nvPicPr>
        <p:blipFill>
          <a:blip r:embed="rId5"/>
          <a:stretch/>
        </p:blipFill>
        <p:spPr>
          <a:xfrm>
            <a:off x="685800" y="601992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E3FD-CB4D-4CB5-A77E-06397B7D53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7"/>
          <p:cNvSpPr/>
          <p:nvPr/>
        </p:nvSpPr>
        <p:spPr>
          <a:xfrm>
            <a:off x="762120" y="2819520"/>
            <a:ext cx="7696080" cy="143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лобализация: за и проти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5"/>
          <p:cNvSpPr/>
          <p:nvPr/>
        </p:nvSpPr>
        <p:spPr>
          <a:xfrm>
            <a:off x="1219320" y="152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лоб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роцесс всемирной экономической, политической и культурной интеграции и ун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457200" y="137160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и следствиями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ое разделение тру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я (и, как правило, концентрация) в масштабах всей планеты капитала, рабочей силы, производственных ресур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изация законодательства, экономических и технологических процес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лижение и слияние культур разных стр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наднациональных политических структур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ъектив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цесс, который носи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, то есть охватывает все сферы жизни общества. В результат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лоб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р становится боле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язан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боле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висим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всех его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1"/>
          <p:cNvSpPr/>
          <p:nvPr/>
        </p:nvSpPr>
        <p:spPr>
          <a:xfrm>
            <a:off x="1230480" y="15228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тика и упр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380880" y="838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зация тесно связана с процессом централизации субъектов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457200" y="1676520"/>
            <a:ext cx="65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государства делегируют всё больше полномочий влиятельным международным организациям, таким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рганизация Объединённых На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мирная торговая организация, Европейский союз, НАТО, МВФ и Мировой Ба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4"/>
          <p:cNvSpPr/>
          <p:nvPr/>
        </p:nvSpPr>
        <p:spPr>
          <a:xfrm>
            <a:off x="457200" y="4343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глобальной политики решаются в основном двумя клубами, такими как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ая восьмёр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ая двадца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причём второй касается в основном экономически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6629400" y="2057400"/>
            <a:ext cx="2514600" cy="168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32940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685800" y="83808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ущая глобализация экономики выраж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ком увеличении масштабов и темпов перемещения капитал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ежающем росте международной торговли по сравнению с ростом ВВП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новением круглосуточно работающих в реальном масштабе времени мировых финансовых рын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ные за последние десятилетия информационные системы неизмеримо усилили способность финансового капитала к быстрому перемеще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"/>
          <p:cNvSpPr/>
          <p:nvPr/>
        </p:nvSpPr>
        <p:spPr>
          <a:xfrm>
            <a:off x="609480" y="5410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щие задачи экономики часто обсуждаются влиятельными политиками и экономистами вместе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мирный экономический фору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1303560" y="30492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ном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533520" y="76212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ультурной глобализации характ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лижение деловой и потребительской культуры между разными странами мира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международного общ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й стороны, это приводит к популяризации отдельных видов национальной культуры по всему миру.  С другой стороны, популярные международные культурные явления могут вытеснять национальные или превращать их в интернациона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228600" y="4114800"/>
            <a:ext cx="655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временные кинофильмы выходят на экраны одновременно во многих странах мира, книги переводятся и становятся популярными у читателей из разных стран. Огромную роль играет повсеместное распространение Интернета. С каждым годом всё большее распространение получает международный тур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1216080" y="3049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6324480" y="4110120"/>
            <a:ext cx="26481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1237680" y="2286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ерик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"/>
          <p:cNvSpPr/>
          <p:nvPr/>
        </p:nvSpPr>
        <p:spPr>
          <a:xfrm>
            <a:off x="457200" y="714240"/>
            <a:ext cx="83818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лливу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ает бо́льшую часть фильмов для мирового прок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ША берут своё начало мировые корпорации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Microsoft, Intel, AMD, Coca-Cola, Procter&amp;Gamble, Peps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гие другие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McDonald'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своей распространённости в мире стала своеобразным символом глобализации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равнивая цены в разных странах на бутерброд BigMac из местного ресторана McDonald’s, журналом The Economist анализируется покупательная способ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ых валют (Индекс Биг-Ма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446040" y="4191120"/>
            <a:ext cx="2782800" cy="2666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3124440" cy="2360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6705720" y="4267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914400" y="762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зацию критик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тиглобалис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политики (например, Уго Чавес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яд экономистов и учё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457200" y="2438280"/>
            <a:ext cx="8381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вестный экономист Джозеф Стиглиц написал несколько книг, в которых содержится острая критика глобализации. Стиглиц доказывает на многочисленных фактах и примерах, что она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азрушае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ромышленность, способствует росту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безработиц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ищет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тормози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учно-технический прогресс и усугубляет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экологическу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катастроф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 планете. Он критикует политику глобальных институтов: ВТО, МВФ, — которые, по его мнению, используют глобализацию и её идеологию (свободная торговля, свободный доступ к сырьевым ресурсам, мировое патентное право, использование в качестве мировых валют «бумажных» доллара и евро, вмешательство международных институтов во внутреннюю политику и т. д.) в интересах нескольких наиболее развитых государств, в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ущерб большинству стран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пла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1300680" y="30492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ика глобализ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457200" y="83808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ой современной глобальной экономике, может стать образование 10-20 национальных или региональных экономик («зон свободной торговли»), которые должны быть защищены от негативного влияния глобальной экономики посредством протекционизма и золотого (или «сырьевого») стандарта как основы установления валютных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1220040" y="30492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тернатива глоб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177840" y="380988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4610160" y="3716280"/>
            <a:ext cx="4381560" cy="2913120"/>
          </a:xfrm>
          <a:prstGeom prst="rect">
            <a:avLst/>
          </a:prstGeom>
          <a:ln w="0">
            <a:noFill/>
          </a:ln>
        </p:spPr>
      </p:pic>
      <p:sp>
        <p:nvSpPr>
          <p:cNvPr id="341" name="Стрелка вправо 6"/>
          <p:cNvSpPr/>
          <p:nvPr/>
        </p:nvSpPr>
        <p:spPr>
          <a:xfrm>
            <a:off x="3809880" y="4800600"/>
            <a:ext cx="12067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Фирдаус</cp:lastModifiedBy>
  <dcterms:modified xsi:type="dcterms:W3CDTF">2011-10-19T17:21:51Z</dcterms:modified>
  <cp:revision>8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