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B17-180C-4159-AF6D-F01DE920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42C-D7A5-4C16-882A-855A2EF8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7E1-6725-4B77-8901-38654EF4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0F8-A299-4410-A047-123CAB8F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F46-94E7-40D2-AF96-F3E33826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DE46-B194-4F19-AF44-2A2946D6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766-013E-4F53-86DD-01C53E28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3112-30B8-4FCA-8153-766E1338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748-418A-4AC1-B6B7-5F7CB1B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3A1-A399-4359-A508-F5C8FD5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1CA-8905-4F81-9903-8986F86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FA0-4134-482D-B0EE-1C9A8F0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50E-9A09-4345-817E-C9AA8B5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8C3-A28F-43D7-B02C-4893703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D37-759C-423E-AC3B-7DDF06A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D2E-215E-410D-A805-7F1FA47C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E9F-F0F3-410E-8518-2FE331CF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C1F-EAA7-4EED-BBDC-573205C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E49-C4B7-42B8-A424-7138E01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762-0479-4353-B26C-3A4EE98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35B-FE5E-4098-811E-6BFA6DDD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A47-7B3D-4860-8704-D396103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AAF-FECF-4D1B-8B09-1576316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A94-88C2-4064-8151-95FE9BE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5890-08D6-4781-9283-BA9D973D5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B347-8DDF-4C16-925F-FFB06837E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Имя Числительно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1699920"/>
            <a:ext cx="748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ите морфемный разбор слова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ислительное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морфема определяет значение терм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берите и запишите слова с тем же корнем, что и в слове числительное. Над каждым из них укажите части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5229360"/>
            <a:ext cx="1990440" cy="145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9313200">
            <a:off x="6271560" y="4857840"/>
            <a:ext cx="2206440" cy="124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19952400">
            <a:off x="0" y="259920"/>
            <a:ext cx="19908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фограмм-числитель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07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на десяте = 11 (одиннадц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554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иллион и Марко По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85946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тай 13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илли» - тысяча (итал.) + «оне» - соответствует –ищ-  = «тысячищ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2066760" cy="2219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иллиа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33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ь в числитель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1484280"/>
          <a:ext cx="8521560" cy="4111560"/>
        </p:xfrm>
        <a:graphic>
          <a:graphicData uri="http://schemas.openxmlformats.org/drawingml/2006/table">
            <a:tbl>
              <a:tblPr/>
              <a:tblGrid>
                <a:gridCol w="4260600"/>
                <a:gridCol w="426096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а конце ь – в середине не пиш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.п и В.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на конце – пиши в середи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, 11-20, 30,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80, 500- 9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минутки на шу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2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168360" cy="27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80000" y="30315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ходи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476280"/>
            <a:ext cx="845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ржаться 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274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1432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305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…… от счаст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0071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осто ка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авильное употребление имен числительных производит неприятное впечатление  и свидетельствует о неграмотности говорящего. Необходимо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 что бы то ни стал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авильно склонять имена числительные и правильно сочетать их с именами существите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Язовицкий «Говорите правильн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7640" y="620280"/>
            <a:ext cx="687564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из предметов, названных существительным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локо, варенье, опилки, вода, бензин, мука, орех, щипцы, чашка, туфли, белизна, ходьба, грусть, торт, погода, градус, очки, тетрадь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ивк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колба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н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читать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 как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змеря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разными единицами меры)? Какие из них не поддаются ни счету, ни измерению? Как это отражается на способности данных существительных сочетаться с количественными или собирательными числитель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1905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43280" y="691920"/>
            <a:ext cx="6588000" cy="71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тимся к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исковому чтени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араграфа 108 «Теории», чтобы найти ответы на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Каково общее грамматическое значение имени числительног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2665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377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елите существительные, которые называют предметы, подлежащие счету, и запишите их в сочетании с числительны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количествен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собирате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ислительное сор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87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.В.Ломоносов «Российская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рамматика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23640" y="1341000"/>
            <a:ext cx="6721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лительны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двое, трое, четверо, десятер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прочие  во всех падежах требуют существительного в родительном множественном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вое мещан, трое беглых, десятеро разбойни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Но сие употребляется  только о людях, и то по большей части низких, ибо неприлично сказать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трое бояр, двое архиереев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о: три боярина, два архиер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формулируйте современные правила употребления собирательных числи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3068640"/>
            <a:ext cx="83772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фициальной речи предпочтительнее использование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оличественны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и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4896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03640" y="476280"/>
            <a:ext cx="5641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кажите, как вы усвоили правила употребления собирательных числительных: с какими из данных существительных и как они сочет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ник, студент рабочий, подруга, женщина, депутат, министр, генерал, боец, медведь, друг, арти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44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мы встречаем в речи фразеологизм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ал золотник, да дор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в первую очередь обращаем мнимание на значение этого выражения: «хотя предмет речи и незначителен с виду, но ценен». Между тем это выражение вошло в нашу жизнь задолго до  создания современной системы средств измерения. Слово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золот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значало старую русскую меру веса – 1/96 фунта, т.е около 4,26 грамм. На золотник мкрили особо ценные металлы (Ср. выражение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на вес золо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540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7280" y="244440"/>
            <a:ext cx="4414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Анализируе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3213000"/>
            <a:ext cx="80074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Каким числительным выражены числитель и знаменатель в дробных числительных? В каких падежах употреблены эти числительны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Почему у дробных числительных всегда совпадают формы Им.п и В.п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27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онтрольная раб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946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Жалел о 500 рублях.2. К 770 прибавить 200. 3.учитель был в ужасе от 590 ошибок, допущенных в диктанте из 240 слов.4.С 250 яблонь колхоз собрал более 600 килограммов яблок. 5. Арендатор владел 867 га земли. На 567 он выращивал картофель, а на 300 – овощи. 6. 3 ребят закончили четверть на отлично.7.У кошки родилось 4 котят. 8.Знакомство с участниками конкурса продолжалось в течение 30 дней и заняло около 200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справьте ошибки в употреблении числительных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0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ть пол будут оба: И Саша, и Костя, и Дени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епче держись – обоими рука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ладею тремями язы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ое дочерей получили высшее образ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ниге нет полтораста стра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то километре дороги произошла ава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мпиада в Сочи пройдет зимой двухтысячь четырнадцатом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 был основан в тысячи семимот третьем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На какие два основных разряда делятся числительные? Какие вопросы помогают определить разряд, к которому относится числительное? Покажите это на пример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415800">
            <a:off x="4356000" y="4784760"/>
            <a:ext cx="3743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1611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260280"/>
            <a:ext cx="8234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Какие морфологические признаки характерны дл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количественных числительных 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порядковых числительных? Покажите это на примерах, используя количественные (кроме один, два) и порядковые числительные в сочетании с существительными квартал, неделя,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5344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Каковы синтаксические признаки количественных и порядковых числительных? Покажите на пример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698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до подума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87640" y="1413000"/>
            <a:ext cx="5857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языкознании существует такая точка зрения: слова, которые в школьной грамматике признаются порядковыми числительными, следует относить к прилагательным. Как вы думаете, на чём основана такая позиция? Покажите это на примерах, сравнивая слова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и добрый, второй и большой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Если затрудняетесь, обратитесь к «Теории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7636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713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и мал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сяча и мн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 и нескольк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то из этих слов является числитель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215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, два, три, четыре, пя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шел зайчик погулять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азовите числительные в этом тексте.? К какому разряду они относятся? Какое слово замещает числительное, но им не явля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390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880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 (……  ) в крещенский вечерок девушки гадали. Семь раз (……) отмерь, один раз(……) отрежь. Раз (……) не знаешь, не гово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0:06:46Z</dcterms:created>
  <dc:creator>usr</dc:creator>
  <dc:description/>
  <dc:language>en-US</dc:language>
  <cp:lastModifiedBy>usr</cp:lastModifiedBy>
  <dcterms:modified xsi:type="dcterms:W3CDTF">2013-03-10T14:32:31Z</dcterms:modified>
  <cp:revision>12</cp:revision>
  <dc:subject/>
  <dc:title>Имя Числительное</dc:title>
</cp:coreProperties>
</file>