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8E2-3D28-4CD7-B5BD-F926ECD8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187-C5C0-42D0-9460-E760A67E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B45-F9BA-419B-854B-C0726B4A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B73-01A2-4B8D-8520-E1915ACA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D52E-BCA6-4EFA-8197-1E06BB32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5AC1-FD7C-4C79-9168-48EB082A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381F-55B0-48E8-8080-FB70EED1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F3E6-B187-43A2-B7DF-91F0368F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4D17-8957-422D-8D65-152DD310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E5BA-A24A-4DF4-9AA6-1FF03F23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8750-F470-4BFD-A93D-6F8AD19D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246-A19E-468F-A8CA-37CE3C64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58B6-0246-4B8C-9F4E-66439458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34C3-2A7D-4DF3-AA55-4031F53E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7662-92A2-4F6F-AB3C-A3C1D327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EC72-743F-48EF-AB95-B589F3B2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E7AA-EA40-47EA-907D-6F9AB823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73A6-2B49-40B6-BAC4-DAB66621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6B46-C3D7-41F9-96C3-E5D4C3EA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5046-1A78-46CB-98BE-E968932B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CF7A-9EE7-43A2-B229-597E720D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A323-20F3-4598-B60D-3DFFB085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0C5-65D6-4029-9179-19EDBA5C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ED48-ABCD-4380-A806-A7D3B348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1715-930D-427F-9EDB-DC8A5344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5FCEC-21E1-495E-827E-2EE1585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EE14-517B-4519-B9E6-859B7599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CBDB-4599-4647-AF27-85A0F2A1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ECAE-28C3-4040-8B17-25DACFEB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8B68-D2E2-45BD-8BC9-7F91286F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52D7-BB45-49B7-AFAB-2B08DBC8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B147F-9325-4EE7-89DD-9EFE4511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DBB2-CE9C-46B0-8B62-1F7D67B9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4ED-B81F-4602-A48F-45FE1CAC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5635-DDCA-4FAD-8515-755557BA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CD25-8C73-464B-9FD6-9D4F4AFC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44C1-C6C2-43C5-A46E-EB174E2E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EFE73-82CE-4EEB-8240-03DF0E6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8479B-DA9F-4C37-ADBF-9BDFF06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A10E0-EFC0-4587-AF53-21970FE2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33FF-F72C-43C3-996A-BC8162FB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D2B74-A90B-4F5C-B3F5-DDD88AD7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56CA-A66E-44E5-B044-6E0F7EDE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787-8AC7-4050-A8C7-C1396EBA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9BA-8218-45DE-942D-2116800C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B46-4D07-4ECC-8B39-7E0A369A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07A-B798-4751-861D-01764276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269-C75C-45B3-BDB8-38B404E3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458E-DDB5-44F1-A354-69715362E97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8913-BAC7-493F-8C0D-13970F75CB8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5464-BDEC-452F-942F-6B0F54DEACA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686E-5258-4513-9F96-35CA572CC08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152280" y="566640"/>
            <a:ext cx="86742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353880" y="1663560"/>
            <a:ext cx="83138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572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680" y="1213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РАЗЕ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0040" y="3428640"/>
            <a:ext cx="4038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дет обучение язы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2920" y="3357720"/>
            <a:ext cx="403884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ет заинтересованность в языковом материал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99" name="Прямая со стрелкой 6"/>
          <p:cNvCxnSpPr>
            <a:stCxn id="196" idx="2"/>
            <a:endCxn id="197" idx="0"/>
          </p:cNvCxnSpPr>
          <p:nvPr/>
        </p:nvCxnSpPr>
        <p:spPr>
          <a:xfrm flipH="1">
            <a:off x="2518920" y="2347560"/>
            <a:ext cx="2167920" cy="1081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0" name="Прямая со стрелкой 8"/>
          <p:cNvCxnSpPr/>
          <p:nvPr/>
        </p:nvCxnSpPr>
        <p:spPr>
          <a:xfrm>
            <a:off x="4643280" y="2357280"/>
            <a:ext cx="2144160" cy="929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4" descr=""/>
          <p:cNvPicPr/>
          <p:nvPr/>
        </p:nvPicPr>
        <p:blipFill>
          <a:blip r:embed="rId1"/>
          <a:stretch/>
        </p:blipFill>
        <p:spPr>
          <a:xfrm>
            <a:off x="182520" y="1639800"/>
            <a:ext cx="89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91960" y="590400"/>
            <a:ext cx="87188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Rectangle 1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80535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07880" y="701640"/>
            <a:ext cx="8487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1" descr=""/>
          <p:cNvPicPr/>
          <p:nvPr/>
        </p:nvPicPr>
        <p:blipFill>
          <a:blip r:embed="rId1"/>
          <a:stretch/>
        </p:blipFill>
        <p:spPr>
          <a:xfrm>
            <a:off x="401760" y="1182600"/>
            <a:ext cx="82184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311040" y="566640"/>
            <a:ext cx="877248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291960" y="566640"/>
            <a:ext cx="87235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6:42:45Z</dcterms:created>
  <dc:creator>Polzovatel</dc:creator>
  <dc:description/>
  <dc:language>en-US</dc:language>
  <cp:lastModifiedBy>Polzovatel</cp:lastModifiedBy>
  <dcterms:modified xsi:type="dcterms:W3CDTF">2011-11-01T07:07:14Z</dcterms:modified>
  <cp:revision>3</cp:revision>
  <dc:subject/>
  <dc:title>Использование  английских идиом и фразеологизмов  для повышения у учащихся мотивации  к изучению иностранного языка.</dc:title>
</cp:coreProperties>
</file>