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8677E4-627F-4DDA-9464-7BF0764F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BC44A-4AF5-4CC0-86CB-5FAC554E3CA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915-0EC3-4729-A9ED-1FA0F1A7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8E6-7A05-4635-B914-B816BA1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8AA-BCFD-4CA5-83DB-D922C7B2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56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03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356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103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90A-5E41-4E97-B10B-038B4C37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CF7F-2CB0-442E-A22B-BFACDAED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7CA-9FBA-4907-99C1-0A4D2BA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5C1-08C2-45C8-90EC-90F5F16A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5F8-E2BF-4DF2-B789-CA8AD326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6B3C-8CE7-4255-878A-156A4C1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1176840"/>
            <a:ext cx="2212560" cy="73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40E5-B2B5-43BB-911B-06C7BF5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2A5F-1544-492E-8A8C-DD71565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B3D-6477-42D5-80BA-DD844A9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5B4-17C8-4343-9D68-3643FC2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8C5-2503-4E05-916F-960C045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8DD6-21F7-4203-8B0A-8AC95244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E5E5-7AF4-446E-B201-82B2A37D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56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03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356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2103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746-6356-4764-9A15-2A1C1B64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0637-F07E-4B03-95F5-8A066B5D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95AB-734A-4E02-9343-EFD0BB0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0138-D5CE-4551-BBD6-07E4B38A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7B34-3DA1-4CDC-AECF-B0BF097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90AD-ED9D-43A0-8E22-4B7ABEA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B8C-48E1-44F4-8AB3-EF5CEA03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1176840"/>
            <a:ext cx="2212560" cy="73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0A10-48D7-486A-B937-D6E6F18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64BE-3FC1-4885-8351-7957F90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94EF-EA65-4F9E-A410-C9A698C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BAA8-4691-4797-8DF6-416484B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F1CF-B8BF-42D3-A7A9-E44EB527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EEBA-F8FD-4A91-97B3-EFF592CB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356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03480" y="282888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09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1356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2103480" y="3967200"/>
            <a:ext cx="71100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5EBC-2025-4548-A3BA-08A0FDE4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1BD-F004-49E6-ABB9-A42FDF16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DB6-C6C0-4073-AC1E-CF58AF3B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176840"/>
            <a:ext cx="2212560" cy="73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13D-FFF8-4D59-955E-3E99E05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6D2-4E05-4F93-B922-A117B8F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21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41680" y="396720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EBD-B16C-4541-B7AD-8D07916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41680" y="2828880"/>
            <a:ext cx="107784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67200"/>
            <a:ext cx="2209320" cy="10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200-3C9C-48C6-9C26-071B3DC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12A3B5-0001-4956-9615-5E9DDF3F709F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891BC8-7A24-4018-930E-0B714692895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 hidden="1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 hidden="1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Прямоугольник с одним вырезанным скругленным углом 8"/>
          <p:cNvSpPr/>
          <p:nvPr/>
        </p:nvSpPr>
        <p:spPr>
          <a:xfrm flipV="1" rot="420000">
            <a:off x="3165480" y="1108080"/>
            <a:ext cx="5257440" cy="4114440"/>
          </a:xfrm>
          <a:prstGeom prst="snipRoundRect">
            <a:avLst>
              <a:gd name="adj1" fmla="val 0"/>
              <a:gd name="adj2" fmla="val 3646"/>
            </a:avLst>
          </a:prstGeom>
          <a:solidFill>
            <a:srgbClr val="ffffff"/>
          </a:solidFill>
          <a:ln cap="rnd" w="3175">
            <a:solidFill>
              <a:srgbClr val="c0c0c0"/>
            </a:solidFill>
            <a:round/>
          </a:ln>
          <a:effectLst>
            <a:outerShdw algn="tl" blurRad="63360" dir="7502171" dist="38251" kx="100000" rotWithShape="0" sx="98500" sy="100080">
              <a:srgbClr val="000000">
                <a:alpha val="25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98" name="Прямоугольный треугольник 11"/>
          <p:cNvSpPr/>
          <p:nvPr/>
        </p:nvSpPr>
        <p:spPr>
          <a:xfrm flipV="1" rot="420000">
            <a:off x="8003880" y="5358600"/>
            <a:ext cx="155160" cy="155160"/>
          </a:xfrm>
          <a:prstGeom prst="rtTriangle">
            <a:avLst/>
          </a:prstGeom>
          <a:solidFill>
            <a:srgbClr val="ffffff"/>
          </a:solidFill>
          <a:ln w="12700">
            <a:solidFill>
              <a:srgbClr val="ffffff"/>
            </a:solidFill>
            <a:bevel/>
          </a:ln>
          <a:effectLst>
            <a:outerShdw algn="tl" blurRad="19800" dir="12932261" dist="6193" rotWithShape="0">
              <a:srgbClr val="000000">
                <a:alpha val="47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472AD5-EE0E-42D9-8B40-E4FE08146F3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body"/>
          </p:nvPr>
        </p:nvSpPr>
        <p:spPr>
          <a:xfrm rot="420000">
            <a:off x="3485520" y="1199160"/>
            <a:ext cx="4617360" cy="3931560"/>
          </a:xfrm>
          <a:prstGeom prst="rect">
            <a:avLst/>
          </a:prstGeom>
          <a:solidFill>
            <a:srgbClr val="dbf5f9"/>
          </a:solidFill>
          <a:ln cap="rnd" w="2880">
            <a:solidFill>
              <a:srgbClr val="c0c0c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Полилиния 9"/>
          <p:cNvSpPr/>
          <p:nvPr/>
        </p:nvSpPr>
        <p:spPr>
          <a:xfrm flipV="1">
            <a:off x="-9000" y="581616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Полилиния 10"/>
          <p:cNvSpPr/>
          <p:nvPr/>
        </p:nvSpPr>
        <p:spPr>
          <a:xfrm flipV="1">
            <a:off x="4381560" y="62197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G:/&#1048;&#1089;&#1087;&#1072;&#1085;&#1080;&#1103;!%20&#1057;&#1083;&#1072;&#1074;&#1085;&#1099;&#1081;%208&#1073;%20&#1082;&#1083;&#1072;&#1089;&#1089;!/Los%20del%20rio%20-%20Macarena.mp3" TargetMode="External"/><Relationship Id="rId3" Type="http://schemas.microsoft.com/office/2007/relationships/media" Target="file:///G:/&#1048;&#1089;&#1087;&#1072;&#1085;&#1080;&#1103;!%20&#1057;&#1083;&#1072;&#1074;&#1085;&#1099;&#1081;%208&#1073;%20&#1082;&#1083;&#1072;&#1089;&#1089;!/Los%20del%20rio%20-%20Macarena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file:///G:/&#1048;&#1089;&#1087;&#1072;&#1085;&#1080;&#1103;!%20&#1057;&#1083;&#1072;&#1074;&#1085;&#1099;&#1081;%208&#1073;%20&#1082;&#1083;&#1072;&#1089;&#1089;!/&#1042;&#1099;&#1093;&#1086;&#1076;%20&#1080;%20&#1086;&#1089;&#1085;&#1086;&#1074;&#1085;&#1072;&#1103;%20&#1090;&#1077;&#1084;&#1072;.mp3" TargetMode="External"/><Relationship Id="rId3" Type="http://schemas.microsoft.com/office/2007/relationships/media" Target="file:///G:/&#1048;&#1089;&#1087;&#1072;&#1085;&#1080;&#1103;!%20&#1057;&#1083;&#1072;&#1074;&#1085;&#1099;&#1081;%208&#1073;%20&#1082;&#1083;&#1072;&#1089;&#1089;!/&#1042;&#1099;&#1093;&#1086;&#1076;%20&#1080;%20&#1086;&#1089;&#1085;&#1086;&#1074;&#1085;&#1072;&#1103;%20&#1090;&#1077;&#1084;&#1072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G:/&#1048;&#1089;&#1087;&#1072;&#1085;&#1080;&#1103;!%20&#1057;&#1083;&#1072;&#1074;&#1085;&#1099;&#1081;%208&#1073;%20&#1082;&#1083;&#1072;&#1089;&#1089;!/&#1042;&#1099;&#1093;&#1086;&#1076;%20&#1080;%20&#1086;&#1089;&#1085;&#1086;&#1074;&#1085;&#1072;&#1103;%20&#1090;&#1077;&#1084;&#1072;.mp3" TargetMode="External"/><Relationship Id="rId3" Type="http://schemas.microsoft.com/office/2007/relationships/media" Target="file:///G:/&#1048;&#1089;&#1087;&#1072;&#1085;&#1080;&#1103;!%20&#1057;&#1083;&#1072;&#1074;&#1085;&#1099;&#1081;%208&#1073;%20&#1082;&#1083;&#1072;&#1089;&#1089;!/&#1042;&#1099;&#1093;&#1086;&#1076;%20&#1080;%20&#1086;&#1089;&#1085;&#1086;&#1074;&#1085;&#1072;&#1103;%20&#1090;&#1077;&#1084;&#1072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G:/&#1048;&#1089;&#1087;&#1072;&#1085;&#1080;&#1103;!%20&#1057;&#1083;&#1072;&#1074;&#1085;&#1099;&#1081;%208&#1073;%20&#1082;&#1083;&#1072;&#1089;&#1089;!/&#1050;&#1086;&#1088;&#1088;&#1080;&#1076;&#1072;.%20&#1055;&#1072;&#1088;&#1086;&#1076;&#1080;&#1103;.mp3" TargetMode="External"/><Relationship Id="rId3" Type="http://schemas.microsoft.com/office/2007/relationships/media" Target="file:///G:/&#1048;&#1089;&#1087;&#1072;&#1085;&#1080;&#1103;!%20&#1057;&#1083;&#1072;&#1074;&#1085;&#1099;&#1081;%208&#1073;%20&#1082;&#1083;&#1072;&#1089;&#1089;!/&#1050;&#1086;&#1088;&#1088;&#1080;&#1076;&#1072;.%20&#1055;&#1072;&#1088;&#1086;&#1076;&#1080;&#1103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file:///G:/&#1048;&#1089;&#1087;&#1072;&#1085;&#1080;&#1103;!%20&#1057;&#1083;&#1072;&#1074;&#1085;&#1099;&#1081;%208&#1073;%20&#1082;&#1083;&#1072;&#1089;&#1089;!/&#1058;&#1072;&#1085;&#1077;&#1094;%20&#1076;&#1077;&#1074;&#1086;&#1095;&#1077;&#1082;.mp3" TargetMode="External"/><Relationship Id="rId6" Type="http://schemas.microsoft.com/office/2007/relationships/media" Target="file:///G:/&#1048;&#1089;&#1087;&#1072;&#1085;&#1080;&#1103;!%20&#1057;&#1083;&#1072;&#1074;&#1085;&#1099;&#1081;%208&#1073;%20&#1082;&#1083;&#1072;&#1089;&#1089;!/&#1058;&#1072;&#1085;&#1077;&#1094;%20&#1076;&#1077;&#1074;&#1086;&#1095;&#1077;&#1082;.mp3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2561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8000" spc="-1" strike="noStrike">
                <a:solidFill>
                  <a:srgbClr val="ffffff"/>
                </a:solidFill>
                <a:latin typeface="Monotype Corsiva"/>
              </a:rPr>
              <a:t>Встреча нового года в Испании</a:t>
            </a:r>
            <a:endParaRPr b="0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31640" y="3933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43640" y="332640"/>
            <a:ext cx="7272360" cy="9356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овогодние торжества в Испании. Отпраздновать новый год в Испании могут те, кто не любит снег и холод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2" name="Рисунок 6" descr="117743926.jpg"/>
          <p:cNvPicPr/>
          <p:nvPr/>
        </p:nvPicPr>
        <p:blipFill>
          <a:blip r:embed="rId1"/>
          <a:stretch/>
        </p:blipFill>
        <p:spPr>
          <a:xfrm>
            <a:off x="467640" y="404640"/>
            <a:ext cx="5265360" cy="5832360"/>
          </a:xfrm>
          <a:prstGeom prst="rect">
            <a:avLst/>
          </a:prstGeom>
          <a:ln cap="rnd" w="3000">
            <a:solidFill>
              <a:srgbClr val="ffff00"/>
            </a:solidFill>
            <a:round/>
          </a:ln>
        </p:spPr>
      </p:pic>
      <p:pic>
        <p:nvPicPr>
          <p:cNvPr id="183" name="Picture 1" descr="C:\Documents and Settings\Администратор\Рабочий стол\Чудесная зима\69048605_119.jpg"/>
          <p:cNvPicPr/>
          <p:nvPr/>
        </p:nvPicPr>
        <p:blipFill>
          <a:blip r:embed="rId2"/>
          <a:stretch/>
        </p:blipFill>
        <p:spPr>
          <a:xfrm rot="481800">
            <a:off x="3501720" y="1056240"/>
            <a:ext cx="5379480" cy="4131360"/>
          </a:xfrm>
          <a:prstGeom prst="rect">
            <a:avLst/>
          </a:prstGeom>
          <a:ln w="0">
            <a:solidFill>
              <a:srgbClr val="ffff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4" descr="happy_new_year_by_clwoods.jpg"/>
          <p:cNvPicPr/>
          <p:nvPr/>
        </p:nvPicPr>
        <p:blipFill>
          <a:blip r:embed="rId1"/>
          <a:srcRect l="5942" t="0" r="5942" b="0"/>
          <a:stretch/>
        </p:blipFill>
        <p:spPr>
          <a:xfrm rot="420000">
            <a:off x="2885400" y="569880"/>
            <a:ext cx="5355360" cy="4559760"/>
          </a:xfrm>
          <a:prstGeom prst="rect">
            <a:avLst/>
          </a:prstGeom>
          <a:ln cap="rnd" w="3000">
            <a:solidFill>
              <a:srgbClr val="c0c0c0"/>
            </a:solidFill>
            <a:round/>
          </a:ln>
        </p:spPr>
      </p:pic>
      <p:sp>
        <p:nvSpPr>
          <p:cNvPr id="185" name="Прямоугольник 3"/>
          <p:cNvSpPr/>
          <p:nvPr/>
        </p:nvSpPr>
        <p:spPr>
          <a:xfrm>
            <a:off x="251640" y="4653000"/>
            <a:ext cx="5832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a5b6dd"/>
                </a:solidFill>
                <a:latin typeface="Constantia"/>
              </a:rPr>
              <a:t>Конкурс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6360" y="580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19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2439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Администратор\Рабочий стол\Чудесная зима\Испания..jpg"/>
          <p:cNvPicPr/>
          <p:nvPr/>
        </p:nvPicPr>
        <p:blipFill>
          <a:blip r:embed="rId1"/>
          <a:stretch/>
        </p:blipFill>
        <p:spPr>
          <a:xfrm>
            <a:off x="0" y="-274320"/>
            <a:ext cx="9143640" cy="74062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467640" y="1556640"/>
            <a:ext cx="83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827640" y="1772640"/>
            <a:ext cx="7848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7200" spc="-1" strike="noStrike">
                <a:ln>
                  <a:solidFill>
                    <a:srgbClr val="ffff00"/>
                  </a:solidFill>
                </a:ln>
                <a:solidFill>
                  <a:srgbClr val="ffffff"/>
                </a:solidFill>
                <a:latin typeface="Monotype Corsiva"/>
              </a:rPr>
              <a:t>Встреча нового го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7200" spc="-1" strike="noStrike">
                <a:ln>
                  <a:solidFill>
                    <a:srgbClr val="ffff00"/>
                  </a:solidFill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ln>
                  <a:solidFill>
                    <a:srgbClr val="ffff00"/>
                  </a:solidFill>
                </a:ln>
                <a:solidFill>
                  <a:srgbClr val="ffffff"/>
                </a:solidFill>
                <a:latin typeface="Monotype Corsiva"/>
              </a:rPr>
              <a:t>в Испан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356000" y="436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54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43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felicidat.jpg"/>
          <p:cNvPicPr/>
          <p:nvPr/>
        </p:nvPicPr>
        <p:blipFill>
          <a:blip r:embed="rId1"/>
          <a:srcRect l="5939" t="0" r="5939" b="0"/>
          <a:stretch/>
        </p:blipFill>
        <p:spPr>
          <a:xfrm rot="420000">
            <a:off x="3463920" y="1159920"/>
            <a:ext cx="5159520" cy="4393080"/>
          </a:xfrm>
          <a:prstGeom prst="rect">
            <a:avLst/>
          </a:prstGeom>
          <a:ln cap="rnd" w="3000">
            <a:solidFill>
              <a:srgbClr val="ffff00"/>
            </a:solidFill>
            <a:round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640" y="1340640"/>
            <a:ext cx="3816000" cy="396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5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4400" spc="-1" strike="noStrike">
                <a:solidFill>
                  <a:schemeClr val="accent1"/>
                </a:solidFill>
                <a:latin typeface="Calibri"/>
              </a:rPr>
              <a:t>Новый год </a:t>
            </a:r>
            <a:br>
              <a:rPr sz="4400"/>
            </a:br>
            <a:r>
              <a:rPr b="1" lang="ru-RU" sz="4400" spc="-1" strike="noStrike">
                <a:solidFill>
                  <a:schemeClr val="accent1"/>
                </a:solidFill>
                <a:latin typeface="Calibri"/>
              </a:rPr>
              <a:t>в Испании – незабываемое </a:t>
            </a:r>
            <a:r>
              <a:rPr b="1" i="1" lang="ru-RU" sz="4400" spc="-1" strike="noStrike">
                <a:solidFill>
                  <a:schemeClr val="accent1"/>
                </a:solidFill>
                <a:latin typeface="Calibri"/>
              </a:rPr>
              <a:t>событие</a:t>
            </a:r>
            <a:r>
              <a:rPr b="1" lang="ru-RU" sz="4400" spc="-1" strike="noStrike">
                <a:solidFill>
                  <a:schemeClr val="accent1"/>
                </a:solidFill>
                <a:latin typeface="Calibri"/>
              </a:rPr>
              <a:t>!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Picture 2" descr="C:\Documents and Settings\Администратор\Рабочий стол\Чудесная зима\0_55e39_110daad2_XL.jpg"/>
          <p:cNvPicPr/>
          <p:nvPr/>
        </p:nvPicPr>
        <p:blipFill>
          <a:blip r:embed="rId1"/>
          <a:stretch/>
        </p:blipFill>
        <p:spPr>
          <a:xfrm rot="423000">
            <a:off x="3074760" y="317160"/>
            <a:ext cx="5462640" cy="4734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pic>
        <p:nvPicPr>
          <p:cNvPr id="160" name="Рисунок 5" descr=""/>
          <p:cNvPicPr/>
          <p:nvPr/>
        </p:nvPicPr>
        <p:blipFill>
          <a:blip r:embed="rId2"/>
          <a:stretch/>
        </p:blipFill>
        <p:spPr>
          <a:xfrm>
            <a:off x="323640" y="764640"/>
            <a:ext cx="4176000" cy="5328360"/>
          </a:xfrm>
          <a:prstGeom prst="rect">
            <a:avLst/>
          </a:prstGeom>
          <a:ln w="0">
            <a:solidFill>
              <a:srgbClr val="ffff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5" descr="http://www.fci.ge/uploads/posts/2011-11/1320512618_la-liga-8.jpg"/>
          <p:cNvPicPr/>
          <p:nvPr/>
        </p:nvPicPr>
        <p:blipFill>
          <a:blip r:embed="rId1"/>
          <a:stretch/>
        </p:blipFill>
        <p:spPr>
          <a:xfrm>
            <a:off x="83160" y="1268640"/>
            <a:ext cx="7008480" cy="4752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pic>
        <p:nvPicPr>
          <p:cNvPr id="164" name="Рисунок 4" descr=""/>
          <p:cNvPicPr/>
          <p:nvPr/>
        </p:nvPicPr>
        <p:blipFill>
          <a:blip r:embed="rId2"/>
          <a:srcRect l="10835" t="0" r="10835" b="0"/>
          <a:stretch/>
        </p:blipFill>
        <p:spPr>
          <a:xfrm rot="768600">
            <a:off x="3809520" y="688320"/>
            <a:ext cx="4865040" cy="4634640"/>
          </a:xfrm>
          <a:prstGeom prst="rect">
            <a:avLst/>
          </a:prstGeom>
          <a:ln cap="rnd" w="3000">
            <a:solidFill>
              <a:srgbClr val="ffff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2" descr="http://img15.nnm.ru/8/4/6/5/c/4f616dc336cec24928e954d88bf_prev.jpg"/>
          <p:cNvPicPr/>
          <p:nvPr/>
        </p:nvPicPr>
        <p:blipFill>
          <a:blip r:embed="rId1"/>
          <a:srcRect l="7386" t="0" r="7386" b="0"/>
          <a:stretch/>
        </p:blipFill>
        <p:spPr>
          <a:xfrm rot="420000">
            <a:off x="2058840" y="770400"/>
            <a:ext cx="6603480" cy="5671080"/>
          </a:xfrm>
          <a:prstGeom prst="rect">
            <a:avLst/>
          </a:prstGeom>
          <a:ln cap="rnd" w="3000">
            <a:solidFill>
              <a:srgbClr val="ff0000"/>
            </a:solidFill>
            <a:round/>
          </a:ln>
        </p:spPr>
      </p:pic>
      <p:sp>
        <p:nvSpPr>
          <p:cNvPr id="168" name="Прямоугольник 6"/>
          <p:cNvSpPr/>
          <p:nvPr/>
        </p:nvSpPr>
        <p:spPr>
          <a:xfrm>
            <a:off x="0" y="332640"/>
            <a:ext cx="1979280" cy="64918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0070c0"/>
                </a:solidFill>
                <a:latin typeface="Constant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573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059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Picture 2" descr="C:\Documents and Settings\Администратор\Рабочий стол\Чудесная зима\02.jpg"/>
          <p:cNvPicPr/>
          <p:nvPr/>
        </p:nvPicPr>
        <p:blipFill>
          <a:blip r:embed="rId1"/>
          <a:stretch/>
        </p:blipFill>
        <p:spPr>
          <a:xfrm rot="21235200">
            <a:off x="467280" y="692640"/>
            <a:ext cx="5714640" cy="426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im3-tub-ru.yandex.net/i?id=269788172-60-72&amp;n=21"/>
          <p:cNvPicPr/>
          <p:nvPr/>
        </p:nvPicPr>
        <p:blipFill>
          <a:blip r:embed="rId2"/>
          <a:stretch/>
        </p:blipFill>
        <p:spPr>
          <a:xfrm>
            <a:off x="251640" y="260640"/>
            <a:ext cx="8280720" cy="6138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im6-tub-ru.yandex.net/i?id=368856726-65-72&amp;n=21"/>
          <p:cNvPicPr/>
          <p:nvPr/>
        </p:nvPicPr>
        <p:blipFill>
          <a:blip r:embed="rId3"/>
          <a:stretch/>
        </p:blipFill>
        <p:spPr>
          <a:xfrm>
            <a:off x="0" y="-164520"/>
            <a:ext cx="9614520" cy="7022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im5-tub-ru.yandex.net/i?id=421296620-61-72&amp;n=21"/>
          <p:cNvPicPr/>
          <p:nvPr/>
        </p:nvPicPr>
        <p:blipFill>
          <a:blip r:embed="rId4"/>
          <a:srcRect l="16866" t="0" r="16866" b="0"/>
          <a:stretch/>
        </p:blipFill>
        <p:spPr>
          <a:xfrm rot="420000">
            <a:off x="3443760" y="1242720"/>
            <a:ext cx="5370840" cy="4573080"/>
          </a:xfrm>
          <a:prstGeom prst="rect">
            <a:avLst/>
          </a:prstGeom>
          <a:ln cap="rnd" w="3000">
            <a:solidFill>
              <a:srgbClr val="c0c0c0"/>
            </a:solidFill>
            <a:round/>
          </a:ln>
        </p:spPr>
      </p:pic>
      <p:pic>
        <p:nvPicPr>
          <p:cNvPr id="17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839080" y="609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15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841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4" descr="20061218_044103_papa_noel.jpg"/>
          <p:cNvPicPr/>
          <p:nvPr/>
        </p:nvPicPr>
        <p:blipFill>
          <a:blip r:embed="rId1"/>
          <a:srcRect l="0" t="21740" r="0" b="21740"/>
          <a:stretch/>
        </p:blipFill>
        <p:spPr>
          <a:xfrm rot="420000">
            <a:off x="3408840" y="1121040"/>
            <a:ext cx="4928040" cy="4195800"/>
          </a:xfrm>
          <a:prstGeom prst="rect">
            <a:avLst/>
          </a:prstGeom>
          <a:ln cap="rnd" w="3000">
            <a:solidFill>
              <a:srgbClr val="c0c0c0"/>
            </a:solidFill>
            <a:round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532000" cy="151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В Испании Деда Мороза именую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chemeClr val="accent1"/>
                </a:solidFill>
                <a:latin typeface="Constantia"/>
              </a:rPr>
              <a:t>Олентцеро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Он одет в национальную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домотканую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одежду и всегда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носит с собой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фляжку хорошего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испанского вина. Подарки он оставляет 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1"/>
                </a:solidFill>
                <a:latin typeface="Constantia"/>
              </a:rPr>
              <a:t>на балконе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4" descr="243664.jpg"/>
          <p:cNvPicPr/>
          <p:nvPr/>
        </p:nvPicPr>
        <p:blipFill>
          <a:blip r:embed="rId1"/>
          <a:srcRect l="0" t="7445" r="0" b="7445"/>
          <a:stretch/>
        </p:blipFill>
        <p:spPr>
          <a:xfrm rot="420000">
            <a:off x="3455280" y="1230480"/>
            <a:ext cx="5160240" cy="4393800"/>
          </a:xfrm>
          <a:prstGeom prst="rect">
            <a:avLst/>
          </a:prstGeom>
          <a:ln cap="rnd" w="3000">
            <a:solidFill>
              <a:srgbClr val="c0c0c0"/>
            </a:solidFill>
            <a:round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1640" y="332640"/>
            <a:ext cx="8352720" cy="295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Ни один новогодний стол в Испании не обходится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без сладостей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Это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Разнообразные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торты, халва, нуга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</Template>
  <TotalTime>257</TotalTime>
  <Application>LibreOffice/7.4.7.2$Linux_X86_64 LibreOffice_project/40$Build-2</Application>
  <AppVersion>15.0000</AppVersion>
  <Words>93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7:07:39Z</dcterms:created>
  <dc:creator>Иннуська)</dc:creator>
  <dc:description/>
  <dc:language>en-US</dc:language>
  <cp:lastModifiedBy>Наташа</cp:lastModifiedBy>
  <dcterms:modified xsi:type="dcterms:W3CDTF">2012-12-25T21:28:46Z</dcterms:modified>
  <cp:revision>45</cp:revision>
  <dc:subject/>
  <dc:title>Как встречают новый год в Испа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5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2</vt:r8>
  </property>
</Properties>
</file>