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878-27C2-439F-B3D8-E270DCBA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8EA-792E-4780-B09D-A48D505A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B1C-8D62-451D-B9F5-0FB5389D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503-7CAE-4B4E-A669-58530FC5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4E9B-3C4C-4159-BA60-D00BE18C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97D9-DE7A-473A-A523-25D739BB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76CB-AC98-4548-A9B1-2B567C01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7B93-354B-492B-8151-319FEB99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7E60-8A56-485B-8509-27B07CC2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AFDF-6A0E-4C52-95DB-A7FA643F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0E4D-CD80-4AE1-96F6-D65A0DA8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318-6D1C-432A-8F6F-0A474EA0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C464-0378-4573-B645-A7DC1531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3DAB-2236-4E94-AD1C-1740CE95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E1BF-4B03-4061-9F6A-46AE0F7D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163D-F939-4CD3-BF29-76D28037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4917-3C30-453F-BE47-9E207562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D19-D33B-4130-9F85-065884A1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DD7-3BB4-4987-ABD7-B6C0604C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A98-367D-4E3D-8FD2-227DDA6D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94A-3828-46DA-87C3-FEF65592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1CD-5BD8-478E-ABA6-EA213E05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A39-65A1-4721-8645-19A91F3C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D27-24A3-4F56-A912-91A2ABB2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DBC5-9AF5-4275-BC3F-DFD1C0AA4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5F10-A3EF-49C4-8696-184E175EB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4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«Образ Бабы Яги в русских сказках».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.)Яга-дарительниц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608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Финист-ясный сокол»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Яга-советчиц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114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219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Яга-повелительниц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545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Яга-охранительниц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5356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Яга-прародительниц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2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35280" y="1130400"/>
            <a:ext cx="52578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ключени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роцессе выполнения настоящей работы проведено исследование сказок,касающихся выбранной т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 время работы пришлось познакомиться с образом Бабы Яги настолько близко,что почти «побывали в гостях в тридевятом царстве»,«узнали в лицо» ее родных и близких,с уважением и почтением хочется относиться к их «семейным традициям».Все это позволило лучше понять и принять неоднозначный оъект изучения-Бабу Яг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ще многие поколения детишек вырастут на русских сказках,где Баба Яга зла и коварна,но при этом смешна,забавна,отзывчива на чужую беду.Сказки еще раз напоминают,что добро и зло в этой жизни живут рядом.но добро всегда побежд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заключение можно сказать,что поставленные в данной работе цель и задачи выполне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0"/>
            <a:ext cx="9478800" cy="82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 мир сказок мы вступаем в самом раннем детстве,как только начинаем говори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Русская волшебная сказка создала таинственный,замысловатый мир.Все в нем необыкновенно:топор сам рубит лес;печка разговаривает;яблоня укрывает своими ветвями детей,бегущих от посланных Ягой гусей-лебедей.А кто же такая Баба Яг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Слушая сказки,мы привыкли считать Бабу  Ягу необходимым персонаж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Цель моей работы-на примере сказок А.Н.Афанасьева проследить эволюцию образа Бабы Яги,определить её роль в жизни сказочного геро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Для достижения поставленной цели я решила следующие задач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айти истоки образа Бабы Яг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оказать сязь образа Яги с одноногими божествам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Установить генеалогию образ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роследить,как происходит приобщение сказочного героя к миру мертвы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Реконструировать обрядовый смысл и последовательность действий Бабы Яги по отношению к сказочному геро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Для решения поставленных задач в работе я использовала методы наблюдения,классификации,обобщ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Материалом исследования послужили тексты сказок А.Н.Афанасье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2400" y="320400"/>
            <a:ext cx="772452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Иван Быкович»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3480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Добрые молодцы входят в избушку-на печи лежит Баба Яга,костяная ног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Картинка 2 из 608"/>
          <p:cNvPicPr/>
          <p:nvPr/>
        </p:nvPicPr>
        <p:blipFill>
          <a:blip r:embed="rId1"/>
          <a:stretch/>
        </p:blipFill>
        <p:spPr>
          <a:xfrm>
            <a:off x="3419640" y="1125360"/>
            <a:ext cx="5724360" cy="573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Сказка о Василисе Премудрой»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лго ли,коротко ли-прилетает к избушке,входит-в избушку сидит Баба Яга,костяная нога,старая,беззуба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Картинка 20 из 1193"/>
          <p:cNvPicPr/>
          <p:nvPr/>
        </p:nvPicPr>
        <p:blipFill>
          <a:blip r:embed="rId1"/>
          <a:stretch/>
        </p:blipFill>
        <p:spPr>
          <a:xfrm>
            <a:off x="4356000" y="1150920"/>
            <a:ext cx="4788000" cy="570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Сказка о Василисе Премудрой»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шел в избушку Иван,гостиный сын,а там лежит Баба Яга,костяная но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4643280" cy="551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Финист-ясный сокол»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Гуси-лебеди»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бежала-стоит избушка на курьих ножках,стоит-поворачива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24944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новные образы Бабы Яги в волшебых сказка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)Яга-воительниц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413244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.)Яга-похитительниц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609800" cy="515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9:31:07Z</dcterms:created>
  <dc:creator>СОШ №8</dc:creator>
  <dc:description/>
  <dc:language>en-US</dc:language>
  <cp:lastModifiedBy>СОШ №8</cp:lastModifiedBy>
  <dcterms:modified xsi:type="dcterms:W3CDTF">2012-03-20T07:45:57Z</dcterms:modified>
  <cp:revision>11</cp:revision>
  <dc:subject/>
  <dc:title>«Образ Бабы Яги в русских сказках»</dc:title>
</cp:coreProperties>
</file>