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A85A3-B4A9-4FD2-A7F6-F81A42270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B9BD-BB75-4B7A-A9D3-E612B53166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66024-1414-4B25-9577-32FE7502CA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B3B-0568-466D-BDE7-C568DA5B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4A3-F04A-4587-8D60-2CA58EE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6B7-C100-4B2E-8E09-A779A5F3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4D4-DC25-42E9-AA9A-D8EFB67C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034-D6BB-474A-A222-2A5576F3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294-EA07-479F-B457-C93AB93B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11A-217E-408D-9ECC-9BD6CFBC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784-6B3C-4690-AD5D-28A793D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B39-657D-4E0E-9AB5-B45197DA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9C3-F9D7-48B6-91AD-47B2F1B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A1E-348F-4AC3-A687-E954B05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7A0-1B59-4DBA-A62B-ACD95340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2F13DF-93FC-4BFC-90DF-05A97B72D6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332000"/>
            <a:ext cx="3313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пект открытого урока по ознакомлению с окружающим миром. 1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835200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Зима – природа спи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Животные и растения зим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ясн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323640"/>
            <a:ext cx="98647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о природа – это не только растения, но и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ие виды животных мы зна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бята, а вот животных на нашей картине нет. Хотя картина-то волшебная, и они могут появиться здесь в любую минуту. Может быть вы подскажете – откуда? И какие животны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Белка….Она отличается от того, какой она была осень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 как вы думаете, в осенней шубке белка не замерзн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Значит что-то в ней должно измени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то ест белка зимой? Откуда берет 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Больше животных н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ой должен быть заяц зимой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Больше животных нет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спомните где мы нашли траву. «Поищите» там же животных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бята, что делают эти животные под снегом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 вы думаете, они спят всю зи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 им кушать не над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авайте подведем маленькие итоги: что делают большинство растений и животных зи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чему они спя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ля чего нужны сил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о ведь природа – не только растения и животные. Это еще и …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 человек готовится к зиме? Какие опасности подстерегают человека в зимнем лесу? Если мы отправляемся на прогулку в зимний лес, главное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 теперь, давайте повторим все то, о чем мы говорили на этом уро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ряд: - Вы должны дорисовать на рисунке одно любое растение и одно любое растение. Потом расскажете, как они проводят зи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и 2 ряд: - У вас на партах лежат две карточки: снежинка и кленовый лист. Я буду читать по одному предложению, вы будете определять, к какому времени года относится это высказывание. Если к осени, то вы поднимаете кленовый лист, если к зиме – то снежин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за покрыта желтыми лис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ведь спит в своей берло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ка питается своими припа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ди собирают гри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ва увяла, пожух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ва «сп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яц бегает в белой теплой шуб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тицы питаются ягодами ряб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ведь готовит берло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ревья без листьев набираются сил, «спя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 чем мы беседова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 думаю, что вы сегодня хорошо поработали и на нашей картине должно засиять солныш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977080" y="1042920"/>
            <a:ext cx="2904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ь представление об изменениях в жизни растений и животных с приходом з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ть зимние изменения в неживой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ть осенние изменения в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зимнее состояние лиственных и хвойных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представление о зимнем состоянии травянистых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жизнь различных животных зимой (таких как заяц, медведь, белка, еж, ящерицы, различные насеком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 уст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ление, внимание,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любовь к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 «Природа зимой» с секретами: трава под снегом, насекомые под корой, медведь и еж под снегом и т.д; раздаточный матери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новые листья и снежинки, зимний пейзаж для этапа закре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00" y="250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84000" y="183492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609480" indent="-6094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ас сегодня урок «Ознакомление с окружающим миром». А поговорим мы сегодня об одном времени года. Послушайте загадку и отгадайте, о каком времени сегодня пойдет 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водная бес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Учитель загадывает загадку о зи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ейчас, правда, не зима. Какое сейчас время 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о скоро наступит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может нам поговорить о зиме картина, которую я нарисовала. Нарисовала я пейзаж. Что такое пейзаж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60000" y="539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так, разобраться в том, как природа выглядит зимой, нам поможет зимний пейз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читель открывает доск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мотрите внимательно, я ни в чем не ошиблась, когда рисовала зимний пейз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ходу ответов учитель ведет беседу о зимних изменениях в неживой природ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жите, а солнце зимой выгляд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Если вы сегодня будете хорошо работать, то к концу урока на нашей картине появится солнышко. Ведь наша картина волшебная, в ней спрятано много различны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так, пейзаж – это картина, на которой нарисована при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мы имеем в виду, когда говорим «природ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Нов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32000"/>
            <a:ext cx="906948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мы поговорим о раст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тайте слова на дос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ие слова относятся к понятию «растения»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ие деревья вы видите на рисунке? Вспомните, как они выглядели осень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чему у клена опали листь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сли дети затрудняются, то учитель помогает с ответом, задает наводящие вопрос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равните, чем отличается ель от клена зи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 хвоинки у ели опадаю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Запомните, что хвоинки – это тоже листья, но они никогда не опад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ой кустарник есть на картине? Как он выглядит осень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то осталось на рябин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ля чего они остались и кому помогают зимой, мы поговорим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кажите, а травы есть на рисунк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 вот и первый сюрприз. Я «разрою» сугроб, а под снегом-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читель снимает «снег» с трав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бята, как вы думаете, ей не холодно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к бы ни было странно, но под снегом очень тепло, снег не пропускает холод и трава тоже «спит» под снег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Физ.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авайте отдохнем. Физ.минутка у нас тоже природная. Дует ветер с вы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утся травы и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-влево, влево-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онятся цветы и травы. (Наклоны в стороны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давайте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прыгаем на месте. (Прыж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е! Веселей! Вот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им все на шаг. (Ходьба на мест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и кончилась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ься нам пора. (Дети садятс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0:03:10Z</dcterms:created>
  <dc:creator/>
  <dc:description/>
  <dc:language>en-US</dc:language>
  <cp:lastModifiedBy>Admin</cp:lastModifiedBy>
  <dcterms:modified xsi:type="dcterms:W3CDTF">2013-08-22T04:21:41Z</dcterms:modified>
  <cp:revision>3</cp:revision>
  <dc:subject/>
  <dc:title>Слайд 1</dc:title>
</cp:coreProperties>
</file>