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7FB-E8DE-4368-81AE-473C9F96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A0F-B660-43FF-8441-38D6ECF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878E3-CFBA-4FB1-ADDA-E047269B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CFDC-CE5F-40E6-A415-CFF809B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FD325-9307-4BE2-B781-E38E40F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A92C-0B3B-44CE-A431-3D971FF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98DCE-3C82-41CD-B1F4-EE42F4D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D60A2-31A9-4B4F-92BC-338E26D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65246-FF66-462F-85F4-562C72F7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C9D7F-0022-4E7A-8D06-717ABE6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F1E61-6B50-4A66-827E-CAA148D5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D311D-EBB4-403D-ADBB-753BE18C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9DC-0F8A-4A50-84D9-F50757B3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36E34-2FC1-4FA0-80B5-ED0C0FDB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7B3DA-28C7-463F-8D9E-64E9CB4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6644B-7A13-464D-96C8-7669631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4AE85-7163-4056-BD4E-EBBAAE3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BC1A6-2FB3-4FD7-B03C-DC8D66F2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02A9-A8DB-4330-8B06-1535F46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012B-BB5B-46CC-8F1F-FDBAD64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ADEEA-E463-47A3-9EAC-CC9284E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4F4A2-E26E-477E-8859-1316BF1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1B55D-33B7-4CE6-978F-7607CFA6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0CC-EB63-4029-8B2E-B04FDB76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7AC26-3533-4A14-8007-4E9F538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EBAAD-B3F6-47EF-B4FB-DB3EC31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09EE7-BF12-41CB-AA98-E620ED4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8266-A34F-4A4D-AEB3-EF72E21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80248-B3F6-492E-B661-60AEDF2F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B1C8-CC96-42CF-BB7E-210A6EC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8C48F-6442-4500-8546-3E053B5A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942EF-5F8B-4755-87C7-CA8BBDF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BFB7-198C-4B78-A203-EE39D456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FE04-A6B3-4539-A813-690B879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5672-3484-47A5-8E3A-A0709776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00C5C-3068-4559-9C80-E85B901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1A62D-07D2-4571-8D5E-C469B0F1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320B-955A-4A8E-ADCB-DAA5560B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E5D7B-7FD4-49E8-A313-A0C8A4A4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84FFD-5B8D-48E7-9E49-DFA7878C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C2D80-3515-4DE9-BA0C-70E5C37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03BEB-AC9F-4A2A-B943-5F414476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78BE2-124F-4F57-851C-CC26333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EAC0A-CD13-469D-A865-584DCED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DAA50-B40B-4057-A50C-985D606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A14-E21E-40FE-AEEA-1B15948A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677ED-6B64-41BB-9733-BC3DE5B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6966F-B070-477F-8E95-55D7ED1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8B28-A35E-43E3-9CB0-60BE4AE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58BA7-1A86-4741-B5B2-9EADA02F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DDC28-4A1F-442A-B73E-C90955D5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16C-17FB-4D28-9ED9-AEBBBF2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2B7-39D6-4518-9DAC-738D2DAA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237-F7D6-4715-9388-0B6BB00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4EAD-AB57-4528-BFF0-E013F619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0D38-47D0-40E7-BECA-340DE0C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0C8-67FD-4024-9391-7DC8B2A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E7D-A78E-41A2-AC75-54B6AB57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C7A-F9C5-478B-8EC6-18F0EA2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391-101E-431B-86FD-0566430B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0B7-202F-4525-8E36-87A2BFB8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3EAA-890F-42CF-A9FF-6D34297C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D95C-B49F-4E8A-A766-EEDDE630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2B6C-D61B-4660-8C67-9CE5A11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C1DE-AB06-4947-81DF-113DD748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BF23-F93F-4FDC-90CA-509286C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E8B9-01DD-4ABB-9CB8-A5680D0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58D-2F33-496C-9AAA-907E40E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8221-D7BF-4CEF-A4B1-5383791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7CBC-A09B-4591-B178-2BDE65D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6447-F8AB-4E52-8B49-2D1C3E3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A45A-E303-42F0-98F7-7487BF4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A4BE-A7EC-43AB-8375-D188FD2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B5F7-8B79-479F-A74F-E613B73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7867-B0D7-4397-BB96-A902BB5A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BCDE-4C84-43AD-97BD-400CCF3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78AF-12B6-40BD-BE38-E4757FF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D894-42CB-4FC6-A6E0-43DF10A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6D1-E073-446D-B051-F95CA6E1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DFA3-B025-4F23-AE60-C46F530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2DF2-4BF6-43D9-BC39-7E125FB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8058-43F9-453E-8E3D-3D6979C2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8C8F-9E69-48AF-85B2-A04F631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2226-6DB3-42EF-9AC7-320273A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BD2D-4ED8-4BCA-B38D-2F0D82A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1C32-D759-4683-B01B-E1B3E5A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D209-F2A1-4ADC-A205-2EE29D1A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FC48-07DD-497A-8844-50606CF4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4434-CAAB-4C0B-A1DF-10B26AEB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47D-3CBF-446B-B9C5-A58C3B6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E2CF-6818-4113-A821-B6BBFDB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E976-A2AC-4960-9EF0-EB843671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25EED-94B8-4B54-BBCE-205B162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209B-234C-47F2-AE33-E7407FAB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741D-9025-4CD1-8564-DC1F79F0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6794-CEDB-4AB4-8023-B7205D3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F209-0945-4044-8706-2FAA5FD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548D-7A8B-4D9C-B128-8435FAA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4833-6D72-4C11-9DFE-6E622986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FF00-84D4-4D07-B14B-B0DC4156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A92-313F-4CD1-8B80-B3772921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6C65-8AD4-479D-B1D3-E83C5162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8E47-50FF-4264-B8D0-27ED238A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DA21-54B0-49DD-B50A-CC9A3623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39407-AB40-40DA-9A10-DE93AA4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0741-E53C-4E93-A669-D9BF964C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0E991-8309-4E24-99DC-BEBD88A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7CA5-90DA-4C47-871D-A66CE487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0354-E494-4F17-B7DD-F4E833B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0EBD-2362-469A-8C6E-9BC208A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FFE9-0A37-4FF6-8EB3-820B43AF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075-9975-49D4-84BF-711B78B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E0DB-2E84-4517-9266-549787D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E698-96A5-40B1-90F4-EEC1E458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6A28-1612-4212-B627-EBD10A14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AD81-5EED-4E69-A68F-F1970B9C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D75C-F7E2-4622-8B5D-C41BD37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19E51-B5BB-4508-9825-75356AC8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D76E-C820-46DD-89C4-488010C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B771-741C-4A5C-8D80-22B1806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D783-85FE-48BC-891C-0AE2015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A7EF-752C-4015-A36F-7C92EE4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DA6-4052-4AD4-9E51-79459C1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B1BE3-0E2C-4040-9F1B-4866E01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EB81-3D66-4A02-9162-2092336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7CC9F-C21E-444E-B215-8E108F19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0A6B6-54EC-4783-ABCC-647812E8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CD0C-64DC-444A-A7FD-7F2246A7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423C-7271-483D-8E43-12BD2E2F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DC670-D38C-414C-9077-2ED5C585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25F7-24BB-45E0-B032-5A8DAB0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9120-145E-463A-879D-CE9B072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108C-CF15-4F3D-B325-1C4B7E8C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764-D73F-455C-9F83-EB4F8BE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735B7-7469-4685-9FD7-F03D7BA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447F6-F662-440E-863E-45ECC5A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C797-F321-4209-B2D9-937B46D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1DBB-EFF8-454B-B6A3-B648F42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019FB-BE38-423A-8B76-87E60B81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FA10D-42A2-4D1D-A26B-E9ADE121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A8D0-B299-49EF-B08F-647A2294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C660-1595-4CA9-9516-571CCD5E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94948-AB55-4061-892E-3686400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7DAEE-3E74-45FB-82B6-DD6E4C3A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619C-4862-48A6-B181-321FD8B3C7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642-D865-4956-84A3-2DFE673B86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1E0D-F67B-492A-A412-0673CD561D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760-3FE3-41AA-B349-0A188AEB9B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E7D-641D-4258-999E-4B5FC67BAD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EDF-7368-4E1F-9F64-7B77C413DB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8575-70E4-46AA-B27F-F6D928286D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A8B7-C310-43B3-B63C-8F27A81B50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E39B-74AD-45A4-8AB7-726E4BB601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DAED-9E7B-4D79-85BB-FAA0F34ABD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09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2404-4253-497C-A31E-839EA0023C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5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1354-047C-4D70-A77F-2581DFFDDD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Прямоугольник 3" descr=""/>
          <p:cNvPicPr/>
          <p:nvPr/>
        </p:nvPicPr>
        <p:blipFill>
          <a:blip r:embed="rId1"/>
          <a:stretch/>
        </p:blipFill>
        <p:spPr>
          <a:xfrm>
            <a:off x="1079640" y="835200"/>
            <a:ext cx="7199280" cy="182232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4"/>
          <p:cNvSpPr/>
          <p:nvPr/>
        </p:nvSpPr>
        <p:spPr>
          <a:xfrm>
            <a:off x="4284720" y="4076640"/>
            <a:ext cx="496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инурова Гелия Салихзян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С(К)НШ-ДС  V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. Набережные Челны,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рямоугольник 1"/>
          <p:cNvSpPr/>
          <p:nvPr/>
        </p:nvSpPr>
        <p:spPr>
          <a:xfrm>
            <a:off x="395280" y="4859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Весна пришла - всех птичек соб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(пальцы рук сжаты в кулак. На каждое название птицы разжимать по одному пальчику сначала правой, затем левой ру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C:\Users\User\Desktop\IMG_7840.JPG"/>
          <p:cNvPicPr/>
          <p:nvPr/>
        </p:nvPicPr>
        <p:blipFill>
          <a:blip r:embed="rId1"/>
          <a:stretch/>
        </p:blipFill>
        <p:spPr>
          <a:xfrm>
            <a:off x="2232000" y="1440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C:\Users\User\Desktop\IMG_7841.JPG"/>
          <p:cNvPicPr/>
          <p:nvPr/>
        </p:nvPicPr>
        <p:blipFill>
          <a:blip r:embed="rId2"/>
          <a:stretch/>
        </p:blipFill>
        <p:spPr>
          <a:xfrm>
            <a:off x="226836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286000" y="52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а птичка - свирис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2300400" y="5310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а птичка - корос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C:\Users\User\Desktop\IMG_7842.JPG"/>
          <p:cNvPicPr/>
          <p:nvPr/>
        </p:nvPicPr>
        <p:blipFill>
          <a:blip r:embed="rId3"/>
          <a:stretch/>
        </p:blipFill>
        <p:spPr>
          <a:xfrm>
            <a:off x="2297160" y="1434960"/>
            <a:ext cx="4578480" cy="3434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C:\Users\User\Desktop\IMG_7843.JPG"/>
          <p:cNvPicPr/>
          <p:nvPr/>
        </p:nvPicPr>
        <p:blipFill>
          <a:blip r:embed="rId4"/>
          <a:stretch/>
        </p:blipFill>
        <p:spPr>
          <a:xfrm>
            <a:off x="231444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9"/>
          <p:cNvSpPr/>
          <p:nvPr/>
        </p:nvSpPr>
        <p:spPr>
          <a:xfrm>
            <a:off x="234648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а птичка - вороб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C:\Users\User\Desktop\IMG_7844.JPG"/>
          <p:cNvPicPr/>
          <p:nvPr/>
        </p:nvPicPr>
        <p:blipFill>
          <a:blip r:embed="rId5"/>
          <a:stretch/>
        </p:blipFill>
        <p:spPr>
          <a:xfrm>
            <a:off x="227664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1"/>
          <p:cNvSpPr/>
          <p:nvPr/>
        </p:nvSpPr>
        <p:spPr>
          <a:xfrm>
            <a:off x="226836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а - птичка соло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C:\Users\User\Desktop\IMG_7850.JPG"/>
          <p:cNvPicPr/>
          <p:nvPr/>
        </p:nvPicPr>
        <p:blipFill>
          <a:blip r:embed="rId6"/>
          <a:stretch/>
        </p:blipFill>
        <p:spPr>
          <a:xfrm>
            <a:off x="228600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3"/>
          <p:cNvSpPr/>
          <p:nvPr/>
        </p:nvSpPr>
        <p:spPr>
          <a:xfrm>
            <a:off x="244008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Прилетела сквор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Серенькое перыш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C:\Users\User\Desktop\IMG_7845.JPG"/>
          <p:cNvPicPr/>
          <p:nvPr/>
        </p:nvPicPr>
        <p:blipFill>
          <a:blip r:embed="rId7"/>
          <a:stretch/>
        </p:blipFill>
        <p:spPr>
          <a:xfrm>
            <a:off x="2243160" y="1488960"/>
            <a:ext cx="4554360" cy="341496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15"/>
          <p:cNvSpPr/>
          <p:nvPr/>
        </p:nvSpPr>
        <p:spPr>
          <a:xfrm>
            <a:off x="224316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Прилетела трясогу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Ох, и знатная верт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Users\User\Desktop\IMG_7846.JPG"/>
          <p:cNvPicPr/>
          <p:nvPr/>
        </p:nvPicPr>
        <p:blipFill>
          <a:blip r:embed="rId8"/>
          <a:stretch/>
        </p:blipFill>
        <p:spPr>
          <a:xfrm>
            <a:off x="229716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17"/>
          <p:cNvSpPr/>
          <p:nvPr/>
        </p:nvSpPr>
        <p:spPr>
          <a:xfrm>
            <a:off x="224964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о - дят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C:\Users\User\Desktop\IMG_7847.JPG"/>
          <p:cNvPicPr/>
          <p:nvPr/>
        </p:nvPicPr>
        <p:blipFill>
          <a:blip r:embed="rId9"/>
          <a:stretch/>
        </p:blipFill>
        <p:spPr>
          <a:xfrm>
            <a:off x="2266920" y="141300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19"/>
          <p:cNvSpPr/>
          <p:nvPr/>
        </p:nvSpPr>
        <p:spPr>
          <a:xfrm>
            <a:off x="3800160" y="530064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о - стри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C:\Users\User\Desktop\IMG_7848.JPG"/>
          <p:cNvPicPr/>
          <p:nvPr/>
        </p:nvPicPr>
        <p:blipFill>
          <a:blip r:embed="rId10"/>
          <a:stretch/>
        </p:blipFill>
        <p:spPr>
          <a:xfrm>
            <a:off x="2300400" y="1471680"/>
            <a:ext cx="4530600" cy="339732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21"/>
          <p:cNvSpPr/>
          <p:nvPr/>
        </p:nvSpPr>
        <p:spPr>
          <a:xfrm>
            <a:off x="2300400" y="52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Это - развесёлый чи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C:\Users\User\Desktop\IMG_7849.JPG"/>
          <p:cNvPicPr/>
          <p:nvPr/>
        </p:nvPicPr>
        <p:blipFill>
          <a:blip r:embed="rId11"/>
          <a:stretch/>
        </p:blipFill>
        <p:spPr>
          <a:xfrm>
            <a:off x="228600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23"/>
          <p:cNvSpPr/>
          <p:nvPr/>
        </p:nvSpPr>
        <p:spPr>
          <a:xfrm>
            <a:off x="2257560" y="522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Ну, а это злой орла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C:\Users\User\Desktop\IMG_7840.JPG"/>
          <p:cNvPicPr/>
          <p:nvPr/>
        </p:nvPicPr>
        <p:blipFill>
          <a:blip r:embed="rId12"/>
          <a:stretch/>
        </p:blipFill>
        <p:spPr>
          <a:xfrm>
            <a:off x="2286000" y="1440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25"/>
          <p:cNvSpPr/>
          <p:nvPr/>
        </p:nvSpPr>
        <p:spPr>
          <a:xfrm>
            <a:off x="229536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Птички, птички по дом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(Сжать  пальцы обеих рук в кула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37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58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79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100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400"/>
                            </p:stCondLst>
                            <p:childTnLst>
                              <p:par>
                                <p:cTn id="121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142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400"/>
                            </p:stCondLst>
                            <p:childTnLst>
                              <p:par>
                                <p:cTn id="163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400"/>
                            </p:stCondLst>
                            <p:childTnLst>
                              <p:par>
                                <p:cTn id="184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400"/>
                            </p:stCondLst>
                            <p:childTnLst>
                              <p:par>
                                <p:cTn id="205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400"/>
                            </p:stCondLst>
                            <p:childTnLst>
                              <p:par>
                                <p:cTn id="226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7:43:32Z</dcterms:created>
  <dc:creator>User</dc:creator>
  <dc:description/>
  <dc:language>en-US</dc:language>
  <cp:lastModifiedBy>User</cp:lastModifiedBy>
  <dcterms:modified xsi:type="dcterms:W3CDTF">2013-09-28T09:35:43Z</dcterms:modified>
  <cp:revision>109</cp:revision>
  <dc:subject/>
  <dc:title>Презентация PowerPoint</dc:title>
</cp:coreProperties>
</file>