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47BF-4881-464E-9B9E-909D7AC0C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F19F-5018-4E14-998F-A26A0725D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1FDD-D13A-425E-BC99-57C6C7CC8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575E-A8E9-49AF-9276-018068789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642E5-6CC9-4E35-A8F6-058C83765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1AAB0-F49D-4BCA-9B8E-7848EAB00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DB9D9-380B-40DC-85B3-EA3F14B4B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19B3B-037D-4A52-94FC-5A49C45D7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B4DCE-FE80-4B77-9CB9-6D36D4C9B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EBD56-7E4B-4B6A-83A9-1ABDE7FC1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644B9-0978-4E79-A3A7-77956E17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8770-E47A-4FEC-9C65-A74D5BD6D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ECD2B-69B6-4CE2-9970-6A1BB0DBC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22225-115B-40F3-BF81-A31D09615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22E93-21F7-427D-BC84-9A4AFC7FD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02B28-27B1-463C-B132-1BEDC0D93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B872B-EFC6-4E9C-8E2A-2D0DD0C35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5066-E958-4F27-8A41-BFA4CB940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D024-EBB7-4573-A4FE-05020CBB8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F9B6-9911-4276-817B-6EE57EBEF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AF0C-0C1A-49DA-87E0-E47D7A2B4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DE54-82E9-4391-8212-468C7B48C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9742-53DF-4A33-8C19-62DB2E74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368B-F335-4D7C-BD44-A188F59ED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490DA-65AC-4258-96E3-EF5A3297913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E7B30-9A11-4531-B284-5FE7D4DFD21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7543800" cy="19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0066"/>
                </a:solidFill>
                <a:latin typeface="Arial"/>
              </a:rPr>
              <a:t>Положительная  роль тепловых  машин.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716360" y="3500280"/>
            <a:ext cx="540072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12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боту  выполни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еница  8 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У «СОШ с. Клинцовка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угачевского района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ратовской област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олотова Оль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Тепловые двигатели играют  положительную роль в жизни и развитии человечества.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ru-RU" sz="3000" spc="-1" strike="noStrike">
                <a:solidFill>
                  <a:srgbClr val="330066"/>
                </a:solidFill>
                <a:latin typeface="Arial"/>
              </a:rPr>
              <a:t>Применяются 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0066"/>
                </a:solidFill>
                <a:latin typeface="Arial"/>
              </a:rPr>
              <a:t>     </a:t>
            </a:r>
            <a:r>
              <a:rPr b="1" i="1" lang="ru-RU" sz="3000" spc="-1" strike="noStrike">
                <a:solidFill>
                  <a:srgbClr val="330066"/>
                </a:solidFill>
                <a:latin typeface="Arial"/>
              </a:rPr>
              <a:t>в транспорте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0066"/>
                </a:solidFill>
                <a:latin typeface="Arial"/>
              </a:rPr>
              <a:t>     </a:t>
            </a:r>
            <a:r>
              <a:rPr b="1" i="1" lang="ru-RU" sz="3000" spc="-1" strike="noStrike">
                <a:solidFill>
                  <a:srgbClr val="330066"/>
                </a:solidFill>
                <a:latin typeface="Arial"/>
              </a:rPr>
              <a:t>в торговле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0066"/>
                </a:solidFill>
                <a:latin typeface="Arial"/>
              </a:rPr>
              <a:t>     </a:t>
            </a:r>
            <a:r>
              <a:rPr b="1" i="1" lang="ru-RU" sz="3000" spc="-1" strike="noStrike">
                <a:solidFill>
                  <a:srgbClr val="330066"/>
                </a:solidFill>
                <a:latin typeface="Arial"/>
              </a:rPr>
              <a:t>в выработки  электроэнергии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0066"/>
                </a:solidFill>
                <a:latin typeface="Arial"/>
              </a:rPr>
              <a:t>     </a:t>
            </a:r>
            <a:r>
              <a:rPr b="1" i="1" lang="ru-RU" sz="3000" spc="-1" strike="noStrike">
                <a:solidFill>
                  <a:srgbClr val="330066"/>
                </a:solidFill>
                <a:latin typeface="Arial"/>
              </a:rPr>
              <a:t>в исследовании космоса и плане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66"/>
                </a:solidFill>
                <a:latin typeface="Arial"/>
              </a:rPr>
              <a:t>Использованные  ресурсы: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лексеева Л.В. Физика - юным  Текст М.:Просвещение,198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ольшая  детская энциклопедия  Вселенная .:Русское энциклопедическое  товарищество,1999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абардин О.Ф.  Внеурочная  работа  по физике      Текст  .М.: Просвещение.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Цель исследования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solidFill>
            <a:srgbClr val="d8d8ec"/>
          </a:solidFill>
          <a:ln w="9360">
            <a:solidFill>
              <a:srgbClr val="80808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Показать,  какое  применение        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нашли тепловые двигатели в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жизнедеятельности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человека.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250920" y="981000"/>
            <a:ext cx="40384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громное  значение  имели паровые двигатели до середины ХХ века, так как были основными на железной дороге. Сегодня там большое  распространение получили дизельные двигатели, то есть ДВС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6" descr="сканирование0017"/>
          <p:cNvPicPr/>
          <p:nvPr/>
        </p:nvPicPr>
        <p:blipFill>
          <a:blip r:embed="rId1"/>
          <a:stretch/>
        </p:blipFill>
        <p:spPr>
          <a:xfrm>
            <a:off x="4643280" y="3141720"/>
            <a:ext cx="4038840" cy="21193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Organization Chart 6"/>
          <p:cNvGrpSpPr/>
          <p:nvPr/>
        </p:nvGrpSpPr>
        <p:grpSpPr>
          <a:xfrm>
            <a:off x="144360" y="0"/>
            <a:ext cx="8998920" cy="6440400"/>
            <a:chOff x="144360" y="0"/>
            <a:chExt cx="8998920" cy="6440400"/>
          </a:xfrm>
        </p:grpSpPr>
        <p:cxnSp>
          <p:nvCxnSpPr>
            <p:cNvPr id="156" name="_s1028"/>
            <p:cNvCxnSpPr>
              <a:stCxn id="157" idx="0"/>
              <a:endCxn id="158" idx="2"/>
            </p:cNvCxnSpPr>
            <p:nvPr/>
          </p:nvCxnSpPr>
          <p:spPr>
            <a:xfrm flipV="1" rot="16200000">
              <a:off x="5574240" y="1644840"/>
              <a:ext cx="1288800" cy="3150360"/>
            </a:xfrm>
            <a:prstGeom prst="bentConnector3">
              <a:avLst>
                <a:gd name="adj1" fmla="val 1299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9" name="_s1029"/>
            <p:cNvCxnSpPr>
              <a:stCxn id="160" idx="0"/>
              <a:endCxn id="158" idx="2"/>
            </p:cNvCxnSpPr>
            <p:nvPr/>
          </p:nvCxnSpPr>
          <p:spPr>
            <a:xfrm flipV="1">
              <a:off x="4643640" y="2575800"/>
              <a:ext cx="3960" cy="1288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1" name="_s1030"/>
            <p:cNvCxnSpPr>
              <a:stCxn id="162" idx="0"/>
              <a:endCxn id="158" idx="2"/>
            </p:cNvCxnSpPr>
            <p:nvPr/>
          </p:nvCxnSpPr>
          <p:spPr>
            <a:xfrm flipH="1" flipV="1" rot="5400000">
              <a:off x="2424240" y="1644840"/>
              <a:ext cx="1288800" cy="3150360"/>
            </a:xfrm>
            <a:prstGeom prst="bentConnector3">
              <a:avLst>
                <a:gd name="adj1" fmla="val 1299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8" name="_s1031"/>
            <p:cNvSpPr/>
            <p:nvPr/>
          </p:nvSpPr>
          <p:spPr>
            <a:xfrm>
              <a:off x="3294000" y="0"/>
              <a:ext cx="2699640" cy="257616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Паровые турбины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используют: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1032"/>
            <p:cNvSpPr/>
            <p:nvPr/>
          </p:nvSpPr>
          <p:spPr>
            <a:xfrm>
              <a:off x="144360" y="3864240"/>
              <a:ext cx="2699640" cy="257616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На  водном 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транспорте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1033"/>
            <p:cNvSpPr/>
            <p:nvPr/>
          </p:nvSpPr>
          <p:spPr>
            <a:xfrm>
              <a:off x="3294000" y="3864240"/>
              <a:ext cx="2699640" cy="257616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На  АЭС,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( для получения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пара высокой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температуры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используют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энергию атомных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ядер).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_s1034"/>
            <p:cNvSpPr/>
            <p:nvPr/>
          </p:nvSpPr>
          <p:spPr>
            <a:xfrm>
              <a:off x="6443640" y="3864240"/>
              <a:ext cx="2699640" cy="257616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На  ТЭЦ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(вырабатывается 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более80%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энергии для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страны).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5280" y="1628280"/>
            <a:ext cx="783288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0066"/>
                </a:solidFill>
                <a:latin typeface="Arial"/>
              </a:rPr>
              <a:t>С момента  изобретения, тепловые двигатели  играют большую  роль в  жизни человека.</a:t>
            </a:r>
            <a:br>
              <a:rPr sz="2400"/>
            </a:br>
            <a:r>
              <a:rPr b="1" i="1" lang="ru-RU" sz="2400" spc="-1" strike="noStrike">
                <a:solidFill>
                  <a:srgbClr val="330066"/>
                </a:solidFill>
                <a:latin typeface="Arial"/>
              </a:rPr>
              <a:t>Двигатели  внутреннего  сгорания  используют в автомобильном  транспорте: </a:t>
            </a:r>
            <a:br>
              <a:rPr sz="2400"/>
            </a:b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79280" y="285228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330066"/>
                </a:solidFill>
                <a:latin typeface="Arial"/>
              </a:rPr>
              <a:t>На легковых и грузовых автомашинах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330066"/>
                </a:solidFill>
                <a:latin typeface="Arial"/>
              </a:rPr>
              <a:t>На мотоциклах,  мопедах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330066"/>
                </a:solidFill>
                <a:latin typeface="Arial"/>
              </a:rPr>
              <a:t>На железнодорожном  транспорте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330066"/>
                </a:solidFill>
                <a:latin typeface="Arial"/>
              </a:rPr>
              <a:t>В легкой  авиации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330066"/>
                </a:solidFill>
                <a:latin typeface="Arial"/>
              </a:rPr>
              <a:t>В бензопилах,  газонокосилках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330066"/>
                </a:solidFill>
                <a:latin typeface="Arial"/>
              </a:rPr>
              <a:t>В сельскохозяйственных  машина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57200" y="1719360"/>
            <a:ext cx="4038480" cy="441144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330066"/>
                </a:solidFill>
                <a:latin typeface="Arial"/>
              </a:rPr>
              <a:t>Двигатель внутренне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0066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330066"/>
                </a:solidFill>
                <a:latin typeface="Arial"/>
              </a:rPr>
              <a:t>сгорания хорош сво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0066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330066"/>
                </a:solidFill>
                <a:latin typeface="Arial"/>
              </a:rPr>
              <a:t>сравнительно высокой мощностью  при относительно  небольших  размерах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7" descr="сканирование0027"/>
          <p:cNvPicPr/>
          <p:nvPr/>
        </p:nvPicPr>
        <p:blipFill>
          <a:blip r:embed="rId2"/>
          <a:stretch/>
        </p:blipFill>
        <p:spPr>
          <a:xfrm>
            <a:off x="611280" y="1700280"/>
            <a:ext cx="3859200" cy="4549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8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Реактивный  двигатель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еимуществом реактивного  двигателя  перед паровым и двигателем  внутреннего сгорания является высокий КПД, до 60%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еактивный  двигатель  необходимо  устанавливать на авиационном и космическом  транспорт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8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На  легких самолетах  используют поршневые  двигатели, а на больших  лайнерах устанавливают реактивные  двигатели</a:t>
            </a: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.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330066"/>
                </a:solidFill>
                <a:latin typeface="Arial"/>
              </a:rPr>
              <a:t>Если  реактивный  двигатель заменить поршневым такой же мощности, то из-за громоздкости и тяжести последнего его будет  невозможно установить на самоле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7" descr="сканирование0028"/>
          <p:cNvPicPr/>
          <p:nvPr/>
        </p:nvPicPr>
        <p:blipFill>
          <a:blip r:embed="rId1"/>
          <a:stretch/>
        </p:blipFill>
        <p:spPr>
          <a:xfrm rot="21409200">
            <a:off x="4643280" y="2349000"/>
            <a:ext cx="4038840" cy="36734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Для  космического транспорта также используют реактивные двигатели.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306828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Они позволяют развить высокую скорость, чтобы многотонный космический корабль  смог  преодолеть гравитационные силы Земли и выйти на около земную  орбиту</a:t>
            </a:r>
            <a:r>
              <a:rPr b="0" lang="ru-RU" sz="3000" spc="-1" strike="noStrike">
                <a:solidFill>
                  <a:srgbClr val="330066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18:53:38Z</dcterms:created>
  <dc:creator>я</dc:creator>
  <dc:description/>
  <dc:language>en-US</dc:language>
  <cp:lastModifiedBy>User</cp:lastModifiedBy>
  <dcterms:modified xsi:type="dcterms:W3CDTF">2013-09-26T18:06:25Z</dcterms:modified>
  <cp:revision>9</cp:revision>
  <dc:subject/>
  <dc:title>Положительная  роль тепловых  машин.</dc:title>
</cp:coreProperties>
</file>