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6D44-3561-48B7-AE3B-E70C9372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895F-4CD1-4F1A-A122-2190262E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0AA-D514-459E-AF07-0283F121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368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576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368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576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901C-90D0-411E-86DC-DC3CDE54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2E16-99CF-487C-A9A6-7E06047F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B4A3-995B-4F0F-B8E7-01B09A76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9878-62F0-4936-9584-CFAC066D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6AFE-232F-471C-AB49-EFBA90CB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9E70-C43E-46B2-A298-FC109896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53352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B705-D996-4F79-940E-BAE576F4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345E-827E-421C-AADB-0D7E568E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726A-CE5A-4580-BD11-EEBDB5F3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C8F7-273F-4017-81A3-EB3CF10B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7435-221D-46D0-8FD6-E3E38931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6702-7074-4B72-8011-1C6A1AC1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8C04-C04F-4580-81AB-AED232B1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7368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576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7368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576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70AF-D2CA-43E3-91AE-EAA25157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0A1A-3595-4EC6-A6CF-1D6F034E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39A8-FB0B-4484-B78C-706B35AC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ACBF-82BD-4489-80AF-3ABB03A2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53352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4B7-DE20-49D5-8EEF-4992060B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4B7-446B-42AB-99D8-B7EB943E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CC8-CA9F-4D68-AAA2-F9ADEDC0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ECF-04FF-4C5F-8FAC-FF525CED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Eras Demi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Eras Demi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Eras Demi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68B2-24FC-4050-AF19-93C8B38AD13E}" type="slidenum">
              <a:rPr b="0" lang="ru-RU" sz="1000" spc="-1" strike="noStrike">
                <a:solidFill>
                  <a:srgbClr val="000000"/>
                </a:solidFill>
                <a:latin typeface="Eras Demi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Eras Demi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Eras Demi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Eras Demi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C1CB-6167-4CEF-B1D0-5588CB9FC1FB}" type="slidenum">
              <a:rPr b="0" lang="ru-RU" sz="1000" spc="-1" strike="noStrike">
                <a:solidFill>
                  <a:srgbClr val="000000"/>
                </a:solidFill>
                <a:latin typeface="Eras Demi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3300"/>
                </a:solidFill>
                <a:latin typeface="Times New Roman"/>
              </a:rPr>
              <a:t>Имя прилагательное</a:t>
            </a:r>
            <a:endParaRPr b="1" i="1" lang="en-US" sz="6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520" y="4266720"/>
            <a:ext cx="754380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Продолжите предложения:</a:t>
            </a:r>
            <a:endParaRPr b="1" i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Имя прилагательное связано с существительным, к  которому «прилагается»  не только  по значению, но и по форме: согласуется с ним в ________ и ___________. Прилагательное изменяется не только по _________ и _________, но и по _____________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Чем интересно слово </a:t>
            </a:r>
            <a:r>
              <a:rPr b="1" i="1" lang="en-US" sz="3200" spc="-1" strike="noStrike">
                <a:solidFill>
                  <a:srgbClr val="663300"/>
                </a:solidFill>
                <a:latin typeface="Times New Roman"/>
              </a:rPr>
              <a:t>прилагательное 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для орфографического разбора?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56000" y="914400"/>
            <a:ext cx="6511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3300"/>
                </a:solidFill>
                <a:uFillTx/>
                <a:latin typeface="Times New Roman"/>
              </a:rPr>
              <a:t>Так зачем же нужны прилагательные? Нельзя ли совсем обойтись без них? Приведите свои примеры.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2232000" cy="2952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770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Times New Roman"/>
              </a:rPr>
              <a:t>Зинаида Гиппиус</a:t>
            </a: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32000" y="914400"/>
            <a:ext cx="593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Страшное, грубое, липкое, грязное,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Жестко тупое, всегда безобразное,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Медленно рвущее, мелко-нечестное,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Скользкое, стыдное, низкое, тесное,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Явно-довольное, тайно-блудливое,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Плоско-смешное и тошно-трусливое,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Вязко, болотно и тинно застойное,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Жизни и смерти равно недостойное,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Рабское, хамское, гнойное, черное,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Изредка серое, в сером упорное,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Вечно лежачее, дьявольски косное,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Глупое, сохлое, сонное, злостное,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Трупно-холодное, жалко-ничтожное,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Непереносное, ложное, ложное!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Но жалоб не надо. Что радости в плаче?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Мы знаем, мы знаем: все будет иначе.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Times New Roman"/>
              </a:rPr>
              <a:t>1904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2357280" cy="208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Ужасно прекрасное, 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Жгучее, нежное,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Легкое, яркое и безмятежное,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Странно волнующее,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Небезопасное,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Острое, колкое, Страшно ужасное.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Страстное, пылкое,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Очень тяжёлое...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Делает больно...Довольно весёлое...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Серое, блёклое,очень улыбчивое...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Очень загадочное и необычное.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Жалкое, слёзное, злое, жестокое,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Счастливое, грустное и одинокое...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Что же за чувство сжигает нас вновь?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Легко догадаться-это ЛЮБОВЬ!!!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Times New Roman"/>
              </a:rPr>
              <a:t>Различие полных и кратких прилагательных по значению</a:t>
            </a: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4320" y="5373720"/>
            <a:ext cx="859932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Карлсон болен (гриппом)                      Он больной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4321080" cy="3743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003640" y="1341360"/>
            <a:ext cx="3889440" cy="3743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Ударение в кратких прилагательных</a:t>
            </a:r>
            <a:br>
              <a:rPr sz="2800"/>
            </a:br>
            <a:endParaRPr b="1" i="1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03280" y="1052640"/>
            <a:ext cx="7664400" cy="53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Многие краткие( без суффиксов или –к-, -л-, -н-, -ок-) прилагательные имеют ударение на первом слоге основы во всех формах, кроме форм женского рода, в которых ударение падает на окончание, например: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близок, близка, близко, близки; весел, весела, весело, веселы, вреден, вредна, вредно, вредны; светел, светла, светло, светлы….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Поэтому неправильно следует считать часто встречающееся произношение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правы, глухи, глупы бледны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 и т.п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Домашнее задание:</a:t>
            </a:r>
            <a:endParaRPr b="1" i="1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1125360"/>
            <a:ext cx="769608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3300"/>
                </a:solidFill>
                <a:uFillTx/>
                <a:latin typeface="Times New Roman"/>
              </a:rPr>
              <a:t>Поработайте со словарем: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Выпишите 10 прилагательных в краткой форме, расставляя ударения. Какими словарями можно воспользоваться?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987280" y="2276640"/>
            <a:ext cx="608004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3300"/>
                </a:solidFill>
                <a:uFillTx/>
                <a:latin typeface="Times New Roman"/>
              </a:rPr>
              <a:t>Почему краткие имена прилагательные не склоняются?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2546280" cy="316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Переход прилагательных в существительные</a:t>
            </a:r>
            <a:endParaRPr b="1" i="1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92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Молодой </a:t>
            </a:r>
            <a:r>
              <a:rPr b="1" lang="en-US" sz="3200" spc="-1" strike="noStrike" u="sng">
                <a:solidFill>
                  <a:srgbClr val="663300"/>
                </a:solidFill>
                <a:uFillTx/>
                <a:latin typeface="Times New Roman"/>
              </a:rPr>
              <a:t>рабочий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пришел на завод недавно. Его </a:t>
            </a:r>
            <a:r>
              <a:rPr b="1" lang="en-US" sz="3200" spc="-1" strike="noStrike" u="sng">
                <a:solidFill>
                  <a:srgbClr val="663300"/>
                </a:solidFill>
                <a:uFillTx/>
                <a:latin typeface="Times New Roman"/>
              </a:rPr>
              <a:t>рабочая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одежда еще совсем новая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1500120" y="1643040"/>
            <a:ext cx="7072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чер. Синь становится всё незаметнее в зареве заката. Дымкой сгущаются по горизонту сумерки. На отмелях голосят хоры, слышатся всплески рыб, крики чаек. На отмель опустилась стая ласточек. Каждая в сюртуке с манишкой. Трудно поверить, что для своих гнёзд эти птички роют норы в обрывах. («Юный натуралист»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1154160" y="0"/>
            <a:ext cx="47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рочитайте текс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В словосочетании </a:t>
            </a:r>
            <a:r>
              <a:rPr b="1" lang="ru-RU" sz="3200" spc="-1" strike="noStrike" u="sng">
                <a:solidFill>
                  <a:srgbClr val="663300"/>
                </a:solidFill>
                <a:uFillTx/>
                <a:latin typeface="Times New Roman"/>
              </a:rPr>
              <a:t>рабочая одежда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слово </a:t>
            </a:r>
            <a:r>
              <a:rPr b="1" lang="ru-RU" sz="3200" spc="-1" strike="noStrike" u="sng">
                <a:solidFill>
                  <a:srgbClr val="663300"/>
                </a:solidFill>
                <a:uFillTx/>
                <a:latin typeface="Times New Roman"/>
              </a:rPr>
              <a:t>рабочая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является зависимым от ________.; отвечает на вопрос __________; обозначает признак  и согласуется  с ________ в _________ и __________________.; в предложении является __________. Следовательно, это – имя________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В словосочетании </a:t>
            </a:r>
            <a:r>
              <a:rPr b="1" lang="ru-RU" sz="3200" spc="-1" strike="noStrike" u="sng">
                <a:solidFill>
                  <a:srgbClr val="663300"/>
                </a:solidFill>
                <a:uFillTx/>
                <a:latin typeface="Times New Roman"/>
              </a:rPr>
              <a:t>молодой рабочий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слово </a:t>
            </a:r>
            <a:r>
              <a:rPr b="1" lang="ru-RU" sz="3200" spc="-1" strike="noStrike" u="sng">
                <a:solidFill>
                  <a:srgbClr val="663300"/>
                </a:solidFill>
                <a:uFillTx/>
                <a:latin typeface="Times New Roman"/>
              </a:rPr>
              <a:t>рабочий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является ________.; обозначает _______ (лицо); отвечает на вопрос_________. Слово________ рода, употреблено в форме_____; имеет при себе__________, которое согласуется с ним в ________; в предложении является подлежащим. Это – имя ______,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6480000" cy="4608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5959440" cy="4037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692360" y="1557360"/>
            <a:ext cx="6192720" cy="4176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4000" y="1052640"/>
            <a:ext cx="5327640" cy="5113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ереходя в существительные,  имена прилагательные изменяют ________ значение( назыывают не признак предмета, а _______), а также _______________ признаки (теряют изменяемость по______, приобретая один определенный род, могут иметь при себе зависимое____________.; в предложении выступают чаще всего как  дополнение или________,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Повторение изученного об Имени Прилагательном</a:t>
            </a:r>
            <a:endParaRPr b="1" i="1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32000" y="112536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Мороз и солнце; день чудесный!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Ещё ты дремлешь, друг прелестный, -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Пора, красавица, проснись…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                                                     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А.С.Пушкин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Как за реченькой слободушка стоит,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о слободке той дороженька бежит;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уть-дорожка широка, да недлинна,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Разбегается в две стороны она…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                                                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А.Дельвиг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Постарайтесь восстановить пословицы:</a:t>
            </a:r>
            <a:br>
              <a:rPr sz="2800"/>
            </a:br>
            <a:endParaRPr b="1" i="1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1) Сам осёл, а попона….. 2)…… кораблю большое плаванье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3) …… ворона и куста боится. 4) Видом пышный, а нутром ……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5) Хороший конь и под ……. Попоной виден. 6) Человек с ….. Умом, обзаводится длинным языком. 7)….. Молоком обжегся, и на холодную воду дует. 8) Красив пирог с виду, да нутро….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9) Мухомор красен, да для здоровья …… 10) Острый язык – дарование, ……. – наказание. 11) От…… дерева и тень большая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2"/>
          <p:cNvSpPr/>
          <p:nvPr/>
        </p:nvSpPr>
        <p:spPr>
          <a:xfrm>
            <a:off x="1428840" y="1071720"/>
            <a:ext cx="7500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ет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чер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небес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нь становится всё незаметнее 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агрян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ареве заката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олетов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ымкой сгущаются по горизонту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вонк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умерки. На отмелях голося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ягушачь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хоры, слышатся всплески рыб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аксивы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ки чаек. 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счану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мель опустилась ста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иннохвост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ласточек. Каждая 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ро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штанов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юртуке 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лоснежн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анишкой. И трудно поверить, что для своих гнёзд эти птички рою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вухметровы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ры 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счан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брывах. («Юный натуралист»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1652400" y="0"/>
            <a:ext cx="44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читайте тек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Слова для справок</a:t>
            </a:r>
            <a:endParaRPr b="1" i="1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Высокий, бархатный, большой, ветхий, горячий, пуганый, никудышный, сыроватый, длинный, короткий, опасен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00000" y="1267920"/>
            <a:ext cx="6367320" cy="51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Как вы думаете, бывают ли пословицы-синонимы и пословицы-антонимы?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Если обнаружили сходные по смыслу, укажите их номера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Например, 2 и 11- синонимы. Так же обозначьте и противоположные по смыслу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На одном-двух примерах покажите, как вы рассуждали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360520" cy="2521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Ответы: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3300"/>
                </a:solidFill>
                <a:uFillTx/>
                <a:latin typeface="Times New Roman"/>
              </a:rPr>
              <a:t>Пословицы -синонимы: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2 и 11; 3 и 7,4, 8,9;  6 и 10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3300"/>
                </a:solidFill>
                <a:uFillTx/>
                <a:latin typeface="Times New Roman"/>
              </a:rPr>
              <a:t>Антонимы :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1 и 5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500120" y="1143000"/>
            <a:ext cx="6500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й вам текст понравился больше? Почем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 счёт чего создаётся такая яркая, образная картина, которую легко себе представи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обозначают прилагательные в этом текс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727640" y="142920"/>
            <a:ext cx="30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лиц – опрос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1460520" y="2071800"/>
            <a:ext cx="730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На какие вопросы отвечает прилагательно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451160" y="3500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Что обозначает имя прилагательно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357200" y="4786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Чем, как правило, является прилагательное в текст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95280" y="1844640"/>
            <a:ext cx="87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лагательное – это имя, так как оно называет ________. Следовательно, имя прилагательное относится к группе ________ частей реч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лагательное в речи связано с _________,как бы прилагается к нему, потому что обозначает _______, названного этим существительны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500120" y="0"/>
            <a:ext cx="7643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ерепишите предложение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ставив нужные слов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357200" y="928800"/>
            <a:ext cx="7572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ова начальная форма имени прилагательного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ие морфологические признаки прилагательного вам известны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6756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Сергей Довлатов «Записные книжки»</a:t>
            </a:r>
            <a:endParaRPr b="1" i="1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59280" y="1557360"/>
            <a:ext cx="60084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Хорошо бы начать свою пьесу так. Ведущий произносит: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- Был ясный, теплый, солнечный…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Пауза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516720" y="4365720"/>
            <a:ext cx="2114640" cy="2162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9280" y="1628640"/>
            <a:ext cx="2016360" cy="2664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395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- Предпоследний день…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И наконец отчетливо: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-Помпеи!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Times New Roman"/>
              </a:rPr>
              <a:t>В чем  заключается трагикомический смысл текста?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24360" y="2133720"/>
            <a:ext cx="4608360" cy="3024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6:17:28Z</dcterms:created>
  <dc:creator>Анна</dc:creator>
  <dc:description/>
  <dc:language>en-US</dc:language>
  <cp:lastModifiedBy>usr</cp:lastModifiedBy>
  <dcterms:modified xsi:type="dcterms:W3CDTF">2013-02-10T14:49:09Z</dcterms:modified>
  <cp:revision>14</cp:revision>
  <dc:subject/>
  <dc:title>Имя прилагательное</dc:title>
</cp:coreProperties>
</file>