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33CA-D890-4393-8D74-7BD6542B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DA18-2A66-41D8-A734-27FC2EB9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BE80-0AAC-439A-BFA2-AC0F0E8C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D4C5-1240-4E56-BA5D-D1BA2E962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D39B-D0A5-4D47-B44B-FAE7F3C4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1ED6-F9DC-4887-9699-8347884C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F5B5-3829-411D-9AB7-205367FA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32D1-06C9-4EB8-BEA2-FCE3B7AC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2BBD-AED6-4647-9A69-D71C877D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3468-6D75-4A16-9A99-C5D14D4F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8D2B-51F5-438B-B7C5-5BEB2A1F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65FC-8369-4740-9B4F-9ECA4203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6770-2E26-4825-A401-87960B3D7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Script MT Bold"/>
              </a:rPr>
              <a:t>Parties and leaders of the Russian Federation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76920" y="4876920"/>
            <a:ext cx="4038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Script MT Bold"/>
              </a:rPr>
              <a:t>Stakheeva Eve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Script MT Bold"/>
              </a:rPr>
              <a:t>Form 10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Script MT Bold"/>
              </a:rPr>
              <a:t>The main par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124080" y="22096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715000" y="1600200"/>
            <a:ext cx="1974960" cy="1981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676520" y="16002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419720" y="3886200"/>
            <a:ext cx="1833480" cy="19684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cript MT Bold"/>
              </a:rPr>
              <a:t>Unified Russia (U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Script MT Bold"/>
              </a:rPr>
              <a:t>Leader of the party</a:t>
            </a:r>
            <a:r>
              <a:rPr b="0" lang="ru-RU" sz="2800" spc="-1" strike="noStrike" u="sng">
                <a:solidFill>
                  <a:srgbClr val="ffcc66"/>
                </a:solidFill>
                <a:uFillTx/>
                <a:latin typeface="Script MT Bold"/>
              </a:rPr>
              <a:t>:</a:t>
            </a:r>
            <a:r>
              <a:rPr b="0" lang="ru-RU" sz="2800" spc="-1" strike="noStrike">
                <a:solidFill>
                  <a:srgbClr val="0033cc"/>
                </a:solidFill>
                <a:latin typeface="Script MT Bold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cript MT Bold"/>
              </a:rPr>
              <a:t>Demetrius Medved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Script MT Bold"/>
              </a:rPr>
              <a:t>Party consists of</a:t>
            </a:r>
            <a:r>
              <a:rPr b="0" lang="ru-RU" sz="2800" spc="-1" strike="noStrike" u="sng">
                <a:solidFill>
                  <a:srgbClr val="ffcc66"/>
                </a:solidFill>
                <a:uFillTx/>
                <a:latin typeface="Script MT Bold"/>
              </a:rPr>
              <a:t>:</a:t>
            </a:r>
            <a:r>
              <a:rPr b="0" lang="en-US" sz="2800" spc="-1" strike="noStrike">
                <a:solidFill>
                  <a:srgbClr val="0033cc"/>
                </a:solidFill>
                <a:latin typeface="Script MT Bold"/>
              </a:rPr>
              <a:t> 2 073 772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Script MT Bold"/>
              </a:rPr>
              <a:t>A program</a:t>
            </a:r>
            <a:r>
              <a:rPr b="0" lang="ru-RU" sz="2800" spc="-1" strike="noStrike" u="sng">
                <a:solidFill>
                  <a:srgbClr val="ffcc66"/>
                </a:solidFill>
                <a:uFillTx/>
                <a:latin typeface="Script MT Bold"/>
              </a:rPr>
              <a:t>:</a:t>
            </a:r>
            <a:r>
              <a:rPr b="0" lang="ru-RU" sz="2800" spc="-1" strike="noStrike">
                <a:solidFill>
                  <a:srgbClr val="0033cc"/>
                </a:solidFill>
                <a:latin typeface="Script MT Bold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cript MT Bold"/>
              </a:rPr>
              <a:t>to unit for restoring an economics; to pick up salaries, pensions of our citizens; to make effective police and powerful Armed forces; to stop increase of a pove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4120" y="14479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486400" y="373392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Script MT Bold"/>
              </a:rPr>
              <a:t>The Communist Party of the Russian Federation (CPR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Script MT Bold"/>
              </a:rPr>
              <a:t>Leader of the party:</a:t>
            </a:r>
            <a:r>
              <a:rPr b="0" lang="en-US" sz="2800" spc="-1" strike="noStrike">
                <a:solidFill>
                  <a:srgbClr val="0033cc"/>
                </a:solidFill>
                <a:latin typeface="Script MT Bold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Script MT Bold"/>
              </a:rPr>
              <a:t>Gennady Zyugan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c66"/>
                </a:solidFill>
                <a:uFillTx/>
                <a:latin typeface="Script MT Bold"/>
              </a:rPr>
              <a:t>The party consists of:</a:t>
            </a:r>
            <a:r>
              <a:rPr b="0" lang="en-US" sz="2800" spc="-1" strike="noStrike">
                <a:solidFill>
                  <a:srgbClr val="0033cc"/>
                </a:solidFill>
                <a:latin typeface="Script MT Bold"/>
              </a:rPr>
              <a:t> over 157 thousands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Script MT Bold"/>
              </a:rPr>
              <a:t>A program:</a:t>
            </a:r>
            <a:r>
              <a:rPr b="0" lang="en-US" sz="2800" spc="-1" strike="noStrike">
                <a:solidFill>
                  <a:srgbClr val="0033cc"/>
                </a:solidFill>
                <a:latin typeface="Script MT Bold"/>
              </a:rPr>
              <a:t> to bare increase of pension age; to make some convenience for development of business; to pick up a financing of a science; to provide scientists enough salary and other necessary for a researching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5880" y="1676520"/>
            <a:ext cx="2082960" cy="1936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410080" y="3886200"/>
            <a:ext cx="3343320" cy="22287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Script MT Bold"/>
              </a:rPr>
              <a:t>The Liberal Democratic Party of Russi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Script MT Bold"/>
              </a:rPr>
              <a:t>Leader of the party:</a:t>
            </a:r>
            <a:r>
              <a:rPr b="0" lang="en-US" sz="2400" spc="-1" strike="noStrike">
                <a:solidFill>
                  <a:srgbClr val="0033cc"/>
                </a:solidFill>
                <a:latin typeface="Script MT Bold"/>
              </a:rPr>
              <a:t>  Vladimir Zhirinov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cc66"/>
                </a:solidFill>
                <a:uFillTx/>
                <a:latin typeface="Script MT Bold"/>
              </a:rPr>
              <a:t>The party consists of:</a:t>
            </a:r>
            <a:r>
              <a:rPr b="0" lang="en-US" sz="2400" spc="-1" strike="noStrike">
                <a:solidFill>
                  <a:srgbClr val="ffcc66"/>
                </a:solidFill>
                <a:latin typeface="Script MT Bold"/>
              </a:rPr>
              <a:t>  </a:t>
            </a:r>
            <a:r>
              <a:rPr b="0" i="1" lang="en-US" sz="2400" spc="-1" strike="noStrike">
                <a:solidFill>
                  <a:srgbClr val="0033cc"/>
                </a:solidFill>
                <a:latin typeface="Script MT Bold"/>
              </a:rPr>
              <a:t>211 338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Script MT Bold"/>
              </a:rPr>
              <a:t>A program: </a:t>
            </a:r>
            <a:r>
              <a:rPr b="0" lang="en-US" sz="2400" spc="-1" strike="noStrike">
                <a:solidFill>
                  <a:srgbClr val="ffcc66"/>
                </a:solidFill>
                <a:latin typeface="Script MT Bold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cript MT Bold"/>
              </a:rPr>
              <a:t>to stop increase of a poverty; to support young people with their participation in political life of the cou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Script MT Bold"/>
              </a:rPr>
              <a:t>    </a:t>
            </a:r>
            <a:r>
              <a:rPr b="0" lang="en-US" sz="2800" spc="-1" strike="noStrike">
                <a:solidFill>
                  <a:srgbClr val="0033cc"/>
                </a:solidFill>
                <a:latin typeface="Script MT Bold"/>
              </a:rPr>
              <a:t>the motto is “Russia is for Russians too!” Has been Representing itself as a opposition party since a beginning of its cre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72200" y="1523880"/>
            <a:ext cx="2189160" cy="2349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172200" y="4191120"/>
            <a:ext cx="2362320" cy="17715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Script MT Bold"/>
              </a:rPr>
              <a:t>Just Russia (J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Script MT Bold"/>
              </a:rPr>
              <a:t>Leader of the party:</a:t>
            </a:r>
            <a:r>
              <a:rPr b="0" lang="en-US" sz="3200" spc="-1" strike="noStrike">
                <a:solidFill>
                  <a:srgbClr val="0033cc"/>
                </a:solidFill>
                <a:latin typeface="Script MT Bold"/>
              </a:rPr>
              <a:t> Sergei Miro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Script MT Bold"/>
              </a:rPr>
              <a:t> </a:t>
            </a:r>
            <a:r>
              <a:rPr b="0" i="1" lang="en-US" sz="3200" spc="-1" strike="noStrike" u="sng">
                <a:solidFill>
                  <a:srgbClr val="ffcc66"/>
                </a:solidFill>
                <a:uFillTx/>
                <a:latin typeface="Script MT Bold"/>
              </a:rPr>
              <a:t>The party consists of:</a:t>
            </a:r>
            <a:r>
              <a:rPr b="0" lang="en-US" sz="3200" spc="-1" strike="noStrike">
                <a:solidFill>
                  <a:srgbClr val="ffcc66"/>
                </a:solidFill>
                <a:latin typeface="Script MT Bold"/>
              </a:rPr>
              <a:t> </a:t>
            </a:r>
            <a:r>
              <a:rPr b="0" lang="ru-RU" sz="3200" spc="-1" strike="noStrike">
                <a:solidFill>
                  <a:srgbClr val="0033cc"/>
                </a:solidFill>
                <a:latin typeface="Script MT Bold"/>
              </a:rPr>
              <a:t>414 558</a:t>
            </a:r>
            <a:r>
              <a:rPr b="0" lang="ru-RU" sz="3200" spc="-1" strike="noStrike">
                <a:solidFill>
                  <a:srgbClr val="0033cc"/>
                </a:solidFill>
                <a:latin typeface="Script MT Bold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Script MT Bold"/>
              </a:rPr>
              <a:t>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Script MT Bold"/>
              </a:rPr>
              <a:t>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Script MT Bold"/>
              </a:rPr>
              <a:t>A program:</a:t>
            </a:r>
            <a:r>
              <a:rPr b="0" lang="en-US" sz="3200" spc="-1" strike="noStrike">
                <a:solidFill>
                  <a:srgbClr val="ffcc66"/>
                </a:solidFill>
                <a:latin typeface="Script MT Bold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Script MT Bold"/>
              </a:rPr>
              <a:t>a reform of salaries and p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Script MT Bold"/>
              </a:rPr>
              <a:t>Part-time payment, to reduce bribe-ta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029200" y="4038480"/>
            <a:ext cx="3657600" cy="2073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486400" y="144792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Script MT Bold"/>
              </a:rPr>
              <a:t>Thank you for your attentio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10:19:20Z</dcterms:created>
  <dc:creator>User</dc:creator>
  <dc:description/>
  <dc:language>en-US</dc:language>
  <cp:lastModifiedBy>User</cp:lastModifiedBy>
  <dcterms:modified xsi:type="dcterms:W3CDTF">2013-02-05T15:39:4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