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2DBB-352A-4A63-A094-22D15020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E16C-586F-4C5D-BEF4-1FFE49F8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4B1C-9238-44E3-83DF-393E7F03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F76F-6023-4597-A982-2DD79656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2792-DBEA-41F9-B1F1-B90A9E22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290E-DD71-4EB4-AEDB-0774467E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CB15-FA55-4A83-AE90-CE95E772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B4EB-52A7-4EED-B17A-BF6B6EC2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17E-173A-4CF6-8F65-0192F521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483-7487-40E8-90E1-70E8B769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606E-EE74-4D0F-8F2F-2C1CE083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D111-BFEA-45D4-812E-F537B74D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>
            <a:alpha val="4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E429-0339-41D6-94C2-CC89345C6F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87280" y="981000"/>
            <a:ext cx="6624720" cy="198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Reported Speech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700360" y="371016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ported speech means that someone's words (direct speech) are reported in the form of indirect spe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252760" y="5805360"/>
            <a:ext cx="23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RINA 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ool 757 Form 9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C:\Users\Маша\AppData\Local\Microsoft\Windows\Temporary Internet Files\Content.IE5\BI8YJ57I\MP900439409[1].jpg"/>
          <p:cNvPicPr/>
          <p:nvPr/>
        </p:nvPicPr>
        <p:blipFill>
          <a:blip r:embed="rId1"/>
          <a:stretch/>
        </p:blipFill>
        <p:spPr>
          <a:xfrm rot="21288600">
            <a:off x="6443280" y="3816000"/>
            <a:ext cx="2290680" cy="16779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3" descr="они читают газеты.jpg"/>
          <p:cNvPicPr/>
          <p:nvPr/>
        </p:nvPicPr>
        <p:blipFill>
          <a:blip r:embed="rId2"/>
          <a:stretch/>
        </p:blipFill>
        <p:spPr>
          <a:xfrm>
            <a:off x="4643280" y="620640"/>
            <a:ext cx="4183200" cy="2664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200160" y="765000"/>
            <a:ext cx="416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esent Simple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st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spape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ry mo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id M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e said (that) the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wspa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mo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65160" y="3141720"/>
            <a:ext cx="642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st  Simple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st Per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wspap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yesterd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, said 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e said (that) the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 re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spape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y bef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18880" y="5103720"/>
            <a:ext cx="756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esent Perfect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st Per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ve rea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ning newspaper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by twelve o’cloc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, said M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ke said (that) they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d  rea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ning  newspaper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y twelve o’cloc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Прямая со стрелкой 6"/>
          <p:cNvCxnSpPr/>
          <p:nvPr/>
        </p:nvCxnSpPr>
        <p:spPr>
          <a:xfrm>
            <a:off x="1979280" y="90756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Прямая со стрелкой 7"/>
          <p:cNvCxnSpPr/>
          <p:nvPr/>
        </p:nvCxnSpPr>
        <p:spPr>
          <a:xfrm>
            <a:off x="2050560" y="530028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Прямая со стрелкой 8"/>
          <p:cNvCxnSpPr/>
          <p:nvPr/>
        </p:nvCxnSpPr>
        <p:spPr>
          <a:xfrm>
            <a:off x="1618920" y="328428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3780000" y="620640"/>
            <a:ext cx="49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esent Continuous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st Contin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m study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ly hard for my exams”, said Li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za said(that) s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 study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ly hard for her ex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50920" y="2924280"/>
            <a:ext cx="496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st Continuous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st Perfect Contin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days ago I was ly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beach in the sun”, Kate sa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te said (that) sh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been ly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beach in the su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days bef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3743280" y="54450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 going to b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ous one day ”, my sister sa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sister said(that)s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 going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famous one day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Прямая со стрелкой 8"/>
          <p:cNvCxnSpPr/>
          <p:nvPr/>
        </p:nvCxnSpPr>
        <p:spPr>
          <a:xfrm>
            <a:off x="2195640" y="3141360"/>
            <a:ext cx="358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Прямая со стрелкой 9"/>
          <p:cNvCxnSpPr/>
          <p:nvPr/>
        </p:nvCxnSpPr>
        <p:spPr>
          <a:xfrm>
            <a:off x="6011640" y="83628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7" name="Picture 8" descr="C:\Users\Маша\AppData\Local\Microsoft\Windows\Temporary Internet Files\Content.IE5\4RFR8ZFP\MC900232180[1].wmf"/>
          <p:cNvPicPr/>
          <p:nvPr/>
        </p:nvPicPr>
        <p:blipFill>
          <a:blip r:embed="rId1"/>
          <a:stretch/>
        </p:blipFill>
        <p:spPr>
          <a:xfrm rot="570600">
            <a:off x="6012000" y="2707920"/>
            <a:ext cx="1876320" cy="1782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Users\Маша\AppData\Local\Microsoft\Windows\Temporary Internet Files\Content.IE5\BN1AJR8Q\MC900398133[1].wmf"/>
          <p:cNvPicPr/>
          <p:nvPr/>
        </p:nvPicPr>
        <p:blipFill>
          <a:blip r:embed="rId2"/>
          <a:stretch/>
        </p:blipFill>
        <p:spPr>
          <a:xfrm>
            <a:off x="611280" y="549360"/>
            <a:ext cx="1817640" cy="1735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C:\Users\Маша\AppData\Local\Microsoft\Windows\Temporary Internet Files\Content.IE5\BN1AJR8Q\MC900240499[1].wmf"/>
          <p:cNvPicPr/>
          <p:nvPr/>
        </p:nvPicPr>
        <p:blipFill>
          <a:blip r:embed="rId3"/>
          <a:stretch/>
        </p:blipFill>
        <p:spPr>
          <a:xfrm rot="21212400">
            <a:off x="1139400" y="5011560"/>
            <a:ext cx="129240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171360"/>
            <a:ext cx="9375840" cy="263988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1187280" y="206064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n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”, he sa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said(that)s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ld s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716360" y="364500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ll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hel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”, Bob sa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b said (that) 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uld hel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755640" y="530064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y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pla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you”, my sister sa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sister said (that) s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ht pla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Прямая со стрелкой 7"/>
          <p:cNvCxnSpPr/>
          <p:nvPr/>
        </p:nvCxnSpPr>
        <p:spPr>
          <a:xfrm>
            <a:off x="1763280" y="227628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5" name="Picture 2" descr="C:\Users\Маша\AppData\Local\Microsoft\Windows\Temporary Internet Files\Content.IE5\4RFR8ZFP\MC900429809[1].wmf"/>
          <p:cNvPicPr/>
          <p:nvPr/>
        </p:nvPicPr>
        <p:blipFill>
          <a:blip r:embed="rId2"/>
          <a:stretch/>
        </p:blipFill>
        <p:spPr>
          <a:xfrm rot="20798400">
            <a:off x="6373440" y="1926720"/>
            <a:ext cx="1508040" cy="1438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Маша\AppData\Local\Microsoft\Windows\Temporary Internet Files\Content.IE5\4RFR8ZFP\MC900435985[1].wmf"/>
          <p:cNvPicPr/>
          <p:nvPr/>
        </p:nvPicPr>
        <p:blipFill>
          <a:blip r:embed="rId3"/>
          <a:stretch/>
        </p:blipFill>
        <p:spPr>
          <a:xfrm rot="21198600">
            <a:off x="1642680" y="3435120"/>
            <a:ext cx="1440000" cy="172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Маша\AppData\Local\Microsoft\Windows\Temporary Internet Files\Content.IE5\25UMPJCN\MC900397456[1].wmf"/>
          <p:cNvPicPr/>
          <p:nvPr/>
        </p:nvPicPr>
        <p:blipFill>
          <a:blip r:embed="rId4"/>
          <a:stretch/>
        </p:blipFill>
        <p:spPr>
          <a:xfrm>
            <a:off x="5867280" y="4869000"/>
            <a:ext cx="1827360" cy="1757160"/>
          </a:xfrm>
          <a:prstGeom prst="rect">
            <a:avLst/>
          </a:prstGeom>
          <a:ln w="0">
            <a:noFill/>
          </a:ln>
        </p:spPr>
      </p:pic>
      <p:cxnSp>
        <p:nvCxnSpPr>
          <p:cNvPr id="68" name="Прямая со стрелкой 18"/>
          <p:cNvCxnSpPr/>
          <p:nvPr/>
        </p:nvCxnSpPr>
        <p:spPr>
          <a:xfrm>
            <a:off x="5219280" y="378900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Прямая со стрелкой 19"/>
          <p:cNvCxnSpPr/>
          <p:nvPr/>
        </p:nvCxnSpPr>
        <p:spPr>
          <a:xfrm>
            <a:off x="1402920" y="544464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1" descr=""/>
          <p:cNvPicPr/>
          <p:nvPr/>
        </p:nvPicPr>
        <p:blipFill>
          <a:blip r:embed="rId1"/>
          <a:stretch/>
        </p:blipFill>
        <p:spPr>
          <a:xfrm>
            <a:off x="1243080" y="-171360"/>
            <a:ext cx="6645240" cy="181764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1403280" y="119700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erbs of time and place are usually repla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47640" y="1773360"/>
          <a:ext cx="6096240" cy="370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rect 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n) that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orr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ollowing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 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ollowing 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ter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ay bef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 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eek bef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e days 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e days bef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mo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mo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1" descr=""/>
          <p:cNvPicPr/>
          <p:nvPr/>
        </p:nvPicPr>
        <p:blipFill>
          <a:blip r:embed="rId1"/>
          <a:stretch/>
        </p:blipFill>
        <p:spPr>
          <a:xfrm>
            <a:off x="-835200" y="-171360"/>
            <a:ext cx="10881000" cy="263988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179280" y="4549680"/>
            <a:ext cx="813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th words( where, when , why , how ) we use reporting verb + question word+ normal word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does Mike live?”, asked Pa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 asked where Mike liv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179280" y="1844640"/>
            <a:ext cx="66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rmal word order ( subject + verb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is Paris? ”, asked B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b asked where Paris w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3959280" y="306864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th yes/no questions ,we use reporting verb ask+ if/wh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Mavis your real name?”, asked K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te asked if Mavis was her real 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Маша\AppData\Local\Microsoft\Windows\Temporary Internet Files\Content.IE5\ZQ0LT9BG\MC900441930[1].wmf"/>
          <p:cNvPicPr/>
          <p:nvPr/>
        </p:nvPicPr>
        <p:blipFill>
          <a:blip r:embed="rId2"/>
          <a:stretch/>
        </p:blipFill>
        <p:spPr>
          <a:xfrm rot="21135600">
            <a:off x="1042920" y="3212640"/>
            <a:ext cx="1587600" cy="1530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Маша\AppData\Local\Microsoft\Windows\Temporary Internet Files\Content.IE5\25UMPJCN\MC900383550[1].wmf"/>
          <p:cNvPicPr/>
          <p:nvPr/>
        </p:nvPicPr>
        <p:blipFill>
          <a:blip r:embed="rId3"/>
          <a:stretch/>
        </p:blipFill>
        <p:spPr>
          <a:xfrm>
            <a:off x="7093080" y="1197000"/>
            <a:ext cx="649080" cy="1428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Маша\AppData\Local\Microsoft\Windows\Temporary Internet Files\Content.IE5\2DRCSPVA\MC900434403[1].wmf"/>
          <p:cNvPicPr/>
          <p:nvPr/>
        </p:nvPicPr>
        <p:blipFill>
          <a:blip r:embed="rId4"/>
          <a:stretch/>
        </p:blipFill>
        <p:spPr>
          <a:xfrm rot="21133200">
            <a:off x="6190920" y="5109840"/>
            <a:ext cx="119520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3:02:27Z</dcterms:created>
  <dc:creator>Маша</dc:creator>
  <dc:description/>
  <dc:language>en-US</dc:language>
  <cp:lastModifiedBy>Маша</cp:lastModifiedBy>
  <dcterms:modified xsi:type="dcterms:W3CDTF">2012-03-28T14:26:42Z</dcterms:modified>
  <cp:revision>39</cp:revision>
  <dc:subject/>
  <dc:title>Слайд 1</dc:title>
</cp:coreProperties>
</file>