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983B-568B-41A0-A092-57ABAE7C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511-A827-4E52-8DCF-DFD5F235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BE35B-1B58-4F29-813E-7C11966D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3B24A-755A-4C09-A0D2-2E3923E4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DE62D-F5E1-49D8-8A00-8BBB5583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275B6-FEEA-4FC8-BCAB-075719D4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2BE51-B564-4BFD-8531-9B1A1338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ED47F-5E7E-463A-B806-47279410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6F4B8-863B-4F6F-BDD1-C23D8C7B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920C8-BA04-45C2-B67D-DEE472D3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39B76-F46B-4D32-A8F9-FE94C7C5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65C8C-8965-4B8A-95CC-F61CF76F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BEB-38C1-4E1B-996E-C7CB6D7E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EFFA8-7A32-4102-89E4-68DD27A5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9A853-A3F0-4F80-A8A3-939F2FB4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BD401-4370-4F2A-8900-18A47D1B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51834-7AC3-4156-9508-33CFD12A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B35DB-212B-434E-9071-1AF84246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89E72-1C98-4D96-8D03-56877AD4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EEC0E-EDEB-4020-A7BE-976FCED4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F4A10-9113-4B76-91C9-B5471FDF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5648E-4059-41AC-99B9-43E24810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766B0-3CF8-448B-9F34-53E2C74F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7CB-B9C9-4F56-9FD3-2A653C5A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A4B0D-A60D-49BF-9144-52FD0692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4C5A1-CEF4-4172-A04D-7233BDAE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C7790-78A5-4CFF-BA90-D43E6AF7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0B3E6-6F39-49F8-B612-B4DE7097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8BB3D-D966-412F-9745-1FDD25A5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D1974-C459-4020-83C0-38D0FA6D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643E4-0736-4625-916F-0FF3BDD2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4B739-EFEF-4494-BB47-3DDF4117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8D5DB-A75D-489F-A05A-B5E4FB08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6DDCA-DC8F-4669-84B6-968B7616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2AFB-0167-4C61-B069-EB339740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CBC72-F5BA-4988-BF1D-EA59A509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45B2B-0838-4E14-A32F-2BEC6691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8F383-799E-4F60-BA6C-7FC478AE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14B96-88BB-4695-940E-329CD547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6461A-9A79-4B1E-9081-700CF1C7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C5E35-8D5F-450E-A13E-5B138CB4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1BE64-0719-4880-B3FA-085D95A6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49C2D-4C53-4C34-AA72-98F3E307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E9E1C-E12A-46EB-AA45-2224788D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26103-68C2-4823-BE60-6F784359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B333-B7D3-4207-A8F9-C1D7E5F2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4384E-3C03-4113-8044-F81A42BA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1459D-FA17-438C-BA72-8B346106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0B88B-46B2-4D96-B0EA-8BE374E5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DA90C-648B-4BBE-B748-AA24E0DE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04A26-3DE7-4A04-AD68-7699B4A7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B4294A-0E6C-436D-8415-449604BD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51AF1-2956-4BC7-8C46-64E67000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B9B4B-F6D4-41CD-8CA3-E21FA1AF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470E2-AA77-47B7-A44F-0CA925D7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EF4E7-9BFC-42FC-9CED-33DA32B2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D3BD-E62D-4F15-A8EE-0CBB2561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604F21-0BC7-4FB6-9474-A1E4878D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C7213-A523-4FF3-8029-6809254D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A761C0-DD26-4965-B1B2-07A4C589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5556D-578B-478F-A1C1-186CFDB6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BF3A8-EA51-4D97-8008-645AFF18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E79FAA-0E31-4C6A-9BC0-DA600BF8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D78A7-95A2-412D-BF71-E8B05568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5E2CF1-4754-420C-A8B9-59D70898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036DD0-9F3D-40DF-9B21-8EE02B55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DC8203-0E94-45EC-8413-891EA56B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DCAF-C814-40BC-A766-D519C3E6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1570D3-9F49-4B9A-A016-913A0F56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AE395E-7FD3-4C27-B614-5B92D477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47BA0D-4C72-4F4A-ADBC-5FAFEBAC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7287CE-93E4-4FF2-B416-984D0DA9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F7F317-47B4-4401-8690-2D25A83B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491F4E-330F-4C64-B3C3-9DC407C8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34BB2F-2796-45C8-962E-E9E6DFFB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1DF3D6-30B9-4411-A931-05B81C6B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A352A1-4C0C-4CD0-832B-5048477F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3E4BF4-813F-4101-B542-DEBB47CA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7F92-3B0C-423C-8FCD-FAFFF19E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62B8F2-9583-44C3-BF6B-D467EA91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C12E82-26FC-4451-B6F7-750E4F70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9DC76B-C016-46A6-9F42-6063DFE5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88011-8ED2-433E-9068-06C242EA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589A43-DC2A-4D8C-BBA4-7C6936B7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864F1C-FBD3-43BB-A7DF-72C9D490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7E043C-B255-4887-89CC-2422C79B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B24B9-D8C6-4F85-AA37-3CF208F4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5F0721-8E18-4E60-AB19-18AA629B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D180E6-214E-4F86-9243-1641B63A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2142-425A-4C3D-9ED2-774803E1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46E54B-DD99-472A-A177-6F2D5737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D93EFD-B39B-41B3-BC51-F6E1ABBF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0E58C1-36EB-4962-A6D9-DE0E0ADE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6C6FAC-524E-43AA-ABCE-B8CFEF29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1ADB31-99B8-407B-A033-86830CEF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8847C0-292C-428D-969B-20822C1D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C9F10-99D1-4863-BEAB-9756C0C2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7C5928-7903-48C3-9449-8BDFAFE0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B944B5-E60A-406D-B041-EC563DB4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465D5E-021A-4ED7-80D1-800E5C1C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20F3-DB38-4A2A-8902-436DF5C5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604206-DD33-4FC7-9215-05F37B02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D05E34-4C19-492A-A70F-554A3049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A9787F-CFA2-4894-B025-935707C1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B1C5-7D45-4C98-BCFE-F3FE1FFD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DB6F-07A3-4141-851B-4E60F409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69F9-9AF9-4116-AF39-AF54B1DB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B8D0-173E-4714-8DC5-F17CF29A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963F-2AF8-44EF-86FF-C562DBDC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5A5F-F3D6-47D4-A7C4-49A8BF70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527DE-30AB-41AD-B4DF-E019B126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0C068-6209-4AED-8D6D-B5BC9C5B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8EBF1-AEFA-476B-AF2B-D1FFFCB4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7B0B6-4263-42F6-B1C4-9E6AC9CA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BDB9A-888C-4790-A5F8-120961EB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A8EC-3EEA-4B9E-8952-0294D8C0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3D06D-6B6E-4757-9F09-9C10C605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58787-4E45-419F-90B2-E2EC41E4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F195D-A291-4188-869F-765B6D0D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005DF-5FE4-4DAC-BDF5-022A6EAB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D50F9-D311-41D6-8F20-82639CCE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FA9C2-5333-4D1C-BE5A-0E210590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1C824-F92A-444C-BBF3-0146B23A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7DFD2F-3369-43CF-9639-D1BF44E8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141CC3-DFC8-45D8-8158-6D88BDC2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35F85A-F611-4931-89F5-D289BE70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0DE-067F-41DF-ACC7-90D43B2E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437DBC-0D5B-4B15-8209-450C132F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FE6F8D-6AD9-4F26-9451-1EAB1871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1402B9-5E2B-464D-A638-73A12D6E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F8C803-F3BA-4EC1-8657-79B207B6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51C446-1404-42DA-90E6-AB1DBAAC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886BFA-0650-46CA-AAD2-2ADFD18A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D7BD74-7841-40C8-B35D-7512FC4D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434356-9C6A-43ED-B88E-ABB79368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75DB26-2A53-4D15-BBA7-60F7F9AE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A9823-DA74-4016-9A02-70FD79E9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862-C8FF-47FB-B6E7-12F7B94B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82F28-C3D9-415D-BD39-2383C9A3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495C4-4DE1-426C-B1E1-AD289BAF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2BEDD-59DD-42FB-B24D-A2A975DF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EBA3C-2833-452F-AF5C-DA0217D0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5D46C-1794-4614-A270-C2912A87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C1DE0-6F9A-4081-B816-B64F5937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89C3C-8F7D-45E0-9D85-9B04970A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8B0D8-B946-41D4-8217-7799750F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3593A-5096-4086-AEF1-5BDA8E3E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E9C53-0826-4D18-8ED4-28835811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5CE-711F-4C59-872A-BD8D759D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21A0B-2BAC-43DA-8D52-24873E6A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9C1A88-52E4-4A16-97AF-3CA9371C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B136D4-1FC6-41F9-82F8-95D653CA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EADEF4-E957-4751-B0ED-8D1D8E38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FFD63B-219F-429D-A7A0-FC470688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F49ED0-B01A-4C8B-BBCD-10F4B559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0788E5-964A-43CA-A122-56EEAF9B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F6D457-3CF7-4263-98C7-8E8FBB67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4CAE0E-3296-48CC-A8B1-963209C3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84CBAB-9AF9-49F9-85D6-00486B03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C177-7797-4668-B438-0FF2AAF8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EB9D80-5471-4008-8F28-EEF00ECD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FE5C9A-A4A1-4328-9B33-7BE57032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B1A18A-05EF-492B-BF69-058646B2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7D32F-3708-42F0-B32D-46050929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F71FE-531D-4B8F-9503-3B4C9FBD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4DE09-5196-470C-97E5-7BB1CC4E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591FD-0267-4192-840C-BD4E4485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134C0-C134-4D75-9D7F-07C67DCB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BFCCE-2A9B-413C-B693-65E00E22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BCF02-2114-46E5-9B25-A459CDCE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62D-281A-45A0-AA84-2B78B589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53BAB-A4F6-46C8-BDF4-3DACE5B3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3EFED-BFEE-46D7-AAA8-FAF2F31E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CE43E-F1BE-42EE-9EFF-2EFDF65A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A6134-6A00-41C6-9EB9-D47181B4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6BDE5-37CF-41CD-8B82-58104ED2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716CE-553B-455C-B6D2-2E6F6B80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68BDE-7515-4C2A-8723-1B9D719E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8CD92-C9ED-4E3E-B470-43916D00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AB7BD-EBC2-415B-9F8D-0FE190B2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46FF7-DEF5-4279-8AF2-582D4EC6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A74-49A9-46EB-9CC3-DABB2BDD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E17F7-EB1F-49CB-A596-000CACB6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488D8-AE6B-47FE-8D84-EC7E0B36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4EC59-F197-4C9C-90CA-CBB68C71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CE71C-665A-497E-99E0-C1E6A7A9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30370-4257-4BE5-9DE7-49195287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278BB-60D7-47BF-B86A-F5ED6004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27CB8-F063-4DB7-AA30-387C3F6C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B1967-5E6B-451B-A216-A5E0D15F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36219-5B36-46F1-A24C-C7B6928A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2F9AC-C60B-4BA0-9CD1-DE8C5584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188D-FB67-47F3-A80B-A8EB53A1CC82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2A72-CE42-45A6-AB50-6774FF02BE0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F480-F296-4C7D-B8C6-6D0879A6A42A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8847-64C6-46B3-B94F-28837FF3730A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51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8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464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39639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39639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090A-49F3-4892-BB28-3E94FF9D1E13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56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464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39639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39639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6464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46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6464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D410-8E29-4574-8FDD-3201CA28CB1B}" type="slidenum">
              <a:rPr b="0" lang="en-US" sz="1100" spc="-1" strike="noStrike">
                <a:solidFill>
                  <a:srgbClr val="46464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ef5f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39639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39639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4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ef5f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ef5f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4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4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ef5f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FCEF-679F-4700-B03F-93188CE18C42}" type="slidenum">
              <a:rPr b="0" lang="en-US" sz="1100" spc="-1" strike="noStrike">
                <a:solidFill>
                  <a:srgbClr val="def5f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64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464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39639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39639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6464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46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6464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AA86-E1D9-4FAC-857B-1DE64EDA78B9}" type="slidenum">
              <a:rPr b="0" lang="en-US" sz="1100" spc="-1" strike="noStrike">
                <a:solidFill>
                  <a:srgbClr val="46464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68C5-D7D7-4694-9BA7-3F89D87A90E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8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464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39639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39639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6464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46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6464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4051-5519-4BEE-A5F8-A3401F494DC3}" type="slidenum">
              <a:rPr b="0" lang="en-US" sz="1100" spc="-1" strike="noStrike">
                <a:solidFill>
                  <a:srgbClr val="46464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1094-A870-47EE-ACB2-1A5160F78955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C549-9EA6-488D-8C3D-653B792FB373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BD6D-E156-4A41-95FF-1195DC54C615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dt" idx="1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DF85-7887-4B92-9AAD-6513DDA46EFB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D123-C2E9-494C-8E9A-84ACCF129BE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C9DA-045A-462F-AC4B-55ACFF63E374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Заголовок 1" descr=""/>
          <p:cNvPicPr/>
          <p:nvPr/>
        </p:nvPicPr>
        <p:blipFill>
          <a:blip r:embed="rId1"/>
          <a:stretch/>
        </p:blipFill>
        <p:spPr>
          <a:xfrm>
            <a:off x="781200" y="2048040"/>
            <a:ext cx="8143560" cy="2073240"/>
          </a:xfrm>
          <a:prstGeom prst="rect">
            <a:avLst/>
          </a:prstGeom>
          <a:ln w="0">
            <a:noFill/>
          </a:ln>
        </p:spPr>
      </p:pic>
      <p:pic>
        <p:nvPicPr>
          <p:cNvPr id="692" name="Рисунок 3" descr="C:\Documents and Settings\Учёба\Рабочий стол\Рисунки\Новый рисунок.bmp"/>
          <p:cNvPicPr/>
          <p:nvPr/>
        </p:nvPicPr>
        <p:blipFill>
          <a:blip r:embed="rId2"/>
          <a:stretch/>
        </p:blipFill>
        <p:spPr>
          <a:xfrm>
            <a:off x="0" y="0"/>
            <a:ext cx="3336840" cy="314172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3203640" y="4724280"/>
            <a:ext cx="576108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полнили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Попова Еле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ойко Викто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осенко Нат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уководитель: учители химии Филина Н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95280" y="6206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олекула воды имеет угловую форму: атомы водорода по отношению к кислороду образуют угол, равный 104,5°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Н       Н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 жидкой воде наряду с обычными молекулами Н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 содержатся ассоциированные молекулы, т.е. соединённые в более сложные агрегаты (Н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)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nstantia"/>
              </a:rPr>
              <a:t>х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, благодаря образованию водородных связей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аличием водородных связей между молекулами воды объясняются аномалии её физических свойств;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максимальная плотность при 4°С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высокая температура кипения (в ряду Н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 – Н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– Н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H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e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)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аномально высокая теплоёмкость [4,18 кДж/(г·К]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с повышением температуры водородные связи разрываются, и полный разрыв их наступает при переходе воды в пар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711" name="Группа 8"/>
          <p:cNvGrpSpPr/>
          <p:nvPr/>
        </p:nvGrpSpPr>
        <p:grpSpPr>
          <a:xfrm>
            <a:off x="3059280" y="1628640"/>
            <a:ext cx="504720" cy="144720"/>
            <a:chOff x="3059280" y="1628640"/>
            <a:chExt cx="504720" cy="144720"/>
          </a:xfrm>
        </p:grpSpPr>
        <p:sp>
          <p:nvSpPr>
            <p:cNvPr id="712" name="Прямая соединительная линия 4"/>
            <p:cNvSpPr/>
            <p:nvPr/>
          </p:nvSpPr>
          <p:spPr>
            <a:xfrm flipH="1">
              <a:off x="3059280" y="1628640"/>
              <a:ext cx="144000" cy="144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Прямая соединительная линия 6"/>
            <p:cNvSpPr/>
            <p:nvPr/>
          </p:nvSpPr>
          <p:spPr>
            <a:xfrm>
              <a:off x="3420000" y="1628640"/>
              <a:ext cx="144000" cy="144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7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7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468360" y="10526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ода – весьма реакционноспособное вещество. При обычных условиях она взаимодействует со многими основными и кислотными оксидами, а также со щёлочными и щёлочно-земельными металлами, например,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+ N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 = 2NaO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 + S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=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 + Li = 2LiOH + H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 + Ca = Ca(OH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+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ода образует многочисленные соединения – гидраты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r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ристаллогидраты). Например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 + 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=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4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·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 + NaOH = NaOH ·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10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 + N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= N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3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· 10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+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uSO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Constanti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uSO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Constantia"/>
              </a:rPr>
              <a:t>4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· 5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чевидно, соединения, связывающие воду, могут служить в качестве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onstantia"/>
              </a:rPr>
              <a:t>осушителей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.  Из других осушающих веществ можно указать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Constantia"/>
              </a:rPr>
              <a:t>5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,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aO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BaO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, металлический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Na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(они тоже  химически взаимодействуют с водой), а также силикагель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15" name="Заголовок 2" descr=""/>
          <p:cNvPicPr/>
          <p:nvPr/>
        </p:nvPicPr>
        <p:blipFill>
          <a:blip r:embed="rId2"/>
          <a:stretch/>
        </p:blipFill>
        <p:spPr>
          <a:xfrm>
            <a:off x="268200" y="347760"/>
            <a:ext cx="84376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да, содержащая тяжёлый водород, называется тяжёлой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дой (обозначается формулой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). Как это видно из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опоставления физических свойств, она отличается от обычной воды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D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O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H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олекулярная масса......................... 20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18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лотность при 20°С,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Constantia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............. 1,1050             0,998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Температура кристаллизации,°С.....3,8                     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Температура кипения, °С................ 101,4                  10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17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Химические реакции с тяжёлой водой протекают значительно медленнее, чем с обычной водой. Поэтому она при длительном электролизе обычной воды накапливается в электролизер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Тяжёлая вода применяется в качестве замедлителя нейтронов в ядерных реакторах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Заголовок 1" descr=""/>
          <p:cNvPicPr/>
          <p:nvPr/>
        </p:nvPicPr>
        <p:blipFill>
          <a:blip r:embed="rId1"/>
          <a:stretch/>
        </p:blipFill>
        <p:spPr>
          <a:xfrm>
            <a:off x="536400" y="237960"/>
            <a:ext cx="7248600" cy="72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1" name=""/>
          <p:cNvGraphicFramePr/>
          <p:nvPr/>
        </p:nvGraphicFramePr>
        <p:xfrm>
          <a:off x="468360" y="1052640"/>
          <a:ext cx="7238880" cy="515772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  <a:gridCol w="1809720"/>
              </a:tblGrid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твор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вет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адок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од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27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ИОНА ЖЕЛЕ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ный раствор хлорида железа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ая окраск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с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в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/ц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он железа отсутствуе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иона каль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ся помутне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в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ся помут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он кальция содержи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59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ИОНА ХЛОРА              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ный раствор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ся помут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ёрдый остат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48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в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/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он хлора отсутству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Заголовок 1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254720" cy="117648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 txBox="1"/>
          <p:nvPr/>
        </p:nvSpPr>
        <p:spPr>
          <a:xfrm>
            <a:off x="468360" y="1628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6464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В водопроводной воде, потребляемой жителями г. Лыткарино, содержится некарбонатная (постоянная) жёсткость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странение: добавление питьевой соды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464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«Природный пакет». Комитет по природопользованию, охране окружающей  среды и обеспечению экологической безопасности Санкт-Петербург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«Химия» и «Общество» под редакцией М. Ю. Гололобова,  М. Г. Гольдфельда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Книга для чтении по неорганической химии. Составитель В. А. Крицман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«ЭКОЛОГИЯ  ПОДМОСКОВЬЯ» .  Е. В.  Брызгалина и др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Пособие по химии (для поступающих в ВУЗы). Г. П. Хомченко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1908000" y="1557360"/>
            <a:ext cx="5483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Введени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Проблем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Цель работы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Как экономить воду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Кто загрязняет воду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Историческая справка о воде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Физические свойств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Химические свойств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Тяжелая вод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Исследовани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Подводим итоги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Литература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95" name="Заголовок 1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чистка на одних и тех же сооружениях промышленных и коммуникально-бытовых сточных вод. В результате плохо очищаются и те и други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олее одного миллиарда человек на Земле не имеют доступа к качественной вод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чти два с половиной миллиарда человек живут в антисанитарных условиях, без водопровода и канализации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 прогнозам с 2009 г. две трети населения планеты столкнётся с нехваткой пресной воды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97" name="Заголовок 2" descr=""/>
          <p:cNvPicPr/>
          <p:nvPr/>
        </p:nvPicPr>
        <p:blipFill>
          <a:blip r:embed="rId2"/>
          <a:stretch/>
        </p:blipFill>
        <p:spPr>
          <a:xfrm>
            <a:off x="341280" y="487440"/>
            <a:ext cx="84376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Осознать важность воды для человека и человечества.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Показать, как с помощью простых действий можно экономить.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Дать сведения о загрязнении воды и разработать навыки её экономного использования дома.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Расширить знания о физических и химических свойствах воды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699" name="Заголовок 2" descr=""/>
          <p:cNvPicPr/>
          <p:nvPr/>
        </p:nvPicPr>
        <p:blipFill>
          <a:blip r:embed="rId2"/>
          <a:stretch/>
        </p:blipFill>
        <p:spPr>
          <a:xfrm>
            <a:off x="324000" y="487440"/>
            <a:ext cx="84549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1. Своевременно качественно ремонтировать трубопроводы, чтобы сократить потери воды от утечек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2. Использовать в сельском хозяйстве капельный метод орошения. Это способствует наиболее эффективному способу использования воды и сокращает её потери от испарени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3. Повсеместно иметь сооружения для качественной очистки сточных вод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4. Ввести, где возможно, оборотное водоснабжение, которое уже введено и хорошо себя зарекомендовало на ряде промышленных предприятий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01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Основная проблема – это моющие средства, (стиральные и чистящие) порошки для чистки и уборки. Эти химические соединения смешиваются с другими бытовыми сточными водами. Особую опасность составляют нефтепродукты. Слив их в канализацию, на землю или в водоём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НЕДОПУСТИМ.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03" name="Заголовок 2" descr=""/>
          <p:cNvPicPr/>
          <p:nvPr/>
        </p:nvPicPr>
        <p:blipFill>
          <a:blip r:embed="rId2"/>
          <a:stretch/>
        </p:blipFill>
        <p:spPr>
          <a:xfrm>
            <a:off x="268200" y="347760"/>
            <a:ext cx="84376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539640" y="20606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Французский химик  П. Макер (1718 – 1784 г.г.) получил воду в 1775 г. при сгорании небольшого количества водород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. Блек (1728 – 1799 г. г.) впервые высказал мысль о сложном составе вод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05" name="Заголовок 2" descr=""/>
          <p:cNvPicPr/>
          <p:nvPr/>
        </p:nvPicPr>
        <p:blipFill>
          <a:blip r:embed="rId2"/>
          <a:stretch/>
        </p:blipFill>
        <p:spPr>
          <a:xfrm>
            <a:off x="268200" y="560520"/>
            <a:ext cx="84376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Вода – оксид водорода – одно из наиболее распространённых и важных веществ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Поверхность Земли, занятая водой, в 2,5 раза больше поверхности суши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Вода содержит примеси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Состав воды (по массе): 11,19% водорода и 88,81% кислорода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Чистая вода прозрачна, не имеет запаха и вкуса. Наибольшую плотность она имеет при О°С (1 г/см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Вода замерзает при 0°С  и кипит при 100°С при давлении 101 325 Па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Она плохо  проводит теплоту и очень плохо проводит электричество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Вода – хороший растворитель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9" name="Прямоугольник 3"/>
          <p:cNvSpPr/>
          <p:nvPr/>
        </p:nvSpPr>
        <p:spPr>
          <a:xfrm>
            <a:off x="1627200" y="550800"/>
            <a:ext cx="409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Физические свойства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Филин</dc:creator>
  <dc:description/>
  <dc:language>en-US</dc:language>
  <cp:lastModifiedBy>User</cp:lastModifiedBy>
  <dcterms:modified xsi:type="dcterms:W3CDTF">2013-03-26T05:54:45Z</dcterms:modified>
  <cp:revision>20</cp:revision>
  <dc:subject/>
  <dc:title>Проект по биологии на тему: «Вода – основа жизни:</dc:title>
</cp:coreProperties>
</file>