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38A-26BA-41C2-9445-2C67DB4D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D0E-DA62-4AAE-A443-307C5217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5142-8C2A-4584-8347-7929DD29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588-81F6-42F3-8587-2CDDB371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62F90-0087-4ACB-AFAA-2D8FA231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59C86-7252-4906-AB1D-172CD08D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EB942-2C32-43BD-BBB0-18BDD351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8AFFA-A1AE-47B0-9C84-F81705E8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F2F80-3DD2-4E92-B896-A80CCC02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BA35A-97E1-4AAE-88C6-A4E3C4E1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02466-487C-4C9D-BB4E-940C420D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E69-27AE-4FCF-B6A6-E6631ECC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31E2A-DF55-4BD7-BD26-C622F226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34202-D39B-419A-B28E-DF6C7A41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AF963-D93F-4F4E-908C-B06EEB5E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DFE00-51B9-4767-9737-0FEF734C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CE9A7-4130-466A-9DC9-30326FDF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C18A3-C520-49A8-B25E-651C76E3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5AB8D-6325-4A01-95B6-A4B0790D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8BD0D-C90C-4126-B9BA-8C9CB2A1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36EF1-9B8E-4BD6-9D0C-A8EBEF24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B0CBE-B07E-481F-8D96-76D37ACD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08B-3F6F-4CC1-8C10-9AF71189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0D848-A160-49B9-8FC6-82C27B17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1C578-F61B-4F9D-8618-14289770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CEA7C-B655-4D1C-B725-57966F80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A69DA-87AC-4DF7-A6B1-ACD29F6D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F86AD-DE1C-43E1-B99D-714B6C28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5D828-BBE3-4822-8D59-6272F38E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B0BBC-2D91-4F39-A835-DCBD96F3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A2A82-0128-42A9-BF86-358470A0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CC366-40A4-402A-9A8F-6A3FF51B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7D06F-1C3C-48DD-9164-12A20973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DA2-0563-47E6-80A8-02C4A37F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EFAF8-7E18-42DD-A1AD-8C349259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3C6FA-1C9E-49FF-B0B1-A18649B8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277F9-2699-4A02-B98E-0F87E287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0873E-265F-40DB-A350-5DEE75AE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A8162-6A53-42FD-B7E4-127726DF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45BF7-61BD-4AB0-8B2C-72C8D4C0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41391-9B38-4221-BA22-5DF28141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16B48-1C89-4FD7-A53F-315217EE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DF8AE-EBC7-42F5-8EF6-C3443AD1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56A86-C3B5-4F48-BEB3-89404573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A0A-68B3-41A3-A731-356C138E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E80DC-6FB4-4DEE-BE7F-2AD237F1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BD892-5730-439E-9CB8-AE1C6DC8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1F323-4084-489C-B808-81360E66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CCD60-B81D-4277-9EA3-AA563ED0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12A81-258A-464F-BBB3-A9F85E93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FC25D-17B9-4410-B6FB-235FC3DA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ACF0D-ADAF-4D42-B89F-927C82BB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E8170-6D81-474D-9DDC-D3C84AD1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2317A-2FA2-411A-8252-31E2C657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28AA6-861B-45AD-87E9-B80B1A4B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163-4EF1-40D6-B8AC-2805871E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9B66E-8372-441F-B848-82B390F7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8C54B-1BFC-4872-8C7E-DD2F8AB0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7290D-C208-4784-B77A-8F5D4923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4009B-CEC4-4EA3-BCF1-8E63CC3D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366A3-8A72-4177-9698-08AC067B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68507-AF1B-491E-8AAD-A61C1683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1C79C-40E9-48D1-911F-85F2D150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C1CA4-2286-4633-ACF0-B32AE276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25EC5-5AF4-403E-863D-B3DD56BB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C2BBA-4A34-4163-A84C-D4239A8D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412-F3C5-4496-83E9-05FF8A54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233FD-DB85-42BB-8EFF-179DC3A4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E659B-41A2-475B-A73A-8093C000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9E394-B280-4983-972B-7816AB58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2479D-D08F-4F36-8D3A-C0494ACF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71C0E-8485-48D3-BCDB-E3A190EA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5795F-2E37-43CB-88A4-1D58CAA0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D1B9D-213C-41F5-9123-F060E0E5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4FECC-5116-49AB-BFDE-402BF997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17041-FB1C-4B4C-BFCC-61A038F2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FFE30-526D-4F11-B4A5-9657929B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F801-EB62-4CE6-B706-D631B182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8F21A-F287-4455-BC17-9982A6E6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34680-D5E1-465E-9C4C-B8188641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7F3F9-8394-4C98-A383-D691437B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F8A90-820C-42DD-B196-C9D30837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449EA-259D-4039-8F09-3AB7B1DF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9685F-8A46-47CD-B992-DF3AC2D5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E8D20-BC63-4762-BE75-D60063B3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B6272-8E71-4999-898C-24E93771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1CA92-0AA9-4F63-A85C-0264B56A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10A17-BC52-4902-BF00-51D220A9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A31-93DF-462D-B854-A2D87309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377AA-2D94-4B82-B54F-7A349447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75217-2F56-4232-86D5-7E07F02B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49D01-131E-4021-86A4-EBD018B8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ADD92-5C4E-463C-89D6-D2C03982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B6427-262B-42A7-99CA-C0390773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2CDBC-D659-439B-9147-86257C6B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8B553-6C4C-4945-BC9E-E372F13A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C2E5-7AE6-4AFA-8C3B-E6D807145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DF50-2697-4FF1-8C0D-18C6D7840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4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709B-C550-484C-9C50-F2F63B992A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10CA-162A-4D7D-BF14-68FB8A2A8B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5E12-2DE2-4CE4-B5C5-526E8E36B7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1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1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2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7E6D-AED1-44CB-980B-15DCBCFAA1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6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683C-E398-441E-9416-03FECFD3D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1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801B-E489-4175-A28B-C7D55A97F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6280" y="1557000"/>
            <a:ext cx="76201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ект по социально-эмоциональному развитию детей 2 младшей групп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ыполнила: Меркушева Татьяна Викторов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оспитатель 2 младшей группы, МБСКОУ СКОШ №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Литератур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нязева О. Л., Стеркина Р. Б. «Я, ты, мы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бно-методическое пособие по социаль­но-эмоциональному развитию детей дошкольного возрас­та.— М.: Дрофа, ДиК, 1999.— 128 с. — (Маленький чело­век и большой мир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юкова С.В., Слободяник Н.П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Удивляюсь, злюсь, боюсь, хвастаюсь и радуюсь». Программы эмоционального развития детей дошкольного и младшего школьного возраста: Практическое пособие — М.: Генезис. 2002. — 208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РОЖДЕНИЯ ДО ШКОЛЫ. Основная общеобразовательная программа дошкольного образова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/ Под ред. Н. Е. Вераксы, Т. С. Комаровой, М. А. Васильевой. - М.: МОЗАИКА-СИНТЕЗ, 2010. - 304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гов Е.И. Настольная книга практического психолога в образовании: Учебное пособие. - М.: ВЛАДОС. – 1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збука воспита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тавитель: Г. Перегиб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мов Р.С. Психология. - Кн.II. Психология образования. - М.: Просвещение. - 199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дреева Т.В. Семейная психология: Учебное пособие. – СПб.: Речь,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яснительная запис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0760" y="2356920"/>
            <a:ext cx="777708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Многие годы дошкольное образование в России было ориентировано на познавательное развитие детей. Но на мой взгляд важнее акцентировать внимание родителей и педагогов на становление базовых свойств личности ребёнка: самооценки и образа «Я», эмоционально-потребностной сферы, нравственных ценностей и установок, а так же социально-психологических особенностей в системе отношений с другими людьми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Современные научные данные убедительно показывают, что результаты положительного социально – эмоционального детского опыта обеспечивают основу для позитивной самореализации растущей личности. Преимущественно негативный  социально – эмоциональный опыт, напротив, развивает недоверие к миру, провоцирует  агрессивные тенденции, что приводит к девиантному социальному поведению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Цели и задачи проек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    Создать комфортные условия, обеспечивающие целостное развитие личности  ребенка дошкольника в условиях дошкольного учрежд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.            Создать модель целостной воспитательной среды для полноценного социально – эмоционального развития ребен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.   Подобрать, разработать, систематизировать методы, средства, формы организации  работы  с детьми, обеспечивающие социально-эмоциональное развит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.              Установить субъект субъектные взаимоотношения  между участниками  образовательного  процесс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Структурными компонентами социально-эмоционального развития являются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68360" y="177336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just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ормирован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ожительного  самоощущения ребенка в любых жизненных ситуация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витие понимания ребенком своих индивидуальных внешних и внутренних особенностей (пола, возраста, внешнего вида, способностей, желаний, интересов, потребностей) и осознание своей уникальности (положительный образ - 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витие уверенного поведения (умение выражать желания и требования, проявить волю, принять собственное решение, делать выбор) и навыков регуляции своего пове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ожительное отношение ребенка  к окружающим людям независимо от их возраста, пола, национальности, социального происхож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витие социальных навыков, а именно: осознание и осваивание различных социально – приемлемых способов разрешения конфликтных ситуаций, умений договориться, ориентируясь на правила этикета и безопасности,  способность  установить дружеские взаимоотношения и новые контак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ект включает в себ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с родителя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с деть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с педаг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40000" y="285480"/>
            <a:ext cx="72864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бота с родителя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03600" y="1962000"/>
            <a:ext cx="7489800" cy="3900600"/>
            <a:chOff x="903600" y="1962000"/>
            <a:chExt cx="7489800" cy="3900600"/>
          </a:xfrm>
        </p:grpSpPr>
        <p:sp>
          <p:nvSpPr>
            <p:cNvPr id="376" name="_s32786"/>
            <p:cNvSpPr/>
            <p:nvPr/>
          </p:nvSpPr>
          <p:spPr>
            <a:xfrm flipH="1" flipV="1">
              <a:off x="2794680" y="3735360"/>
              <a:ext cx="930600" cy="16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_s32785"/>
            <p:cNvSpPr/>
            <p:nvPr/>
          </p:nvSpPr>
          <p:spPr>
            <a:xfrm>
              <a:off x="903600" y="3051720"/>
              <a:ext cx="1942200" cy="1049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Консультации дл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родителе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_s32784"/>
            <p:cNvSpPr/>
            <p:nvPr/>
          </p:nvSpPr>
          <p:spPr>
            <a:xfrm flipH="1">
              <a:off x="3499560" y="4485960"/>
              <a:ext cx="579960" cy="42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_s32783"/>
            <p:cNvSpPr/>
            <p:nvPr/>
          </p:nvSpPr>
          <p:spPr>
            <a:xfrm>
              <a:off x="1963800" y="4813200"/>
              <a:ext cx="1942200" cy="1049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Работа с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учебны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наглядны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особи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_s32782"/>
            <p:cNvSpPr/>
            <p:nvPr/>
          </p:nvSpPr>
          <p:spPr>
            <a:xfrm>
              <a:off x="5217480" y="4484160"/>
              <a:ext cx="573120" cy="42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_s32781"/>
            <p:cNvSpPr/>
            <p:nvPr/>
          </p:nvSpPr>
          <p:spPr>
            <a:xfrm>
              <a:off x="5391360" y="4813200"/>
              <a:ext cx="1942200" cy="1049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Индивидуаль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бесе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_s32780"/>
            <p:cNvSpPr/>
            <p:nvPr/>
          </p:nvSpPr>
          <p:spPr>
            <a:xfrm flipV="1">
              <a:off x="5568120" y="3737160"/>
              <a:ext cx="93132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_s32779"/>
            <p:cNvSpPr/>
            <p:nvPr/>
          </p:nvSpPr>
          <p:spPr>
            <a:xfrm>
              <a:off x="6451200" y="3051720"/>
              <a:ext cx="1942200" cy="1049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Совместн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деятельно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_s32778"/>
            <p:cNvSpPr/>
            <p:nvPr/>
          </p:nvSpPr>
          <p:spPr>
            <a:xfrm flipV="1">
              <a:off x="4646880" y="3009960"/>
              <a:ext cx="0" cy="5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_s32777"/>
            <p:cNvSpPr/>
            <p:nvPr/>
          </p:nvSpPr>
          <p:spPr>
            <a:xfrm>
              <a:off x="3677400" y="1962000"/>
              <a:ext cx="1942200" cy="1049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Родительск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собра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_s32776"/>
            <p:cNvSpPr/>
            <p:nvPr/>
          </p:nvSpPr>
          <p:spPr>
            <a:xfrm>
              <a:off x="3677400" y="3539160"/>
              <a:ext cx="1942200" cy="1049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Форм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взаимодейств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с роди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3520" y="230040"/>
            <a:ext cx="71532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бота с деть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181160" y="1847880"/>
            <a:ext cx="6779880" cy="4281480"/>
            <a:chOff x="1181160" y="1847880"/>
            <a:chExt cx="6779880" cy="4281480"/>
          </a:xfrm>
        </p:grpSpPr>
        <p:sp>
          <p:nvSpPr>
            <p:cNvPr id="389" name="_s34859"/>
            <p:cNvSpPr/>
            <p:nvPr/>
          </p:nvSpPr>
          <p:spPr>
            <a:xfrm flipV="1">
              <a:off x="4571280" y="2959200"/>
              <a:ext cx="0" cy="55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_s34858"/>
            <p:cNvSpPr/>
            <p:nvPr/>
          </p:nvSpPr>
          <p:spPr>
            <a:xfrm>
              <a:off x="3708000" y="1847880"/>
              <a:ext cx="1726560" cy="11113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Художественно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творчеств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_s34857"/>
            <p:cNvSpPr/>
            <p:nvPr/>
          </p:nvSpPr>
          <p:spPr>
            <a:xfrm flipV="1">
              <a:off x="5246280" y="3376800"/>
              <a:ext cx="677160" cy="34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_s34856"/>
            <p:cNvSpPr/>
            <p:nvPr/>
          </p:nvSpPr>
          <p:spPr>
            <a:xfrm>
              <a:off x="5734800" y="2475360"/>
              <a:ext cx="1725840" cy="11113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Игров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деятельно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_s34855"/>
            <p:cNvSpPr/>
            <p:nvPr/>
          </p:nvSpPr>
          <p:spPr>
            <a:xfrm>
              <a:off x="5412240" y="4194000"/>
              <a:ext cx="845640" cy="12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_s34843"/>
            <p:cNvSpPr/>
            <p:nvPr/>
          </p:nvSpPr>
          <p:spPr>
            <a:xfrm>
              <a:off x="6235200" y="3886560"/>
              <a:ext cx="1725840" cy="11113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Рассматривани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иллюстраций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_s34854"/>
            <p:cNvSpPr/>
            <p:nvPr/>
          </p:nvSpPr>
          <p:spPr>
            <a:xfrm>
              <a:off x="4946040" y="4571280"/>
              <a:ext cx="376920" cy="50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_s34841"/>
            <p:cNvSpPr/>
            <p:nvPr/>
          </p:nvSpPr>
          <p:spPr>
            <a:xfrm>
              <a:off x="4834440" y="5018040"/>
              <a:ext cx="1725840" cy="11113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Развити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реч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_s34853"/>
            <p:cNvSpPr/>
            <p:nvPr/>
          </p:nvSpPr>
          <p:spPr>
            <a:xfrm flipH="1">
              <a:off x="3822840" y="4571280"/>
              <a:ext cx="374400" cy="50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_s34836"/>
            <p:cNvSpPr/>
            <p:nvPr/>
          </p:nvSpPr>
          <p:spPr>
            <a:xfrm>
              <a:off x="2584800" y="5018040"/>
              <a:ext cx="1726560" cy="11113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Наблюдени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_s34852"/>
            <p:cNvSpPr/>
            <p:nvPr/>
          </p:nvSpPr>
          <p:spPr>
            <a:xfrm flipH="1">
              <a:off x="2887920" y="4194000"/>
              <a:ext cx="843120" cy="12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_s34834"/>
            <p:cNvSpPr/>
            <p:nvPr/>
          </p:nvSpPr>
          <p:spPr>
            <a:xfrm>
              <a:off x="1181160" y="3886560"/>
              <a:ext cx="1726560" cy="11113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Чтени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художественной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литературы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_s34851"/>
            <p:cNvSpPr/>
            <p:nvPr/>
          </p:nvSpPr>
          <p:spPr>
            <a:xfrm flipH="1" flipV="1">
              <a:off x="3219120" y="3378600"/>
              <a:ext cx="680400" cy="34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_s34832"/>
            <p:cNvSpPr/>
            <p:nvPr/>
          </p:nvSpPr>
          <p:spPr>
            <a:xfrm>
              <a:off x="1681560" y="2475360"/>
              <a:ext cx="1725840" cy="11113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Театрализованн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деятельно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_s34830"/>
            <p:cNvSpPr/>
            <p:nvPr/>
          </p:nvSpPr>
          <p:spPr>
            <a:xfrm>
              <a:off x="3708000" y="3516840"/>
              <a:ext cx="1726560" cy="11113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Формы, средства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работы с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детьм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бота с педагог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361960" y="2060640"/>
            <a:ext cx="5140080" cy="4268160"/>
            <a:chOff x="2361960" y="2060640"/>
            <a:chExt cx="5140080" cy="4268160"/>
          </a:xfrm>
        </p:grpSpPr>
        <p:sp>
          <p:nvSpPr>
            <p:cNvPr id="406" name="_s101388"/>
            <p:cNvSpPr/>
            <p:nvPr/>
          </p:nvSpPr>
          <p:spPr>
            <a:xfrm flipH="1">
              <a:off x="3692160" y="5014800"/>
              <a:ext cx="61956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_s101387"/>
            <p:cNvSpPr/>
            <p:nvPr/>
          </p:nvSpPr>
          <p:spPr>
            <a:xfrm>
              <a:off x="2361960" y="5014800"/>
              <a:ext cx="1429200" cy="1314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Совместно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овед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развлечен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_s101386"/>
            <p:cNvSpPr/>
            <p:nvPr/>
          </p:nvSpPr>
          <p:spPr>
            <a:xfrm>
              <a:off x="5550120" y="5017320"/>
              <a:ext cx="61956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_s101385"/>
            <p:cNvSpPr/>
            <p:nvPr/>
          </p:nvSpPr>
          <p:spPr>
            <a:xfrm>
              <a:off x="6072840" y="5014800"/>
              <a:ext cx="1429200" cy="1314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Открыт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занят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_s101384"/>
            <p:cNvSpPr/>
            <p:nvPr/>
          </p:nvSpPr>
          <p:spPr>
            <a:xfrm flipV="1">
              <a:off x="4932000" y="3374280"/>
              <a:ext cx="0" cy="65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_s101383"/>
            <p:cNvSpPr/>
            <p:nvPr/>
          </p:nvSpPr>
          <p:spPr>
            <a:xfrm>
              <a:off x="4217040" y="2060640"/>
              <a:ext cx="1429560" cy="1314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консультац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_s101382"/>
            <p:cNvSpPr/>
            <p:nvPr/>
          </p:nvSpPr>
          <p:spPr>
            <a:xfrm>
              <a:off x="4217040" y="4031640"/>
              <a:ext cx="1429560" cy="1313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Формы 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мето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взаимодейств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с педагога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в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402920" y="206064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д младшим дошкольным возрастом мы понимаем благодатный период для организации работы по эмоциональному развитию детей. Младший дошкольник очень впечатлителен, открыт для усвоения социальных и культурных ценностей, стремится к признанию себя среди других людей. У него ярко прослеживается неотделимость эмоций от процессов восприятия, мышления, вообра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д эмоциональным развитием младших дошкольников мы понимаем целенаправленный педагогический процесс, тесно связанный с личностным развитием детей, с процессом их социализации и творческой самореализации, введением в мир культуры межличностных отношений, усвоением культурных ценнос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  средствам эмоционального развития младших дошкольников относятся: развивающая среда, игра, музыка, детское художественное творчество, художественная литерату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2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3:54:01Z</dcterms:created>
  <dc:creator>Admin</dc:creator>
  <dc:description/>
  <dc:language>en-US</dc:language>
  <cp:lastModifiedBy>Admin</cp:lastModifiedBy>
  <dcterms:modified xsi:type="dcterms:W3CDTF">2013-09-22T13:15:53Z</dcterms:modified>
  <cp:revision>13</cp:revision>
  <dc:subject/>
  <dc:title>Проект по социально-эмоциональному развитию детей 2 младшей группы</dc:title>
</cp:coreProperties>
</file>