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DD2F-A25E-49F0-B4F4-8822F2AC49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9BD3-0233-4622-ABB4-59DCDE8675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84F3-8BFF-4C34-BB75-235A312463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75E5-FE09-4900-80AE-09582F62AD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61FA-4C19-4F73-8CE0-00A64B1BF1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0F34-9E4D-4CB8-9C4B-3B806D0B63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3246-79A6-4E6B-AB03-F7F7CA21F4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FF5A-A522-47C1-B143-E06C188A6E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2B5F-6753-4ECD-BBD5-F35E757A7D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515F-34F2-46A6-AC49-232B018862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A924-9818-43A0-A143-0554C057CA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97F3-296C-473C-A6E0-6FF36595FB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E9D4-887A-4DCB-9664-AB0E502B80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DB39-26DD-4CBB-AE29-1CE38FF982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BAFE-1780-4142-9048-C51AFF6F2A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E692-4176-45EB-AEAE-EB1468FB4F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4736-761B-4E9F-944D-42B4267693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05F4-96E6-4C6E-A75B-5F7C502E03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E4D5-4543-4FCF-A2B4-8117A9BD5F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6705-19A5-4474-A6CA-2CEB1E3F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CC5D-E93B-4F89-9DEC-375F47D0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66AC-949A-458B-A601-D1AE536B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0E56-3BC8-4E03-AC62-55E3B891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1007-7CA7-4C4F-B401-E467941D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F0C6-4A4D-4ACA-B9C4-40D666C8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F657-71D0-487E-AA2B-6F9D3A22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5488-6033-4F27-9569-3E1326D8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9B97-7D57-44B6-A536-FD941351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3D44-9524-40A4-889C-A1BC0EE0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9F31-1FDA-4C4B-AA52-1CE46726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022-4827-4F60-92F8-05573123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5D47-94C5-4D2C-98C4-4B2D6BB0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FC60-8940-46BB-8D4C-38F7D5AD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B206-CA4E-4F12-8892-995FC376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055A-B070-4380-AF31-9A9A1B3E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BD2A-4BB3-4CE3-B3E2-6BF2744A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414-2952-4B7F-82BB-70F80B72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B3A-04AD-43DD-AAAC-9CC1B5E9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2B2-B242-470C-8B64-DE8938D6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3390-1E59-49EE-B72D-129A7AD8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F08-97D8-471B-B5CA-D6C5F5DF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200-4A10-4CBF-A9D9-A756E8CC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A8A-FC57-4F81-9BA0-0F0B1F88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7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1B98-886B-4A3B-93C1-D76565CEE8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7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EA12-E6C3-4314-A4D2-06DF60A021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205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a00"/>
                </a:solidFill>
                <a:latin typeface="Bookman Old Style"/>
              </a:rPr>
              <a:t>      </a:t>
            </a:r>
            <a:br>
              <a:rPr sz="4400"/>
            </a:br>
            <a:r>
              <a:rPr b="0" lang="ru-RU" sz="4400" spc="-1" strike="noStrike">
                <a:solidFill>
                  <a:srgbClr val="002a00"/>
                </a:solidFill>
                <a:latin typeface="Bookman Old Style"/>
              </a:rPr>
              <a:t> </a:t>
            </a:r>
            <a:r>
              <a:rPr b="1" lang="ru-RU" sz="4000" spc="-1" strike="noStrike">
                <a:solidFill>
                  <a:srgbClr val="6a4810"/>
                </a:solidFill>
                <a:latin typeface="Bookman Old Style"/>
              </a:rPr>
              <a:t>Редкие и исчезающие </a:t>
            </a:r>
            <a:br>
              <a:rPr sz="4000"/>
            </a:br>
            <a:r>
              <a:rPr b="1" lang="ru-RU" sz="4000" spc="-1" strike="noStrike">
                <a:solidFill>
                  <a:srgbClr val="6a4810"/>
                </a:solidFill>
                <a:latin typeface="Bookman Old Style"/>
              </a:rPr>
              <a:t>виды растений</a:t>
            </a:r>
            <a:br>
              <a:rPr sz="4000"/>
            </a:br>
            <a:br>
              <a:rPr sz="4000"/>
            </a:br>
            <a:r>
              <a:rPr b="1" lang="ru-RU" sz="3400" spc="-1" strike="noStrike">
                <a:solidFill>
                  <a:srgbClr val="6a4810"/>
                </a:solidFill>
                <a:latin typeface="Bookman Old Style"/>
              </a:rPr>
              <a:t>Группа «Ботаники»</a:t>
            </a:r>
            <a:endParaRPr b="1" lang="en-US" sz="3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8" name="Picture 3" descr="сканирование0023"/>
          <p:cNvPicPr/>
          <p:nvPr/>
        </p:nvPicPr>
        <p:blipFill>
          <a:blip r:embed="rId1"/>
          <a:stretch/>
        </p:blipFill>
        <p:spPr>
          <a:xfrm>
            <a:off x="6324480" y="4581360"/>
            <a:ext cx="2424240" cy="2048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сканирование0022"/>
          <p:cNvPicPr/>
          <p:nvPr/>
        </p:nvPicPr>
        <p:blipFill>
          <a:blip r:embed="rId2"/>
          <a:stretch/>
        </p:blipFill>
        <p:spPr>
          <a:xfrm>
            <a:off x="324000" y="4581360"/>
            <a:ext cx="2342880" cy="198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сканирование0026"/>
          <p:cNvPicPr/>
          <p:nvPr/>
        </p:nvPicPr>
        <p:blipFill>
          <a:blip r:embed="rId3"/>
          <a:stretch/>
        </p:blipFill>
        <p:spPr>
          <a:xfrm>
            <a:off x="304920" y="152280"/>
            <a:ext cx="2252520" cy="1676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сканирование0032"/>
          <p:cNvPicPr/>
          <p:nvPr/>
        </p:nvPicPr>
        <p:blipFill>
          <a:blip r:embed="rId4"/>
          <a:stretch/>
        </p:blipFill>
        <p:spPr>
          <a:xfrm>
            <a:off x="6705720" y="152280"/>
            <a:ext cx="21333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9423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a00"/>
                </a:solidFill>
                <a:latin typeface="Bookman Old Style"/>
              </a:rPr>
              <a:t>Пион молочноцветковы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640" y="5516640"/>
            <a:ext cx="8136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a4810"/>
                </a:solidFill>
                <a:uFillTx/>
                <a:latin typeface="Times New Roman"/>
              </a:rPr>
              <a:t>Пион </a:t>
            </a:r>
            <a:r>
              <a:rPr b="1" lang="ru-RU" sz="1800" spc="-1" strike="noStrike">
                <a:solidFill>
                  <a:srgbClr val="6a4810"/>
                </a:solidFill>
                <a:latin typeface="Times New Roman"/>
              </a:rPr>
              <a:t>- произрастает в зарослях дуба по склонам сопок, по берегам рек. Растёт одиночно и группами. Растение занесено в Красную книгу</a:t>
            </a:r>
            <a:r>
              <a:rPr b="0" lang="ru-RU" sz="1800" spc="-1" strike="noStrike">
                <a:solidFill>
                  <a:srgbClr val="6a481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сканирование0030"/>
          <p:cNvPicPr/>
          <p:nvPr/>
        </p:nvPicPr>
        <p:blipFill>
          <a:blip r:embed="rId1"/>
          <a:stretch/>
        </p:blipFill>
        <p:spPr>
          <a:xfrm>
            <a:off x="2771640" y="1700280"/>
            <a:ext cx="3600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03040" y="277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6d18"/>
                </a:solidFill>
                <a:latin typeface="Garamond"/>
              </a:rPr>
              <a:t>Причины исчезновения </a:t>
            </a:r>
            <a:br>
              <a:rPr sz="4800"/>
            </a:br>
            <a:r>
              <a:rPr b="1" lang="ru-RU" sz="4800" spc="-1" strike="noStrike">
                <a:solidFill>
                  <a:srgbClr val="a26d18"/>
                </a:solidFill>
                <a:latin typeface="Garamond"/>
              </a:rPr>
              <a:t>               растений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Лесные пож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Нерациональные заготовки как лекарственного сырья (женьшен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Хозяйственное использование зем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Сбор и выкопка цветущих растений людь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Поедание семян птицами (тис остроконечны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Добыча древес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Заиливание озёр и изменение режима рек (строительство плотин, выпас скота)</a:t>
            </a:r>
            <a:r>
              <a:rPr b="0" lang="ru-RU" sz="2400" spc="-1" strike="noStrike">
                <a:solidFill>
                  <a:srgbClr val="000000"/>
                </a:solidFill>
                <a:latin typeface="Neuropo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-432000"/>
            <a:ext cx="7583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Garamond"/>
            </a:endParaRPr>
          </a:p>
        </p:txBody>
      </p:sp>
      <p:grpSp>
        <p:nvGrpSpPr>
          <p:cNvPr id="156" name="Organization Chart 3"/>
          <p:cNvGrpSpPr/>
          <p:nvPr/>
        </p:nvGrpSpPr>
        <p:grpSpPr>
          <a:xfrm>
            <a:off x="179280" y="765000"/>
            <a:ext cx="8963640" cy="5400000"/>
            <a:chOff x="179280" y="765000"/>
            <a:chExt cx="8963640" cy="5400000"/>
          </a:xfrm>
        </p:grpSpPr>
        <p:cxnSp>
          <p:nvCxnSpPr>
            <p:cNvPr id="157" name="_s1028"/>
            <p:cNvCxnSpPr>
              <a:stCxn id="158" idx="3"/>
              <a:endCxn id="159" idx="2"/>
            </p:cNvCxnSpPr>
            <p:nvPr/>
          </p:nvCxnSpPr>
          <p:spPr>
            <a:xfrm flipV="1">
              <a:off x="4020840" y="1746000"/>
              <a:ext cx="640800" cy="982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1029"/>
            <p:cNvCxnSpPr>
              <a:stCxn id="161" idx="3"/>
              <a:endCxn id="159" idx="2"/>
            </p:cNvCxnSpPr>
            <p:nvPr/>
          </p:nvCxnSpPr>
          <p:spPr>
            <a:xfrm flipV="1">
              <a:off x="4020840" y="1746360"/>
              <a:ext cx="640800" cy="392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1030"/>
            <p:cNvCxnSpPr>
              <a:stCxn id="163" idx="1"/>
              <a:endCxn id="159" idx="2"/>
            </p:cNvCxnSpPr>
            <p:nvPr/>
          </p:nvCxnSpPr>
          <p:spPr>
            <a:xfrm rot="10800000">
              <a:off x="4660560" y="1746000"/>
              <a:ext cx="640800" cy="2455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1031"/>
            <p:cNvCxnSpPr>
              <a:stCxn id="165" idx="3"/>
              <a:endCxn id="159" idx="2"/>
            </p:cNvCxnSpPr>
            <p:nvPr/>
          </p:nvCxnSpPr>
          <p:spPr>
            <a:xfrm flipV="1">
              <a:off x="4020840" y="1746360"/>
              <a:ext cx="640800" cy="2455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9" name="_s1032"/>
            <p:cNvSpPr/>
            <p:nvPr/>
          </p:nvSpPr>
          <p:spPr>
            <a:xfrm>
              <a:off x="2740320" y="765000"/>
              <a:ext cx="3841560" cy="98172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6a4810"/>
                  </a:solidFill>
                  <a:latin typeface="Garamond"/>
                </a:rPr>
                <a:t>Растение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_s1033"/>
            <p:cNvSpPr/>
            <p:nvPr/>
          </p:nvSpPr>
          <p:spPr>
            <a:xfrm>
              <a:off x="179280" y="3710520"/>
              <a:ext cx="3841560" cy="98172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a4810"/>
                  </a:solidFill>
                  <a:latin typeface="Garamond"/>
                </a:rPr>
                <a:t>Пожары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_s1034"/>
            <p:cNvSpPr/>
            <p:nvPr/>
          </p:nvSpPr>
          <p:spPr>
            <a:xfrm>
              <a:off x="5301360" y="3710520"/>
              <a:ext cx="3841560" cy="98172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3b0d"/>
                  </a:solidFill>
                  <a:latin typeface="Garamond"/>
                </a:rPr>
                <a:t>Расширение строительства: городов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3b0d"/>
                  </a:solidFill>
                  <a:latin typeface="Garamond"/>
                </a:rPr>
                <a:t> </a:t>
              </a:r>
              <a:r>
                <a:rPr b="1" lang="en-US" sz="1800" spc="-1" strike="noStrike">
                  <a:solidFill>
                    <a:srgbClr val="573b0d"/>
                  </a:solidFill>
                  <a:latin typeface="Garamond"/>
                </a:rPr>
                <a:t>фабрик, заводов, вырубка лесов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_s1035"/>
            <p:cNvSpPr/>
            <p:nvPr/>
          </p:nvSpPr>
          <p:spPr>
            <a:xfrm>
              <a:off x="179280" y="5183280"/>
              <a:ext cx="3841560" cy="98172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200" spc="-1" strike="noStrike">
                  <a:solidFill>
                    <a:srgbClr val="6a4810"/>
                  </a:solidFill>
                  <a:latin typeface="Garamond"/>
                </a:rPr>
                <a:t>Нерациональное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a4810"/>
                  </a:solidFill>
                  <a:latin typeface="Garamond"/>
                </a:rPr>
                <a:t>использование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_s1036"/>
            <p:cNvSpPr/>
            <p:nvPr/>
          </p:nvSpPr>
          <p:spPr>
            <a:xfrm>
              <a:off x="179280" y="2237760"/>
              <a:ext cx="3841560" cy="98172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a4810"/>
                  </a:solidFill>
                  <a:latin typeface="Garamond"/>
                </a:rPr>
                <a:t>Загрязнение окружающей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a4810"/>
                  </a:solidFill>
                  <a:latin typeface="Garamond"/>
                </a:rPr>
                <a:t>среды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      </a:t>
            </a:r>
            <a:r>
              <a:rPr b="1" lang="ru-RU" sz="4800" spc="-1" strike="noStrike">
                <a:solidFill>
                  <a:srgbClr val="a26d18"/>
                </a:solidFill>
                <a:latin typeface="Garamond"/>
              </a:rPr>
              <a:t>Наши исследова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a481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Мы, группа «Ботаники» провели опрос среди учащихся </a:t>
            </a:r>
            <a:r>
              <a:rPr b="0" lang="ru-RU" sz="2400" spc="-1" strike="noStrike">
                <a:solidFill>
                  <a:srgbClr val="6a4810"/>
                </a:solidFill>
                <a:latin typeface="Arial"/>
              </a:rPr>
              <a:t>3- 4</a:t>
            </a: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 класс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    </a:t>
            </a: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Ребята отвечали на вопрос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 </a:t>
            </a:r>
            <a:r>
              <a:rPr b="0" lang="en-US" sz="2400" spc="-1" strike="noStrike">
                <a:solidFill>
                  <a:srgbClr val="6a4810"/>
                </a:solidFill>
                <a:latin typeface="Neuropol"/>
                <a:ea typeface="Pilgi2"/>
              </a:rPr>
              <a:t>•</a:t>
            </a: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  </a:t>
            </a: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Напиши названия трёх редких растений Приморского кр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 </a:t>
            </a:r>
            <a:r>
              <a:rPr b="0" lang="en-US" sz="2400" spc="-1" strike="noStrike">
                <a:solidFill>
                  <a:srgbClr val="6a4810"/>
                </a:solidFill>
                <a:latin typeface="Neuropol"/>
                <a:ea typeface="Pilgi2"/>
              </a:rPr>
              <a:t>•</a:t>
            </a: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  </a:t>
            </a: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Корень какого растения похож на фигуру человек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 </a:t>
            </a:r>
            <a:r>
              <a:rPr b="0" lang="en-US" sz="2400" spc="-1" strike="noStrike">
                <a:solidFill>
                  <a:srgbClr val="6a4810"/>
                </a:solidFill>
                <a:latin typeface="Neuropol"/>
                <a:ea typeface="Pilgi2"/>
              </a:rPr>
              <a:t>•</a:t>
            </a: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  </a:t>
            </a: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Что делают люди для сохранения редких растений Приморского кра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 </a:t>
            </a:r>
            <a:r>
              <a:rPr b="0" lang="en-US" sz="2400" spc="-1" strike="noStrike">
                <a:solidFill>
                  <a:srgbClr val="6a4810"/>
                </a:solidFill>
                <a:latin typeface="Neuropol"/>
                <a:ea typeface="Pilgi2"/>
              </a:rPr>
              <a:t>•</a:t>
            </a: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  </a:t>
            </a: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Назови самое большое озеро Приморского края, на территории которого создан заповедник?</a:t>
            </a:r>
            <a:r>
              <a:rPr b="0" lang="ru-RU" sz="2400" spc="-1" strike="noStrike">
                <a:solidFill>
                  <a:srgbClr val="000000"/>
                </a:solidFill>
                <a:latin typeface="Neuropo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26d18"/>
                </a:solidFill>
                <a:latin typeface="Garamond"/>
              </a:rPr>
              <a:t>Результаты опроса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649760" y="1600200"/>
          <a:ext cx="4037040" cy="218268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218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9"/>
          <p:cNvSpPr/>
          <p:nvPr/>
        </p:nvSpPr>
        <p:spPr>
          <a:xfrm>
            <a:off x="1835280" y="522936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a4810"/>
                </a:solidFill>
                <a:latin typeface="Neuropol"/>
              </a:rPr>
              <a:t>На 1 вопрос правильно ответили – 34 учащих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a4810"/>
                </a:solidFill>
                <a:latin typeface="Neuropol"/>
              </a:rPr>
              <a:t>На 2 вопрос правильно ответили -  38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a4810"/>
                </a:solidFill>
                <a:latin typeface="Neuropol"/>
              </a:rPr>
              <a:t>На 3 вопрос правильно ответили - 29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a4810"/>
                </a:solidFill>
                <a:latin typeface="Neuropol"/>
              </a:rPr>
              <a:t>На 4 вопрос правильно ответили – 26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10"/>
          <p:cNvGraphicFramePr/>
          <p:nvPr/>
        </p:nvGraphicFramePr>
        <p:xfrm>
          <a:off x="1476360" y="1557360"/>
          <a:ext cx="6120000" cy="345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557360"/>
                    <a:ext cx="6120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917960" y="404280"/>
            <a:ext cx="3927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a4810"/>
                </a:solidFill>
                <a:latin typeface="Garamond"/>
              </a:rPr>
              <a:t>Если я сорву цветок,</a:t>
            </a:r>
            <a:br>
              <a:rPr sz="2800"/>
            </a:br>
            <a:r>
              <a:rPr b="1" lang="ru-RU" sz="2800" spc="-1" strike="noStrike">
                <a:solidFill>
                  <a:srgbClr val="6a4810"/>
                </a:solidFill>
                <a:latin typeface="Garamond"/>
              </a:rPr>
              <a:t>Если ты сорвешь цветок…</a:t>
            </a:r>
            <a:br>
              <a:rPr sz="2800"/>
            </a:br>
            <a:r>
              <a:rPr b="1" lang="ru-RU" sz="2800" spc="-1" strike="noStrike">
                <a:solidFill>
                  <a:srgbClr val="6a4810"/>
                </a:solidFill>
                <a:latin typeface="Garamond"/>
              </a:rPr>
              <a:t>Если все: и я, и т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a4810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6a4810"/>
                </a:solidFill>
                <a:latin typeface="Garamond"/>
              </a:rPr>
              <a:t>Если мы сорвем цветы,</a:t>
            </a:r>
            <a:br>
              <a:rPr sz="2800"/>
            </a:br>
            <a:r>
              <a:rPr b="1" lang="ru-RU" sz="2800" spc="-1" strike="noStrike">
                <a:solidFill>
                  <a:srgbClr val="6a4810"/>
                </a:solidFill>
                <a:latin typeface="Garamond"/>
              </a:rPr>
              <a:t>То окажутся пусты</a:t>
            </a:r>
            <a:br>
              <a:rPr sz="2800"/>
            </a:br>
            <a:r>
              <a:rPr b="1" lang="ru-RU" sz="2800" spc="-1" strike="noStrike">
                <a:solidFill>
                  <a:srgbClr val="6a4810"/>
                </a:solidFill>
                <a:latin typeface="Garamond"/>
              </a:rPr>
              <a:t>И деревья, и кусты…</a:t>
            </a:r>
            <a:br>
              <a:rPr sz="2800"/>
            </a:br>
            <a:r>
              <a:rPr b="1" lang="ru-RU" sz="2800" spc="-1" strike="noStrike">
                <a:solidFill>
                  <a:srgbClr val="6a4810"/>
                </a:solidFill>
                <a:latin typeface="Garamond"/>
              </a:rPr>
              <a:t>И не будет красоты,</a:t>
            </a:r>
            <a:br>
              <a:rPr sz="2800"/>
            </a:br>
            <a:r>
              <a:rPr b="1" lang="ru-RU" sz="2800" spc="-1" strike="noStrike">
                <a:solidFill>
                  <a:srgbClr val="6a4810"/>
                </a:solidFill>
                <a:latin typeface="Garamond"/>
              </a:rPr>
              <a:t>И не будет добро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Forest Flowers"/>
          <p:cNvPicPr/>
          <p:nvPr/>
        </p:nvPicPr>
        <p:blipFill>
          <a:blip r:embed="rId1"/>
          <a:stretch/>
        </p:blipFill>
        <p:spPr>
          <a:xfrm>
            <a:off x="1547640" y="3933720"/>
            <a:ext cx="2376720" cy="201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сканирование0028"/>
          <p:cNvPicPr/>
          <p:nvPr/>
        </p:nvPicPr>
        <p:blipFill>
          <a:blip r:embed="rId2"/>
          <a:stretch/>
        </p:blipFill>
        <p:spPr>
          <a:xfrm>
            <a:off x="1619280" y="76500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6d18"/>
                </a:solidFill>
                <a:latin typeface="Garamond"/>
              </a:rPr>
              <a:t>Наш вывод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Растения – это лёгкие нашей планеты, источник кислорода. Без них жизнь на земле была бы не возможна. Мы считаем, что каждый по мере возможности должен стремиться оберегать растения. Вместо вырубленных деревьев и сорванных растений всегда нужно сажать новые, чтобы не исчезали растения. Находясь в лесу, нельзя мусорить  и портить деревья, рвать цветы, а также нужно осторожно обращаться с огнём, чтобы не вызвать пожар.</a:t>
            </a:r>
            <a:r>
              <a:rPr b="0" lang="ru-RU" sz="2400" spc="-1" strike="noStrike">
                <a:solidFill>
                  <a:srgbClr val="000000"/>
                </a:solidFill>
                <a:latin typeface="Neuropo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Garamond"/>
              </a:rPr>
              <a:t>      </a:t>
            </a:r>
            <a:r>
              <a:rPr b="1" lang="ru-RU" sz="4400" spc="-1" strike="noStrike">
                <a:solidFill>
                  <a:srgbClr val="a26d18"/>
                </a:solidFill>
                <a:latin typeface="Garamond"/>
              </a:rPr>
              <a:t>Правила друзей природы</a:t>
            </a:r>
            <a:br>
              <a:rPr sz="4400"/>
            </a:br>
            <a:r>
              <a:rPr b="1" lang="ru-RU" sz="4400" spc="-1" strike="noStrike">
                <a:solidFill>
                  <a:srgbClr val="a26d18"/>
                </a:solidFill>
                <a:latin typeface="Garamond"/>
              </a:rPr>
              <a:t>         (экологические знаки)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79" name="Picture 6" descr="011"/>
          <p:cNvPicPr/>
          <p:nvPr/>
        </p:nvPicPr>
        <p:blipFill>
          <a:blip r:embed="rId1"/>
          <a:stretch/>
        </p:blipFill>
        <p:spPr>
          <a:xfrm>
            <a:off x="2411280" y="2060640"/>
            <a:ext cx="41403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6d18"/>
                </a:solidFill>
                <a:latin typeface="Garamond"/>
              </a:rPr>
              <a:t>             </a:t>
            </a:r>
            <a:r>
              <a:rPr b="1" lang="ru-RU" sz="4800" spc="-1" strike="noStrike">
                <a:solidFill>
                  <a:srgbClr val="a26d18"/>
                </a:solidFill>
                <a:latin typeface="Garamond"/>
              </a:rPr>
              <a:t>Это интересно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59464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a4810"/>
                </a:solidFill>
                <a:uFillTx/>
                <a:latin typeface="Neuropol"/>
              </a:rPr>
              <a:t>РАСТЕНИЯ</a:t>
            </a: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, одно из царств органического мира. Растения — главный первичный источник пищи и энергии для всех других форм жизни на Земле. У некоторых растений питание гетеротрофное (сапрофиты и паразиты). Известно около 350 тыс. видов ныне живущих растений, которые делятся на низшие и высшие раст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84360" y="2388240"/>
            <a:ext cx="820872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a4810"/>
                </a:solidFill>
                <a:uFillTx/>
                <a:latin typeface="Neuropol"/>
              </a:rPr>
              <a:t>ЗАПОВЕДНИК,</a:t>
            </a: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 участок земли либо водного пространства, в пределах которого весь природный комплекс полностью и навечно изъят из хозяйственного использования и находится под охраной государства. Заповедником называют также научно-исследовательские учреждения, за которыми закреплены указанные территории. В Российской Федерации (на 1994) около 90 заповедников и заповедно-охотничьих хозяйств. В заповеднике запрещается всякая деятельность, нарушающая природные комплексы или угрожающая их сохран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a4810"/>
                </a:solidFill>
                <a:latin typeface="Neuropol"/>
              </a:rPr>
              <a:t> </a:t>
            </a: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Наше государство заботиться о таких животных: принимает законы, защищающие животных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  </a:t>
            </a: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создаёт заповедники, заказники.  В нашем крае действует 6 заповедников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    • </a:t>
            </a: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Дальневосточный морск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    • </a:t>
            </a: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Кедровая пад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    •  </a:t>
            </a: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Лазовс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    • </a:t>
            </a: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Сихотэ—Алинс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    •  </a:t>
            </a: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Уссурийс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    • </a:t>
            </a: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Ханкайс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Neuropo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93080" cy="34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                         </a:t>
            </a:r>
            <a:r>
              <a:rPr b="1" lang="ru-RU" sz="4800" spc="-1" strike="noStrike">
                <a:solidFill>
                  <a:srgbClr val="a26d18"/>
                </a:solidFill>
                <a:latin typeface="Garamond"/>
              </a:rPr>
              <a:t>Цель:</a:t>
            </a:r>
            <a:br>
              <a:rPr sz="4800"/>
            </a:br>
            <a:br>
              <a:rPr sz="4800"/>
            </a:b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a26d18"/>
                </a:solidFill>
                <a:latin typeface="Arial"/>
                <a:ea typeface="Pilgi2"/>
              </a:rPr>
              <a:t>•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26d18"/>
                </a:solidFill>
                <a:latin typeface="Neuropol"/>
              </a:rPr>
              <a:t>Ознакомление и расширение знаний</a:t>
            </a:r>
            <a:br>
              <a:rPr sz="2800"/>
            </a:br>
            <a:r>
              <a:rPr b="1" lang="ru-RU" sz="2800" spc="-1" strike="noStrike">
                <a:solidFill>
                  <a:srgbClr val="a26d18"/>
                </a:solidFill>
                <a:latin typeface="Neuropol"/>
              </a:rPr>
              <a:t>                      о  редких растениях</a:t>
            </a:r>
            <a:br>
              <a:rPr sz="2800"/>
            </a:br>
            <a:r>
              <a:rPr b="1" lang="ru-RU" sz="2800" spc="-1" strike="noStrike">
                <a:solidFill>
                  <a:srgbClr val="6a4810"/>
                </a:solidFill>
                <a:latin typeface="Neuropol"/>
              </a:rPr>
              <a:t>                                            </a:t>
            </a:r>
            <a:r>
              <a:rPr b="1" lang="ru-RU" sz="3200" spc="-1" strike="noStrike">
                <a:solidFill>
                  <a:srgbClr val="6a4810"/>
                </a:solidFill>
                <a:latin typeface="Century Gothic"/>
              </a:rPr>
              <a:t>Приморского кра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a26d18"/>
                </a:solidFill>
                <a:latin typeface="Times New Roman"/>
              </a:rPr>
              <a:t>                </a:t>
            </a:r>
            <a:r>
              <a:rPr b="1" lang="ru-RU" sz="4800" spc="-1" strike="noStrike">
                <a:solidFill>
                  <a:srgbClr val="a26d18"/>
                </a:solidFill>
                <a:latin typeface="Garamond"/>
              </a:rPr>
              <a:t>Задачи:</a:t>
            </a:r>
            <a:br>
              <a:rPr sz="4800"/>
            </a:br>
            <a:r>
              <a:rPr b="1" lang="ru-RU" sz="4800" spc="-1" strike="noStrike">
                <a:solidFill>
                  <a:srgbClr val="a26d18"/>
                </a:solidFill>
                <a:latin typeface="Garamond"/>
              </a:rPr>
              <a:t>  </a:t>
            </a:r>
            <a:r>
              <a:rPr b="0" lang="en-US" sz="3000" spc="-1" strike="noStrike">
                <a:solidFill>
                  <a:srgbClr val="a26d18"/>
                </a:solidFill>
                <a:latin typeface="Arial"/>
                <a:ea typeface="Pilgi2"/>
              </a:rPr>
              <a:t>•</a:t>
            </a:r>
            <a:r>
              <a:rPr b="0" lang="ru-RU" sz="3000" spc="-1" strike="noStrike">
                <a:solidFill>
                  <a:srgbClr val="a26d18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a26d18"/>
                </a:solidFill>
                <a:latin typeface="Neuropol"/>
              </a:rPr>
              <a:t>узнать и расширить знания о редких  и </a:t>
            </a:r>
            <a:br>
              <a:rPr sz="2800"/>
            </a:br>
            <a:r>
              <a:rPr b="1" lang="ru-RU" sz="2800" spc="-1" strike="noStrike">
                <a:solidFill>
                  <a:srgbClr val="a26d18"/>
                </a:solidFill>
                <a:latin typeface="Neuropol"/>
              </a:rPr>
              <a:t>     исчезающих      растениях Приморского края</a:t>
            </a:r>
            <a:br>
              <a:rPr sz="2800"/>
            </a:br>
            <a:r>
              <a:rPr b="1" lang="ru-RU" sz="2800" spc="-1" strike="noStrike">
                <a:solidFill>
                  <a:srgbClr val="a26d18"/>
                </a:solidFill>
                <a:latin typeface="Neuropol"/>
              </a:rPr>
              <a:t>   </a:t>
            </a:r>
            <a:r>
              <a:rPr b="0" lang="en-US" sz="3000" spc="-1" strike="noStrike">
                <a:solidFill>
                  <a:srgbClr val="a26d18"/>
                </a:solidFill>
                <a:latin typeface="Arial"/>
                <a:ea typeface="Pilgi2"/>
              </a:rPr>
              <a:t>•</a:t>
            </a:r>
            <a:r>
              <a:rPr b="0" lang="ru-RU" sz="30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26d18"/>
                </a:solidFill>
                <a:latin typeface="Neuropol"/>
              </a:rPr>
              <a:t>определить причины исчезновения   </a:t>
            </a:r>
            <a:br>
              <a:rPr sz="2800"/>
            </a:br>
            <a:r>
              <a:rPr b="1" lang="ru-RU" sz="2800" spc="-1" strike="noStrike">
                <a:solidFill>
                  <a:srgbClr val="a26d18"/>
                </a:solidFill>
                <a:latin typeface="Neuropol"/>
              </a:rPr>
              <a:t>     растений</a:t>
            </a:r>
            <a:br>
              <a:rPr sz="2800"/>
            </a:br>
            <a:r>
              <a:rPr b="1" lang="ru-RU" sz="2800" spc="-1" strike="noStrike">
                <a:solidFill>
                  <a:srgbClr val="a26d18"/>
                </a:solidFill>
                <a:latin typeface="Neuropol"/>
              </a:rPr>
              <a:t>   </a:t>
            </a:r>
            <a:r>
              <a:rPr b="0" lang="en-US" sz="3000" spc="-1" strike="noStrike">
                <a:solidFill>
                  <a:srgbClr val="a26d18"/>
                </a:solidFill>
                <a:latin typeface="Arial"/>
                <a:ea typeface="Pilgi2"/>
              </a:rPr>
              <a:t>•</a:t>
            </a:r>
            <a:r>
              <a:rPr b="0" lang="ru-RU" sz="3000" spc="-1" strike="noStrike">
                <a:solidFill>
                  <a:srgbClr val="a26d18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a26d18"/>
                </a:solidFill>
                <a:latin typeface="Neuropol"/>
              </a:rPr>
              <a:t>привить любовь к природе</a:t>
            </a:r>
            <a:br>
              <a:rPr sz="3000"/>
            </a:br>
            <a:r>
              <a:rPr b="0" lang="ru-RU" sz="3000" spc="-1" strike="noStrike">
                <a:solidFill>
                  <a:srgbClr val="a26d18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a26d18"/>
                </a:solidFill>
                <a:latin typeface="Arial"/>
                <a:ea typeface="Pilgi2"/>
              </a:rPr>
              <a:t>•</a:t>
            </a:r>
            <a:r>
              <a:rPr b="0" lang="ru-RU" sz="3000" spc="-1" strike="noStrike">
                <a:solidFill>
                  <a:srgbClr val="a26d18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a26d18"/>
                </a:solidFill>
                <a:latin typeface="Neuropol"/>
              </a:rPr>
              <a:t>воспитать бережное отношение к </a:t>
            </a:r>
            <a:br>
              <a:rPr sz="2800"/>
            </a:br>
            <a:r>
              <a:rPr b="1" lang="ru-RU" sz="2800" spc="-1" strike="noStrike">
                <a:solidFill>
                  <a:srgbClr val="a26d18"/>
                </a:solidFill>
                <a:latin typeface="Neuropol"/>
              </a:rPr>
              <a:t>     растениям</a:t>
            </a:r>
            <a:br>
              <a:rPr sz="28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a26d18"/>
                </a:solidFill>
                <a:latin typeface="Times New Roman"/>
              </a:rPr>
              <a:t>       </a:t>
            </a:r>
            <a:r>
              <a:rPr b="1" lang="ru-RU" sz="4800" spc="-1" strike="noStrike">
                <a:solidFill>
                  <a:srgbClr val="a26d18"/>
                </a:solidFill>
                <a:latin typeface="Garamond"/>
              </a:rPr>
              <a:t>Пути решения задач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a26d18"/>
                </a:solidFill>
                <a:latin typeface="Arial"/>
                <a:ea typeface="Pilgi2"/>
              </a:rPr>
              <a:t>•</a:t>
            </a:r>
            <a:r>
              <a:rPr b="0" lang="ru-RU" sz="30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a26d18"/>
                </a:solidFill>
                <a:latin typeface="Neuropol"/>
              </a:rPr>
              <a:t>изучить материалы из учебника и</a:t>
            </a:r>
            <a:br>
              <a:rPr sz="2800"/>
            </a:br>
            <a:r>
              <a:rPr b="0" lang="ru-RU" sz="2800" spc="-1" strike="noStrike">
                <a:solidFill>
                  <a:srgbClr val="a26d18"/>
                </a:solidFill>
                <a:latin typeface="Neuropol"/>
              </a:rPr>
              <a:t>    дополнительной литературы</a:t>
            </a:r>
            <a:br>
              <a:rPr sz="3000"/>
            </a:br>
            <a:r>
              <a:rPr b="0" lang="ru-RU" sz="30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a26d18"/>
                </a:solidFill>
                <a:latin typeface="Arial"/>
                <a:ea typeface="Pilgi2"/>
              </a:rPr>
              <a:t>•</a:t>
            </a:r>
            <a:r>
              <a:rPr b="0" lang="ru-RU" sz="30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a26d18"/>
                </a:solidFill>
                <a:latin typeface="Neuropol"/>
              </a:rPr>
              <a:t>провести опрос среди учащихся 3 - 4 классов</a:t>
            </a:r>
            <a:br>
              <a:rPr sz="2800"/>
            </a:br>
            <a:r>
              <a:rPr b="0" lang="ru-RU" sz="2800" spc="-1" strike="noStrike">
                <a:solidFill>
                  <a:srgbClr val="a26d18"/>
                </a:solidFill>
                <a:latin typeface="Neuropol"/>
              </a:rPr>
              <a:t> </a:t>
            </a:r>
            <a:r>
              <a:rPr b="0" lang="en-US" sz="3000" spc="-1" strike="noStrike">
                <a:solidFill>
                  <a:srgbClr val="a26d18"/>
                </a:solidFill>
                <a:latin typeface="Arial"/>
                <a:ea typeface="Pilgi2"/>
              </a:rPr>
              <a:t>•</a:t>
            </a:r>
            <a:r>
              <a:rPr b="0" lang="ru-RU" sz="30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a26d18"/>
                </a:solidFill>
                <a:latin typeface="Neuropol"/>
              </a:rPr>
              <a:t>нарисовать экологические знаки и рисунки</a:t>
            </a:r>
            <a:br>
              <a:rPr sz="2800"/>
            </a:br>
            <a:r>
              <a:rPr b="0" lang="ru-RU" sz="2800" spc="-1" strike="noStrike">
                <a:solidFill>
                  <a:srgbClr val="a26d18"/>
                </a:solidFill>
                <a:latin typeface="Neuropol"/>
              </a:rPr>
              <a:t>   редких растений Приморского края</a:t>
            </a:r>
            <a:br>
              <a:rPr sz="2800"/>
            </a:br>
            <a:br>
              <a:rPr sz="3000"/>
            </a:br>
            <a:r>
              <a:rPr b="0" lang="ru-RU" sz="3000" spc="-1" strike="noStrike">
                <a:solidFill>
                  <a:srgbClr val="a26d18"/>
                </a:solidFill>
                <a:latin typeface="Times New Roman"/>
              </a:rPr>
              <a:t>  </a:t>
            </a:r>
            <a:br>
              <a:rPr sz="4000"/>
            </a:br>
            <a:br>
              <a:rPr sz="4000"/>
            </a:br>
            <a:endParaRPr b="1" lang="en-US" sz="3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6d18"/>
                </a:solidFill>
                <a:latin typeface="Garamond"/>
              </a:rPr>
              <a:t>  </a:t>
            </a:r>
            <a:r>
              <a:rPr b="1" lang="ru-RU" sz="4800" spc="-1" strike="noStrike">
                <a:solidFill>
                  <a:srgbClr val="a26d18"/>
                </a:solidFill>
                <a:latin typeface="Garamond"/>
              </a:rPr>
              <a:t>Основополагающий вопрос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a4810"/>
                </a:solidFill>
                <a:latin typeface="Neuropol"/>
              </a:rPr>
              <a:t>Какие растения Приморск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a4810"/>
                </a:solidFill>
                <a:latin typeface="Neuropol"/>
              </a:rPr>
              <a:t>    </a:t>
            </a:r>
            <a:r>
              <a:rPr b="1" lang="ru-RU" sz="2400" spc="-1" strike="noStrike">
                <a:solidFill>
                  <a:srgbClr val="6a4810"/>
                </a:solidFill>
                <a:latin typeface="Neuropol"/>
              </a:rPr>
              <a:t>края занесе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a4810"/>
                </a:solidFill>
                <a:latin typeface="Neuropol"/>
              </a:rPr>
              <a:t>    </a:t>
            </a:r>
            <a:r>
              <a:rPr b="1" lang="ru-RU" sz="2400" spc="-1" strike="noStrike">
                <a:solidFill>
                  <a:srgbClr val="6a4810"/>
                </a:solidFill>
                <a:latin typeface="Neuropol"/>
              </a:rPr>
              <a:t>в Красную книг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a4810"/>
                </a:solidFill>
                <a:latin typeface="Neuropol"/>
              </a:rPr>
              <a:t>    </a:t>
            </a:r>
            <a:r>
              <a:rPr b="1" lang="ru-RU" sz="2400" spc="-1" strike="noStrike">
                <a:solidFill>
                  <a:srgbClr val="6a4810"/>
                </a:solidFill>
                <a:latin typeface="Neuropol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6" descr="015"/>
          <p:cNvPicPr/>
          <p:nvPr/>
        </p:nvPicPr>
        <p:blipFill>
          <a:blip r:embed="rId1"/>
          <a:srcRect l="-57160" t="-19994" r="-57160" b="-19994"/>
          <a:stretch/>
        </p:blipFill>
        <p:spPr>
          <a:xfrm>
            <a:off x="3995640" y="2349360"/>
            <a:ext cx="529272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385120" cy="13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1400"/>
                </a:solidFill>
                <a:latin typeface="Bookman Old Style"/>
              </a:rPr>
              <a:t>Тис остроконечны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9" name="Picture 3" descr="сканирование0033"/>
          <p:cNvPicPr/>
          <p:nvPr/>
        </p:nvPicPr>
        <p:blipFill>
          <a:blip r:embed="rId1"/>
          <a:stretch/>
        </p:blipFill>
        <p:spPr>
          <a:xfrm>
            <a:off x="3276720" y="1844640"/>
            <a:ext cx="2293920" cy="1979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a4810"/>
                </a:solidFill>
                <a:latin typeface="Times New Roman"/>
              </a:rPr>
              <a:t>Весь его облик: мягкая хвоя, гладкая, тонкая, красноватого цвета кора- отводит особое место среди хвойных растений. Тис растёт медленно, но живёт долго 300 – 400 лет. Из- за красивой древесины  это дерево беспощадно рубили. Сейчас тис большая редкость</a:t>
            </a:r>
            <a:r>
              <a:rPr b="1" lang="ru-RU" sz="1800" spc="-1" strike="noStrike">
                <a:solidFill>
                  <a:srgbClr val="6a481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6a481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a00"/>
                </a:solidFill>
                <a:latin typeface="Bookman Old Style"/>
              </a:rPr>
              <a:t>Венерины башмачки </a:t>
            </a:r>
            <a:br>
              <a:rPr sz="4000"/>
            </a:br>
            <a:r>
              <a:rPr b="0" lang="ru-RU" sz="4000" spc="-1" strike="noStrike">
                <a:solidFill>
                  <a:srgbClr val="002a00"/>
                </a:solidFill>
                <a:latin typeface="Bookman Old Style"/>
              </a:rPr>
              <a:t> (орхидеи)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2" name="Picture 3" descr="сканирование0026"/>
          <p:cNvPicPr/>
          <p:nvPr/>
        </p:nvPicPr>
        <p:blipFill>
          <a:blip r:embed="rId1"/>
          <a:stretch/>
        </p:blipFill>
        <p:spPr>
          <a:xfrm>
            <a:off x="3348000" y="2421000"/>
            <a:ext cx="2227320" cy="16923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5373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a4810"/>
                </a:solidFill>
                <a:uFillTx/>
                <a:latin typeface="Times New Roman"/>
              </a:rPr>
              <a:t>Венерин башмачок</a:t>
            </a:r>
            <a:r>
              <a:rPr b="1" lang="ru-RU" sz="2000" spc="-1" strike="noStrike">
                <a:solidFill>
                  <a:srgbClr val="6a4810"/>
                </a:solidFill>
                <a:latin typeface="Times New Roman"/>
              </a:rPr>
              <a:t> или кукушкины сапожки. Это растение указывает на залежи полезных ископаемых. Венерин башмачок растёт медленно и зацветает на 17 году жизни. От травоядных животных растение спасается едким соком.</a:t>
            </a:r>
            <a:r>
              <a:rPr b="1" lang="ru-RU" sz="2000" spc="-1" strike="noStrike">
                <a:solidFill>
                  <a:srgbClr val="002a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a00"/>
                </a:solidFill>
                <a:latin typeface="Bookman Old Style"/>
              </a:rPr>
              <a:t> </a:t>
            </a:r>
            <a:r>
              <a:rPr b="0" lang="ru-RU" sz="4000" spc="-1" strike="noStrike">
                <a:solidFill>
                  <a:srgbClr val="002a00"/>
                </a:solidFill>
                <a:latin typeface="Bookman Old Style"/>
              </a:rPr>
              <a:t>Женьшень настоящи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5" name="Picture 3" descr="сканирование0027"/>
          <p:cNvPicPr/>
          <p:nvPr/>
        </p:nvPicPr>
        <p:blipFill>
          <a:blip r:embed="rId1"/>
          <a:stretch/>
        </p:blipFill>
        <p:spPr>
          <a:xfrm>
            <a:off x="3419640" y="2060640"/>
            <a:ext cx="2458800" cy="2305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000" y="5445000"/>
            <a:ext cx="8496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a4810"/>
                </a:solidFill>
                <a:uFillTx/>
                <a:latin typeface="Times New Roman"/>
              </a:rPr>
              <a:t>Женьшень </a:t>
            </a:r>
            <a:r>
              <a:rPr b="1" lang="ru-RU" sz="1800" spc="-1" strike="noStrike">
                <a:solidFill>
                  <a:srgbClr val="6a4810"/>
                </a:solidFill>
                <a:latin typeface="Times New Roman"/>
              </a:rPr>
              <a:t>– ценнейшее лекарственное растение. Название его в переводе с китайского языка означает «человек – корень».Встречается в горных кедрово-широколиственных и смешанных лесах. Размножается семен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a00"/>
                </a:solidFill>
                <a:latin typeface="Bookman Old Style"/>
              </a:rPr>
              <a:t>Лотос орехоносны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5084640"/>
            <a:ext cx="80071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a4810"/>
                </a:solidFill>
                <a:uFillTx/>
                <a:latin typeface="Times New Roman"/>
              </a:rPr>
              <a:t>Лотос</a:t>
            </a:r>
            <a:r>
              <a:rPr b="1" lang="ru-RU" sz="1800" spc="-1" strike="noStrike">
                <a:solidFill>
                  <a:srgbClr val="6a4810"/>
                </a:solidFill>
                <a:latin typeface="Times New Roman"/>
              </a:rPr>
              <a:t> – редкое, красивое цветущее водное растение. Цветки до 30 см в диаметре, душистые. Он широко распространён на самом большом  озере Приморья Ханка, по рекам Уссури, Большая Уссурка. В древности лотос считали священным растением – способность цветков поворачиваться за солнц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a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лотос"/>
          <p:cNvPicPr/>
          <p:nvPr/>
        </p:nvPicPr>
        <p:blipFill>
          <a:blip r:embed="rId1"/>
          <a:stretch/>
        </p:blipFill>
        <p:spPr>
          <a:xfrm>
            <a:off x="2843280" y="1557360"/>
            <a:ext cx="241128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03:10:21Z</dcterms:created>
  <dc:creator>1</dc:creator>
  <dc:description/>
  <dc:language>en-US</dc:language>
  <cp:lastModifiedBy>Завуч нач. школы</cp:lastModifiedBy>
  <dcterms:modified xsi:type="dcterms:W3CDTF">2013-09-28T04:02:35Z</dcterms:modified>
  <cp:revision>17</cp:revision>
  <dc:subject/>
  <dc:title>Слайд 1</dc:title>
</cp:coreProperties>
</file>