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40072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Russian Federatio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500720" y="285840"/>
          <a:ext cx="4319280" cy="62182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>
                      <a:noFill/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>
                      <a:noFill/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>
                      <a:noFill/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>
                      <a:noFill/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>
                      <a:noFill/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>
                      <a:noFill/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>
                      <a:noFill/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1544760"/>
            <a:ext cx="785880" cy="241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0" y="1785960"/>
            <a:ext cx="4521240" cy="1928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4"/>
          <a:stretch/>
        </p:blipFill>
        <p:spPr>
          <a:xfrm>
            <a:off x="0" y="3714840"/>
            <a:ext cx="4392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3920" y="1499760"/>
            <a:ext cx="75279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What do these numbers stand for?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13920" y="2214360"/>
            <a:ext cx="764388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1991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130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89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1996-1997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85760" y="785520"/>
            <a:ext cx="27860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rue/Fal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13920" y="1356840"/>
            <a:ext cx="7643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Russia spans ten time zon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Nearly 148 mln people live in Russi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It has the 5</a:t>
            </a:r>
            <a:r>
              <a:rPr b="0" lang="en-US" sz="24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largest population in the world after China, India, and Brazil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e territory of Russia covers over 17 mln sq.km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One of the biggest subjects is Moscow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ere are 3 cities of federal significanc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Each of the subjects is further divided into raion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ere are 10 federal district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ere is no parliamentary system in Russian entiti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e term of office is four to five year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57400" y="285480"/>
            <a:ext cx="507204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ut the sentences in a logical order: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120" y="1714320"/>
            <a:ext cx="85010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ere are 21 republics, 6 krays, 49 oblasts, 2 cities..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Russia has been known as the Russian Federation since 1991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Each subject is divided into raion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Russia is the largest country on Earth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Executive power in most of the regions is exercised by the highest official elected by the citizen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e people consist of around 130 nationaliti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ere are 7 federal district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Nearly 148 mln people live in Russi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Russia consists of 89 entiti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99920" y="428400"/>
            <a:ext cx="56437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nswer the questions: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400" y="1785960"/>
            <a:ext cx="8429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What was the name of our country before 1991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How many time zones are there in Russi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What is the largest nationality in Russi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What is the largest subject in Russi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What is the smallest subject in Russi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In what order do Russian entities appear within the constitution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Where are the administrative okrugs in Russi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What did the reform of 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2000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aim to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28680" y="571320"/>
            <a:ext cx="27860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Monologue: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0" name="Рисунок 3" descr="mrussia.gif"/>
          <p:cNvPicPr/>
          <p:nvPr/>
        </p:nvPicPr>
        <p:blipFill>
          <a:blip r:embed="rId2"/>
          <a:stretch/>
        </p:blipFill>
        <p:spPr>
          <a:xfrm>
            <a:off x="1214280" y="1571760"/>
            <a:ext cx="671544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47:39Z</dcterms:created>
  <dc:creator>Admin</dc:creator>
  <dc:description/>
  <cp:keywords/>
  <dc:language>en-US</dc:language>
  <cp:lastModifiedBy>Ксения</cp:lastModifiedBy>
  <dcterms:modified xsi:type="dcterms:W3CDTF">2013-01-23T01:49:09Z</dcterms:modified>
  <cp:revision>20</cp:revision>
  <dc:subject/>
  <dc:title>Russian Federation</dc:title>
</cp:coreProperties>
</file>