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490383C-6E2A-40B2-8A82-C744C63196B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AA11D83-8B94-4365-9B98-C7C26C3EEEC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его удобно проводить с какими-либо предметам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До чтения учебника учащимся на мини-группу, или на парту выдаются предметы: веревочку, палочки, что угодно, их задача проиллюстрировать  процессы,  протекающие в сварочной дуге. Например, с помощью веревочки, на которую дуют можно изобразить явление магнитного дуть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05307D8-DBEB-4D46-B0B3-C98C4738BA3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 начале урока преподаватель приводит какой-либо интересный интригующий факт, который объяснить можно только изучив материал урока по учебник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BF3CDCA-AE3B-4543-A790-FBA724037E3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но на гранях написаны слова «Почему», «Объясни», «Назови», «Предложи», «Придумай», «Поделись»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Естественно, что часть из них - репродуктивные. А последние три - развивающие или расширяющие. Юноши, изучающие рабочую специальность, могут и не захотеть играть в кубики, но начало вопросов можно написать на разрезанной бумаге и выдавать как экзаменационные билеты, чистой стороной кверх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1BD9337-97CC-4FA7-B9F3-1FF95B294D1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а лишь беглый просмотр. Например, до чтения текста задаются вопросы: какой термин чаще всего встречается и  почему?  Объясните группе без слов, только жестами смысл третьего абзаца и т.д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DC8B030-38DA-4731-BFDB-D99AD17ABB2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реподаватели специальных и общепрофессиональных дисциплин, как никто иной, знакомы с проблемой отсутствия у учащихся навыков работы с техническими текстами. Поэтому целью разработки было составление методических рекомендаций при работе с текстов учебника по спецтехнолон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 процессе написания пособия были  решены следующие задач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зучены литературные источники по избранной теме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общен опыт в области обучения работы с текстом как дидактической единицей учебного материала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азработаны методические рекомендации по работе со специальными текстами на уроках спецтехнологи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2E283DE-2655-4A22-AE5F-E38A46BEFB6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ru-RU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3CCEB00-A14C-4A1E-B7E7-8AA6BE553D3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ся острота проблемы особенностей восприятия учебных текстов вскрылась в России после того, как наша страна приняла участие в исследованиях  PIRLS для младшего школьного возраста и PISA для старшего. Исследования 2009 года показали, что Россия не только  отстает от ведущих стран по грамотности чтения, но имеет две специфические особенност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чащиеся не могут размышлять о прочитанном, а могут только извлекать информацию из текста, как поисковые машины Интернета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к 9-му классу способность российских учащихся встраивать прочитанное в свою систему знаний падает  по сравнению с младшей возрастной группо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8D65CB8-D547-4489-B7C0-5D74FAB6A5E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Кто виноват? Исследователи российских результатов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ISA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приходят к выводу, что «именно так устроены наши учебники; так построены вопросы к параграфам» . Вопросы к тексту предназначаются для воспроизведения репродуктивных знаний, именно поэтому российским учащимся нет равных в поиске информации по ключевым словам.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F02E47E-8BD0-43D9-9311-79C24792F28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тот, и другой путь является тупиковым, так как, чем больше творческих  усилий педагоги прикладывают в этом направлении, тем меньше учащиеся способны работать с техническими текстам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2DFC773-033E-467D-83C1-9B3EB03CED6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своив хотя бы некоторые из них, педагог получает шанс вернуть учебник в урок как дидактическую единицу, а как же  получить активное чтение, которого мы и добиваемся на занятиях по спецтехнологии. В идеале, обучившийся  приемам активного чтения технических текстов, учащийся получает инструмент для освоения всего объема знаний предлагаемых научной технической литературой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7B68BA7-B02E-4739-95B1-B6FA4CE3249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уть расширяющего вопроса сводится к рассмотрению материала под другим углом. Сравним три вопроса: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репродуктивный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- почему воздух надо ионизировать, чтобы возникла сварочная дуга?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расширяющий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почему нас не бьет током, всякий раз, когда возникает   сварочная дуга?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развивающий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почему во время грозы молния может ударить в дерево или человека, ведь воздух не проводит электрический ток?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1CF552B-18EC-4447-9F11-21A0DC547E4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374c81"/>
                </a:solidFill>
                <a:latin typeface="Times New Roman"/>
                <a:ea typeface="바탕"/>
              </a:rPr>
              <a:t>Например, преподаватель может предложить достроить граф вниз, при этом можно только рисовать и подписывать 1-2 -мя словами, то есть составить опорный мини-конспект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5D8EEC5-DD9C-4667-8545-89EBB216668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Для этого надо иметь текст учебника на листочках, в качестве раздаточного материала, где учащийся мог бы  подчеркнуть,  пометить знаками </a:t>
            </a: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 знал; </a:t>
            </a:r>
            <a:r>
              <a:rPr b="1" i="1" lang="ru-RU" sz="16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не знал, – участка текст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BB99668-2C5B-4BAA-8B16-0F720C7F914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884-99B6-4812-8A05-249EC9D6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1CE-C7AB-4FF6-ADAB-831F9AD8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94C-7E3D-457F-93F2-2D779C4C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00C-452B-4C0F-8BCA-C90A2836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E03-2444-4CE6-8A26-6349E22C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602-17AF-4323-93BE-ABFEAB62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81BD-160A-4859-A231-EEB43E83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C2D3-FCDE-4655-99E3-AAA3536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9F0-A458-46AF-8337-FFF10F59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15F-DD93-4BA6-A569-7C65858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3312-2468-4D16-930E-4512D4F9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E8B8-E69C-4B24-8D7B-9F24DA26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3FC5-7628-45DB-9449-EE845775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73F8-AF40-473A-A870-BB9F295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42F-D55D-4EDE-85FD-7345841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1D54-40CF-48E6-9D88-EFB1F578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DFCE-1D70-4B02-B0EE-39D7A614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D387-4E59-4AC2-9D5F-CEB543CF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4B2E-4D93-40BB-A523-57455C6E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0F60-B3FA-4C5C-9034-E1294E97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4D5-0E65-4591-B878-BF2030D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AF39-1726-491C-B5D9-2F017854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9D1C-B52D-4C66-9E08-F8AFFA56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41D3-6F9A-404E-B8EF-21657F36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F158-725A-451E-BC0D-99FD8C6C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1811-0848-49E3-8E1B-D7AB2D8C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B49A-E14E-43AD-87E9-9BC5829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E855-0C9E-4C56-AB74-F08079C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671A-9D49-4CC7-B453-E5E1BA34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3468-E939-49A8-A72A-454B06D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83D8-A01B-4DAE-851A-56514E77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D69-B969-497F-A82B-0BF7427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566C-584E-46E7-9AAA-A6DC60E8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9880-1360-4982-BE2C-BB8E6693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ED68-AB8D-4452-925E-F16BA62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F80A-EA5F-4C74-BE67-6003F07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6F5C-A7AD-45C0-9D5C-F625035A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6373-F69B-422A-AE10-83C2299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5075-F2B4-4BD8-94FD-41418D7E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74AA-C7A0-46D2-AF69-A9A1B83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90D8-5086-4513-97C8-9157FC0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4F5A-0E7A-4BF5-88DF-9892606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93D-6923-48B9-AA13-16B895E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4229-FB9F-4FEF-AD04-EA39998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537F-D82D-487C-BB5E-03E26D2F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0754-13CC-4EC2-B27F-78C38516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580-A306-42BF-A900-9F706711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1FF-36F4-4FBF-AD5A-347FBC6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19F44C6-E7D9-4C14-B766-7E23ABE2137F}" type="slidenum"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B351AC3-07A5-4096-88D0-D78678634A64}" type="slidenum"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B352E86-B3E3-4543-BC26-CCB4344ADDE9}" type="slidenum"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8B3E219-A1FC-4A13-B539-76A4043E1102}" type="slidenum">
              <a:rPr b="0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54080" y="404640"/>
            <a:ext cx="7008840" cy="3299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ru-RU" sz="5400" spc="-1" strike="noStrike">
                <a:solidFill>
                  <a:srgbClr val="374c81"/>
                </a:solidFill>
                <a:latin typeface="Century Gothic"/>
              </a:rPr>
              <a:t>Техника активного чтения учебника НПО и СПО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654080" y="4436640"/>
            <a:ext cx="700884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Методическое пособие по обучению  чтению текстов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701720"/>
            <a:ext cx="384480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«Драмогерменевтика» или видоизмененная театрализация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Вживание в материал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pic>
        <p:nvPicPr>
          <p:cNvPr id="279" name="Picture 2" descr="http://img0.liveinternet.ru/images/attach/c/3/84/294/84294160_1.jpg"/>
          <p:cNvPicPr/>
          <p:nvPr/>
        </p:nvPicPr>
        <p:blipFill>
          <a:blip r:embed="rId1"/>
          <a:stretch/>
        </p:blipFill>
        <p:spPr>
          <a:xfrm>
            <a:off x="5373720" y="1125360"/>
            <a:ext cx="583416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701720"/>
            <a:ext cx="384480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Прием «отсроченная догадка»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Удивляй и изучай!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pic>
        <p:nvPicPr>
          <p:cNvPr id="283" name="Picture 2" descr="https://encrypted-tbn3.gstatic.com/images?q=tbn:ANd9GcTckhEF2BVQ-dO-sW8f6B8jPnIFJ4necxsXBAxPolbJsiPnvRbZ1A"/>
          <p:cNvPicPr/>
          <p:nvPr/>
        </p:nvPicPr>
        <p:blipFill>
          <a:blip r:embed="rId1"/>
          <a:stretch/>
        </p:blipFill>
        <p:spPr>
          <a:xfrm>
            <a:off x="5734080" y="404640"/>
            <a:ext cx="4481640" cy="605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701720"/>
            <a:ext cx="384480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Кубик Блума 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это  таксонометрии  Блума те же вопросы что и у Гина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5186160" y="620640"/>
            <a:ext cx="6110640" cy="4995000"/>
            <a:chOff x="5186160" y="620640"/>
            <a:chExt cx="6110640" cy="4995000"/>
          </a:xfrm>
        </p:grpSpPr>
        <p:pic>
          <p:nvPicPr>
            <p:cNvPr id="288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517720" y="620640"/>
              <a:ext cx="5290200" cy="42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5"/>
            <p:cNvSpPr/>
            <p:nvPr/>
          </p:nvSpPr>
          <p:spPr>
            <a:xfrm>
              <a:off x="5186160" y="4912200"/>
              <a:ext cx="61106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74c81"/>
                  </a:solidFill>
                  <a:latin typeface="Times New Roman"/>
                  <a:ea typeface="Arial"/>
                </a:rPr>
                <a:t>Уровни познания по Блуму</a:t>
              </a:r>
              <a:endParaRPr b="0" lang="en-US" sz="4000" spc="-1" strike="noStrike">
                <a:solidFill>
                  <a:srgbClr val="374c81"/>
                </a:solidFill>
                <a:latin typeface="Arial"/>
              </a:endParaRPr>
            </a:p>
          </p:txBody>
        </p:sp>
      </p:grpSp>
      <p:pic>
        <p:nvPicPr>
          <p:cNvPr id="290" name="Picture 2" descr="https://encrypted-tbn0.gstatic.com/images?q=tbn:ANd9GcQz0EV7-q_-XYh1Mimbd4r9PIZCjAvm2QRhZbVymDNWsRgURVc6"/>
          <p:cNvPicPr/>
          <p:nvPr/>
        </p:nvPicPr>
        <p:blipFill>
          <a:blip r:embed="rId2"/>
          <a:stretch/>
        </p:blipFill>
        <p:spPr>
          <a:xfrm>
            <a:off x="693720" y="836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701720"/>
            <a:ext cx="384480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Оценка текста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критическое отношение к тексту без его прочтения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pic>
        <p:nvPicPr>
          <p:cNvPr id="294" name="Picture 2" descr="http://www.myshared.ru/preview/201292/slide_73.png"/>
          <p:cNvPicPr/>
          <p:nvPr/>
        </p:nvPicPr>
        <p:blipFill>
          <a:blip r:embed="rId1"/>
          <a:stretch/>
        </p:blipFill>
        <p:spPr>
          <a:xfrm>
            <a:off x="4294080" y="62064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12520" y="5516280"/>
            <a:ext cx="7008840" cy="8586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5400" spc="-1" strike="noStrike">
                <a:solidFill>
                  <a:srgbClr val="374c81"/>
                </a:solidFill>
                <a:latin typeface="Century Gothic"/>
              </a:rPr>
              <a:t>Заключение 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54900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rmAutofit fontScale="98000"/>
          </a:bodyPr>
          <a:p>
            <a:pPr>
              <a:lnSpc>
                <a:spcPct val="95000"/>
              </a:lnSpc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Технические тексты можно изучать по дидактическим рецептам  гуманитарного знания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влечь, завлечь и развлечь не зря имеют общий корень «влечение», влечение к работе с трудными текстами, в итоге,  создает большее чувство удовольствие от преодоления сложного материала, чем собственное, пусть захватывающее,  выступление  преподавателя у доски.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54080" y="404640"/>
            <a:ext cx="7008840" cy="3299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ru-RU" sz="5400" spc="-1" strike="noStrike">
                <a:solidFill>
                  <a:srgbClr val="374c81"/>
                </a:solidFill>
                <a:latin typeface="Century Gothic"/>
              </a:rPr>
              <a:t>Спасибо за внимание!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ru-RU" sz="4400" spc="-1" strike="noStrike">
                <a:solidFill>
                  <a:srgbClr val="374c81"/>
                </a:solidFill>
                <a:latin typeface="Century Gothic"/>
              </a:rPr>
              <a:t>Цель написания работы 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4920" indent="30168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Адаптация существующих методик работы с учебным текстом  к условиям чтения технических и научных текстов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ru-RU" sz="4400" spc="-1" strike="noStrike">
                <a:solidFill>
                  <a:srgbClr val="374c81"/>
                </a:solidFill>
                <a:latin typeface="Century Gothic"/>
              </a:rPr>
              <a:t>Особенностей восприятия учебных текстов учащимися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5" name="Содержимое 4" descr=""/>
          <p:cNvPicPr/>
          <p:nvPr/>
        </p:nvPicPr>
        <p:blipFill>
          <a:blip r:embed="rId1"/>
          <a:stretch/>
        </p:blipFill>
        <p:spPr>
          <a:xfrm>
            <a:off x="1066680" y="1650960"/>
            <a:ext cx="10258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520" y="4444920"/>
            <a:ext cx="7008840" cy="19303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5400" spc="-1" strike="noStrike">
                <a:solidFill>
                  <a:srgbClr val="374c81"/>
                </a:solidFill>
                <a:latin typeface="Century Gothic"/>
              </a:rPr>
              <a:t>Проблема! 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2520" y="333000"/>
            <a:ext cx="7008840" cy="4087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Следовательно, ко времени поступления учащихся в учреждения НПО и СПО педагоги профессионального образования сталкиваются с </a:t>
            </a: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неумением учащихся  воспринимать специфические тексты учебников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, а том числе анализировать эмпирические зависимости, представленные в виде схем, символьных изображений и графиков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9763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374c81"/>
                </a:solidFill>
                <a:latin typeface="Century Gothic"/>
              </a:rPr>
              <a:t>Как решаем проблему?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2440" y="907560"/>
            <a:ext cx="6192720" cy="1212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ытаясь исправить ситуацию, педагоги действуют двумя методами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22440" y="2209320"/>
            <a:ext cx="5472000" cy="3962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исключают учебники из педагогического процесса - «объяснение на пальцах»;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изобретают собственные учебные материалы, год от года все более напоминающие раскрашенные комиксы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806800" y="5661000"/>
            <a:ext cx="6048360" cy="512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Учебные пособия или комиксы?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62" name="Содержимое 7" descr="Основы-сварочного-дела-1.jpg"/>
          <p:cNvPicPr/>
          <p:nvPr/>
        </p:nvPicPr>
        <p:blipFill>
          <a:blip r:embed="rId1"/>
          <a:srcRect l="0" t="0" r="0" b="48151"/>
          <a:stretch/>
        </p:blipFill>
        <p:spPr>
          <a:xfrm>
            <a:off x="5589720" y="1125360"/>
            <a:ext cx="6337080" cy="435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9763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000" spc="-1" strike="noStrike">
                <a:solidFill>
                  <a:srgbClr val="374c81"/>
                </a:solidFill>
                <a:latin typeface="Century Gothic"/>
              </a:rPr>
              <a:t>Типология приемов работы с текстом</a:t>
            </a:r>
            <a:endParaRPr b="0" lang="en-US" sz="40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2440" y="1268280"/>
            <a:ext cx="11376000" cy="5400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ставление вопросов к нему; 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труктуризация особым образом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ометки на полях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«драмогерменевтика» или видоизмененная театрализация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эссе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тсроченная догадка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кубик Блума;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ценка текста.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701720"/>
            <a:ext cx="335124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Составление вопросов к тексту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хорошо описано в пособии А. Гина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3718080" y="476280"/>
            <a:ext cx="814212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701720"/>
            <a:ext cx="384480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Структуризация текста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374c81"/>
                </a:solidFill>
                <a:latin typeface="Century Gothic"/>
              </a:rPr>
              <a:t>сводится либо к составлению таблицы, либо графа для выявления смысловых связей между понятиями.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4294080" y="981000"/>
            <a:ext cx="7566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701720"/>
            <a:ext cx="3844800" cy="2844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374c81"/>
                </a:solidFill>
                <a:latin typeface="Century Gothic"/>
              </a:rPr>
              <a:t>Пометки на полях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3351240" cy="1726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374c81"/>
                </a:solidFill>
                <a:latin typeface="Century Gothic"/>
              </a:rPr>
              <a:t>предполагают встраивание новых знаний в существующую систему учащегося.</a:t>
            </a:r>
            <a:endParaRPr b="0" lang="en-US" sz="2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078440" y="404640"/>
            <a:ext cx="7848360" cy="605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2:41:48Z</dcterms:created>
  <dc:creator/>
  <dc:description/>
  <dc:language>en-US</dc:language>
  <cp:lastModifiedBy/>
  <dcterms:modified xsi:type="dcterms:W3CDTF">2013-09-28T13:04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