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370-440A-4D50-B2C5-C8FDD511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0DC-E287-451F-9FF0-B6CCD2BB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98C-883A-46F9-965C-DF455DD8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E2B-5408-4E89-8F0D-70B58549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B4F4-FCCB-4B1B-AEFF-3F45C046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89C3-F3CC-408B-80CC-15ECC71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6037-0F96-4F92-BE17-469FF984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679-2EAE-4A1E-9D83-4119736A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92D3-508E-4C63-9942-FA742928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7E4D-5730-47C7-88C6-1A472E9E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2D54-6A6F-4D50-A752-D7B4F34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644-7BC5-400A-977B-B55E533B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34F8-4239-464B-8E47-7BBC719A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1B72-64E9-4847-959B-9F9C084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4E3D-4288-4EB4-A8FB-98DE61A3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0F3E-222B-4C32-9954-5FBCD293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26FF-303D-4BAB-8D3A-71049077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0AE-0BB1-498F-88F0-0FF5C161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6D3-E722-4EE1-9E34-2A88BFB8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8E3-7264-4403-B87C-7C69FEDF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EF0-49B9-4482-BCC4-39631774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FDD-4EC9-41EA-9573-E1CD76E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EE7-4277-4DDD-B818-8A96E17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DFC-CCB4-4F19-8E90-D5D741A0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66DC-151C-4274-BC30-5861AE9059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9F9B-9454-436B-8739-48E03A4494D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Тема: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Красная книга Приморь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666880" y="38862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Было время, когда дикая природа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внушала безотчётный страх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человеку, то теперь её нужно защищат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С. Шварц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2514600" cy="3276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Информационные ресурс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расная книга Приморского края. Владивосток: АВК «Апельсин», 200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ищные звери леса. М.:Агропромиздат, 1988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ов тайги. Владивосток: «Дальнаук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Энциклопедия для дете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тицы и звери. М.:Аванта+, 2003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тернет-ресурс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ww.dv – people.r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Контактная информ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Лазарева Елена Викторовн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читель начальных классов Муниципального бюджетн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щеобразовательного учреждения «Средняя школа №22», г.Уссурийска, телефон: 8(4234)325618 - рабоч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Вернигур Елена Васильевна,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читель начальных классов Муниципального бюджетн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щеобразовательного учреждения «Средняя школа №22», г.Уссурийска, телефон: 8(4234)325618 - рабоч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Творческое название проек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Будь природе другом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Основополагающий вопро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Надо ли беречь природу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Цель проект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оспитание бережног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отношения к природ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Задачи проект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ознакомить учащихся с Красной книгой Приморского кр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ширить и углубить знания детей о редких животных и растений Приморского кра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крыть основные причины сокращения численности редких видов животных и растен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еры необходимые для их охран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оспитать бережное отношение к природ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ивить любовь к родному краю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  <p:sndAc>
      <p:stSnd>
        <p:snd r:embed="rId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редмет, в рамках которого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     проводится проект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Участники проек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учащиеся 3 классов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Темы самостоятельного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         исслед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68529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Группа «Зоологи»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едкие и исчезающие животные  Приморск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чины исчезновения редких животных.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храна исчезающих животных Приморь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прос учащихся 3-4 классов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Группа «Ботаники»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едкие и исчезающие виды растений Приморског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чины исчезновения редких растений.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храна исчезающих растений Приморь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прос учащихся 3-4 классов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761760"/>
            <a:ext cx="74768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Оформление результатов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          исслед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2514240"/>
            <a:ext cx="7386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Этапы и сроки провед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63520" y="1598760"/>
          <a:ext cx="7386480" cy="422568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Ученик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8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ъявление творческой задач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нсультирование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рганизаци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ндивидуальные размышления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Формулировка гипотезы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Работа в группах, выбор формы работы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бсуждение планов работы и возможности информационных ресурсов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бор информации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дготовка отчётной документации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Защита проектов, выступление на уроке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3:30:01Z</dcterms:created>
  <dc:creator>1</dc:creator>
  <dc:description/>
  <dc:language>en-US</dc:language>
  <cp:lastModifiedBy>Завуч нач. школы</cp:lastModifiedBy>
  <dcterms:modified xsi:type="dcterms:W3CDTF">2013-09-28T02:57:3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