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6.gif" ContentType="image/gif"/>
  <Override PartName="/ppt/media/image19.png" ContentType="image/png"/>
  <Override PartName="/ppt/media/image23.jpeg" ContentType="image/jpeg"/>
  <Override PartName="/ppt/media/image22.gif" ContentType="image/gif"/>
  <Override PartName="/ppt/media/image21.gif" ContentType="image/gif"/>
  <Override PartName="/ppt/media/image17.gif" ContentType="image/gif"/>
  <Override PartName="/ppt/media/image16.gif" ContentType="image/gif"/>
  <Override PartName="/ppt/media/image8.gif" ContentType="image/gif"/>
  <Override PartName="/ppt/media/image33.gif" ContentType="image/gif"/>
  <Override PartName="/ppt/media/image11.gif" ContentType="image/gif"/>
  <Override PartName="/ppt/media/image12.gif" ContentType="image/gif"/>
  <Override PartName="/ppt/media/image3.jpeg" ContentType="image/jpeg"/>
  <Override PartName="/ppt/media/image37.jpeg" ContentType="image/jpeg"/>
  <Override PartName="/ppt/media/image10.gif" ContentType="image/gif"/>
  <Override PartName="/ppt/media/image30.gif" ContentType="image/gif"/>
  <Override PartName="/ppt/media/image14.jpeg" ContentType="image/jpeg"/>
  <Override PartName="/ppt/media/image28.gif" ContentType="image/gif"/>
  <Override PartName="/ppt/media/image9.gif" ContentType="image/gif"/>
  <Override PartName="/ppt/media/image34.gif" ContentType="image/gif"/>
  <Override PartName="/ppt/media/image31.jpeg" ContentType="image/jpeg"/>
  <Override PartName="/ppt/media/image32.png" ContentType="image/png"/>
  <Override PartName="/ppt/media/image1.jpeg" ContentType="image/jpeg"/>
  <Override PartName="/ppt/media/image27.gif" ContentType="image/gif"/>
  <Override PartName="/ppt/media/image36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4.gif" ContentType="image/gif"/>
  <Override PartName="/ppt/media/image5.gif" ContentType="image/gif"/>
  <Override PartName="/ppt/media/image35.gif" ContentType="image/gif"/>
  <Override PartName="/ppt/media/image7.jpeg" ContentType="image/jpeg"/>
  <Override PartName="/ppt/media/image15.gif" ContentType="image/gif"/>
  <Override PartName="/ppt/media/image2.gif" ContentType="image/gif"/>
  <Override PartName="/ppt/media/image25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B4D-58FA-42A0-82CE-FBF09065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109-988E-4EF5-AC6E-1262A69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EE2-9DBD-444F-9CA9-997B78D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99F-32F4-4D0F-B909-11C74162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81EC-D1D7-4903-A649-0B7D8400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1E69-84D0-425F-96C1-4F237F8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2BCB-BFC5-4552-A126-6938E8B7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2CD-11E8-45D8-A082-7CB9DC7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9AD-469B-41E7-8765-418D31BC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24C-E3E9-4570-B0C2-C886EE5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1160-44B2-4011-BAAA-A21739E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519-52E9-44C1-937F-FB02C7D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179-8F20-4895-9AF8-80F740A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D0D-DE4F-43F8-ACE3-1D82769F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4B15-2E7E-41C1-8B34-78B8ED1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90F-3FBF-4CC2-A8E6-40EB213B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3E7-074E-4506-8336-E37024F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41F-B5B3-47BB-9BBB-5C06AF0A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A73-FA88-4E71-9812-8CB6312A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368-FFB0-41DC-B534-04719EF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C10-D26A-4D4B-B4D0-DCE56A5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B40-3054-4E9C-98DA-06A9FC4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670-FEBF-4CDA-807E-0F79D5E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48D-CCFF-442B-B32D-85A76C4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BDCD-5D71-4B10-8367-D01A7DF6E1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366ff"/>
            </a:solidFill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68B-4C81-46F3-88D9-75E77EDBE0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4.jpe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14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4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14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42560" y="458100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39640" y="2492280"/>
            <a:ext cx="806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Rockwell Extra Bold"/>
              </a:rPr>
              <a:t>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thumbbig-88731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826920" y="28548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Виды темпера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Рисунок1"/>
          <p:cNvPicPr/>
          <p:nvPr/>
        </p:nvPicPr>
        <p:blipFill>
          <a:blip r:embed="rId2"/>
          <a:stretch/>
        </p:blipFill>
        <p:spPr>
          <a:xfrm>
            <a:off x="3132000" y="692280"/>
            <a:ext cx="302580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J:\Фоны 2\528137jqpu5lpc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43" name="Picture 5" descr="J:\Фоны1\2da04ccf1eae7bcbb0de257a6fc54a82.gif"/>
          <p:cNvPicPr/>
          <p:nvPr/>
        </p:nvPicPr>
        <p:blipFill>
          <a:blip r:embed="rId2"/>
          <a:stretch/>
        </p:blipFill>
        <p:spPr>
          <a:xfrm>
            <a:off x="571680" y="5119560"/>
            <a:ext cx="3824280" cy="17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:\Фоны1\2da04ccf1eae7bcbb0de257a6fc54a82.gif"/>
          <p:cNvPicPr/>
          <p:nvPr/>
        </p:nvPicPr>
        <p:blipFill>
          <a:blip r:embed="rId3"/>
          <a:stretch/>
        </p:blipFill>
        <p:spPr>
          <a:xfrm>
            <a:off x="4143240" y="5119560"/>
            <a:ext cx="3824280" cy="173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:\Фоны1\2da04ccf1eae7bcbb0de257a6fc54a82.gif"/>
          <p:cNvPicPr/>
          <p:nvPr/>
        </p:nvPicPr>
        <p:blipFill>
          <a:blip r:embed="rId4"/>
          <a:stretch/>
        </p:blipFill>
        <p:spPr>
          <a:xfrm>
            <a:off x="5000760" y="3214800"/>
            <a:ext cx="3824280" cy="173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:\Фоны1\2da04ccf1eae7bcbb0de257a6fc54a82.gif"/>
          <p:cNvPicPr/>
          <p:nvPr/>
        </p:nvPicPr>
        <p:blipFill>
          <a:blip r:embed="rId5"/>
          <a:stretch/>
        </p:blipFill>
        <p:spPr>
          <a:xfrm>
            <a:off x="1500120" y="2857680"/>
            <a:ext cx="3824280" cy="17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:\Фоны1\2da04ccf1eae7bcbb0de257a6fc54a82.gif"/>
          <p:cNvPicPr/>
          <p:nvPr/>
        </p:nvPicPr>
        <p:blipFill>
          <a:blip r:embed="rId6"/>
          <a:stretch/>
        </p:blipFill>
        <p:spPr>
          <a:xfrm>
            <a:off x="285840" y="714240"/>
            <a:ext cx="3824280" cy="1738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6" descr="J:\Фоны1\e05ad21134486b472d38b11d04929a2b.gif"/>
          <p:cNvPicPr/>
          <p:nvPr/>
        </p:nvPicPr>
        <p:blipFill>
          <a:blip r:embed="rId7"/>
          <a:stretch/>
        </p:blipFill>
        <p:spPr>
          <a:xfrm>
            <a:off x="357120" y="142920"/>
            <a:ext cx="1276560" cy="153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c6c90281a812t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4"/>
          <p:cNvSpPr/>
          <p:nvPr/>
        </p:nvSpPr>
        <p:spPr>
          <a:xfrm>
            <a:off x="3708360" y="332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О Л Е Р 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1042920" y="1465560"/>
            <a:ext cx="7131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Неуравновешенное пове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Сильные, кратковременные эмоциональные пере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) Настроение неустойчивое с преобладанием бодр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)Речь громкая, резкая неравноме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)Терпение слаб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)Адаптация хорош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)Общительность высо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1042920" y="3357720"/>
            <a:ext cx="4562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)Агрессивность в повед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)Отношение к критике возбужде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)Страстное, увлекающееся поведение и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)Отношение к новому положите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)Отношение к опасности боевое, рискованное, без особого расч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)Стремление к цели сильное, с полной отдач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)Значительная переоценка своих спосо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)Умеренная внушаемость и мн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7" descr="k_1"/>
          <p:cNvPicPr/>
          <p:nvPr/>
        </p:nvPicPr>
        <p:blipFill>
          <a:blip r:embed="rId9"/>
          <a:stretch/>
        </p:blipFill>
        <p:spPr>
          <a:xfrm>
            <a:off x="5580000" y="3933720"/>
            <a:ext cx="3168720" cy="25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:\Фоны 2\576705fdwv5gg9r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14680" y="2858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0" lang="ru-RU" sz="4200" spc="-1" strike="noStrike">
                <a:solidFill>
                  <a:srgbClr val="0039e5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0039e5"/>
                </a:solidFill>
                <a:latin typeface="Arial Black"/>
              </a:rPr>
              <a:t>Сангвиник </a:t>
            </a: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J:\Фоны1\f270704a64d27d4c6b654f58f188359a.gif"/>
          <p:cNvPicPr/>
          <p:nvPr/>
        </p:nvPicPr>
        <p:blipFill>
          <a:blip r:embed="rId2"/>
          <a:stretch/>
        </p:blipFill>
        <p:spPr>
          <a:xfrm>
            <a:off x="5786280" y="3643200"/>
            <a:ext cx="2889360" cy="2000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:\Фоны1\f51c7e5e4e053009e2cf92ece94ca6b4.gif"/>
          <p:cNvPicPr/>
          <p:nvPr/>
        </p:nvPicPr>
        <p:blipFill>
          <a:blip r:embed="rId3"/>
          <a:stretch/>
        </p:blipFill>
        <p:spPr>
          <a:xfrm>
            <a:off x="714240" y="0"/>
            <a:ext cx="1930680" cy="156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6c90281a812t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887640" y="4039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712080" y="1325520"/>
            <a:ext cx="772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Хорошо уравновешенное 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Поверхностные, кратковременные эмоциональные пере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строение устойчивое, жизнерадос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Речь громкая, живая, пла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Терпение умеренно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Адаптация отл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)Общительность равноме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)Миролюбив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)Отношение к критике спокой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)Энергичное (деловое) или болтливое поведение и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)Отношение к новому безразл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)Отношение к опасности расчетливое, без особого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)Стремление быстрого достижения цели с избеганием препят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)Некоторая переоценка своих спосо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)Небольшая внушаемость и мни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bk_SERV"/>
          <p:cNvPicPr/>
          <p:nvPr/>
        </p:nvPicPr>
        <p:blipFill>
          <a:blip r:embed="rId5"/>
          <a:stretch/>
        </p:blipFill>
        <p:spPr>
          <a:xfrm>
            <a:off x="7093080" y="1989000"/>
            <a:ext cx="150948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J:\Фоны 2\709935q6rcckph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Arial"/>
              </a:rPr>
              <a:t>   </a:t>
            </a:r>
            <a:r>
              <a:rPr b="0" lang="ru-RU" sz="4200" spc="-1" strike="noStrike">
                <a:solidFill>
                  <a:srgbClr val="336600"/>
                </a:solidFill>
                <a:latin typeface="Arial Black"/>
              </a:rPr>
              <a:t>Флегматик (</a:t>
            </a:r>
            <a:r>
              <a:rPr b="0" lang="ru-RU" sz="4200" spc="-1" strike="noStrike">
                <a:solidFill>
                  <a:srgbClr val="336600"/>
                </a:solidFill>
                <a:latin typeface="Arial"/>
              </a:rPr>
              <a:t>продолжение</a:t>
            </a:r>
            <a:r>
              <a:rPr b="0" lang="ru-RU" sz="4200" spc="-1" strike="noStrike">
                <a:solidFill>
                  <a:srgbClr val="336600"/>
                </a:solidFill>
                <a:latin typeface="Arial Black"/>
              </a:rPr>
              <a:t>)</a:t>
            </a: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J:\Фоны1\d48cd249ad14aaef0a2ad3734605a329.gif"/>
          <p:cNvPicPr/>
          <p:nvPr/>
        </p:nvPicPr>
        <p:blipFill>
          <a:blip r:embed="rId2"/>
          <a:stretch/>
        </p:blipFill>
        <p:spPr>
          <a:xfrm>
            <a:off x="7358040" y="3714840"/>
            <a:ext cx="1285920" cy="141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:\Фоны1\Dauphin%2014.gif"/>
          <p:cNvPicPr/>
          <p:nvPr/>
        </p:nvPicPr>
        <p:blipFill>
          <a:blip r:embed="rId3"/>
          <a:stretch/>
        </p:blipFill>
        <p:spPr>
          <a:xfrm>
            <a:off x="150012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6c90281a812t"/>
          <p:cNvPicPr/>
          <p:nvPr/>
        </p:nvPicPr>
        <p:blipFill>
          <a:blip r:embed="rId4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708360" y="3819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202760" y="1325520"/>
            <a:ext cx="67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Отлично уравновешенное 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Слабые эмоциональные пере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строение устойчивое, без больших радостей и печа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Речь монотонная, медл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Терпение очень большо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Адаптация медл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Общительность невысо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)Сдержанность в пове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)Отношение к критике безразл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)Поведение неутомимого труж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)Отношение к новому отрица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)Отношение к опасности хладнокровное, невозмути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)Достижение цели медленное, упо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)Более реальная оценке своих спосо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)Слабая внушаемость, мни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Рисунок13"/>
          <p:cNvPicPr/>
          <p:nvPr/>
        </p:nvPicPr>
        <p:blipFill>
          <a:blip r:embed="rId5"/>
          <a:stretch/>
        </p:blipFill>
        <p:spPr>
          <a:xfrm>
            <a:off x="6300720" y="2637000"/>
            <a:ext cx="1857600" cy="128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:\Фоны 2\747125xm1h3wbr3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Arial Black"/>
              </a:rPr>
              <a:t>  </a:t>
            </a:r>
            <a:r>
              <a:rPr b="0" lang="ru-RU" sz="4200" spc="-1" strike="noStrike">
                <a:solidFill>
                  <a:srgbClr val="0039e5"/>
                </a:solidFill>
                <a:latin typeface="Arial Black"/>
              </a:rPr>
              <a:t>Меланхолик </a:t>
            </a:r>
            <a:r>
              <a:rPr b="0" lang="ru-RU" sz="2800" spc="-1" strike="noStrike">
                <a:solidFill>
                  <a:srgbClr val="0039e5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J:\Фоны1\lijn17.gif"/>
          <p:cNvPicPr/>
          <p:nvPr/>
        </p:nvPicPr>
        <p:blipFill>
          <a:blip r:embed="rId2"/>
          <a:stretch/>
        </p:blipFill>
        <p:spPr>
          <a:xfrm>
            <a:off x="1785960" y="5905440"/>
            <a:ext cx="568656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:\Фоны1\mini6.gif"/>
          <p:cNvPicPr/>
          <p:nvPr/>
        </p:nvPicPr>
        <p:blipFill>
          <a:blip r:embed="rId3"/>
          <a:stretch/>
        </p:blipFill>
        <p:spPr>
          <a:xfrm>
            <a:off x="7329600" y="14292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:\Фоны1\hjmgh.gif"/>
          <p:cNvPicPr/>
          <p:nvPr/>
        </p:nvPicPr>
        <p:blipFill>
          <a:blip r:embed="rId4"/>
          <a:stretch/>
        </p:blipFill>
        <p:spPr>
          <a:xfrm>
            <a:off x="142920" y="2357280"/>
            <a:ext cx="762120" cy="20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6c90281a812t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"/>
          <p:cNvSpPr/>
          <p:nvPr/>
        </p:nvSpPr>
        <p:spPr>
          <a:xfrm>
            <a:off x="2843280" y="-388080"/>
            <a:ext cx="315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01040" y="1187280"/>
            <a:ext cx="834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Очень неуравновешенное 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Глубокие и длительные эмоциональные пере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строение неустойчивое с обладанием пессим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Речь тихая с задых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Терпение очень слаб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Адаптация тру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Общительность низкая (замкнутост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)Истеричность поведения (возмущение и уход от любых сложност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)Отношение к критике обидчи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)Неравномерное, реактивное поведение (как ответ на активность други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)Оптимистическое отношение сменяется пессимистическим в наоб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)Отношение к опасности тревожное, растерянное, подавл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)Стремление к цели то сильное, то слабое с избеганием препят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)Чаще недооценка своих спосо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)Большая внушаемость и мни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29196_original"/>
          <p:cNvPicPr/>
          <p:nvPr/>
        </p:nvPicPr>
        <p:blipFill>
          <a:blip r:embed="rId6"/>
          <a:stretch/>
        </p:blipFill>
        <p:spPr>
          <a:xfrm>
            <a:off x="7061040" y="0"/>
            <a:ext cx="2082960" cy="292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melancoly"/>
          <p:cNvPicPr/>
          <p:nvPr/>
        </p:nvPicPr>
        <p:blipFill>
          <a:blip r:embed="rId7"/>
          <a:stretch/>
        </p:blipFill>
        <p:spPr>
          <a:xfrm>
            <a:off x="7812000" y="4869000"/>
            <a:ext cx="1332000" cy="198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J:\Фоны 2\903152fxqlnfi19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9e5"/>
                </a:solidFill>
                <a:latin typeface="Arial Black"/>
              </a:rPr>
              <a:t>      </a:t>
            </a:r>
            <a:endParaRPr b="0" lang="en-US" sz="3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J:\Фоны1\flover_0046.gif"/>
          <p:cNvPicPr/>
          <p:nvPr/>
        </p:nvPicPr>
        <p:blipFill>
          <a:blip r:embed="rId2"/>
          <a:stretch/>
        </p:blipFill>
        <p:spPr>
          <a:xfrm>
            <a:off x="7072200" y="142920"/>
            <a:ext cx="12002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J:\Фоны1\fleur66.gif"/>
          <p:cNvPicPr/>
          <p:nvPr/>
        </p:nvPicPr>
        <p:blipFill>
          <a:blip r:embed="rId3"/>
          <a:stretch/>
        </p:blipFill>
        <p:spPr>
          <a:xfrm>
            <a:off x="928800" y="5214960"/>
            <a:ext cx="7429320" cy="92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J:\Фоны1\flover_002.gif"/>
          <p:cNvPicPr/>
          <p:nvPr/>
        </p:nvPicPr>
        <p:blipFill>
          <a:blip r:embed="rId4"/>
          <a:stretch/>
        </p:blipFill>
        <p:spPr>
          <a:xfrm>
            <a:off x="1143000" y="7142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alkogol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2987640" y="10126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из них самый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хорош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3203640" y="2637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главное – не бывает хороших или плохих типов темперамента. Есть люди, которые не знают своих особенностей, и поэтому попадают в невыгодные для них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J:\Фоны 2\903152fxqlnfi19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9e5"/>
                </a:solidFill>
                <a:latin typeface="Arial Black"/>
              </a:rPr>
              <a:t>      </a:t>
            </a:r>
            <a:endParaRPr b="0" lang="en-US" sz="3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J:\Фоны1\flover_0046.gif"/>
          <p:cNvPicPr/>
          <p:nvPr/>
        </p:nvPicPr>
        <p:blipFill>
          <a:blip r:embed="rId2"/>
          <a:stretch/>
        </p:blipFill>
        <p:spPr>
          <a:xfrm>
            <a:off x="7072200" y="142920"/>
            <a:ext cx="1200240" cy="2209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J:\Фоны1\fleur66.gif"/>
          <p:cNvPicPr/>
          <p:nvPr/>
        </p:nvPicPr>
        <p:blipFill>
          <a:blip r:embed="rId3"/>
          <a:stretch/>
        </p:blipFill>
        <p:spPr>
          <a:xfrm>
            <a:off x="928800" y="5214960"/>
            <a:ext cx="7429320" cy="92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J:\Фоны1\flover_002.gif"/>
          <p:cNvPicPr/>
          <p:nvPr/>
        </p:nvPicPr>
        <p:blipFill>
          <a:blip r:embed="rId4"/>
          <a:stretch/>
        </p:blipFill>
        <p:spPr>
          <a:xfrm>
            <a:off x="1143000" y="71424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0"/>
          <p:cNvSpPr/>
          <p:nvPr/>
        </p:nvSpPr>
        <p:spPr>
          <a:xfrm>
            <a:off x="2987640" y="12265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203640" y="352080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 и пров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 г. Климов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тне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7" name="Picture 11" descr="0a2446eea378dac32a93eb6b7116220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3"/>
          <p:cNvSpPr/>
          <p:nvPr/>
        </p:nvSpPr>
        <p:spPr>
          <a:xfrm>
            <a:off x="1332000" y="1864080"/>
            <a:ext cx="673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мент – это совокупность свойств, характеризующих динам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протекания психических процессов и поведения человека, их силу, скорость, возникновение, прекращение и измен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336600"/>
              </a:solidFill>
              <a:latin typeface="Arial Black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0a2446eea378dac32a93eb6b711622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89000" y="1773000"/>
            <a:ext cx="86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пократа считают первым, заговорившем 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мен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Рисунок6"/>
          <p:cNvPicPr/>
          <p:nvPr/>
        </p:nvPicPr>
        <p:blipFill>
          <a:blip r:embed="rId3"/>
          <a:stretch/>
        </p:blipFill>
        <p:spPr>
          <a:xfrm>
            <a:off x="2700360" y="3284640"/>
            <a:ext cx="2951280" cy="239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7893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Picture 9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755640" y="2419560"/>
            <a:ext cx="734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ую классификацию темпераментов предложил другой ученый грек - Гален. Она в относительной неизменности существует и в наши дни и включает в себя приведенные выше четыре типа темперамента с их характеристиками. Последнее из известных ее описаний, которое используется  и в современной психологии, принадлежит немецкому философу Иммануилу Канту. Он разделял темпераменты на два типа: темпераменты чувства и темпераменты деятельности. К первым относится меланхолический и сангвинический, а ко вторым - флегматический и холе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1289853342_image007"/>
          <p:cNvPicPr/>
          <p:nvPr/>
        </p:nvPicPr>
        <p:blipFill>
          <a:blip r:embed="rId2"/>
          <a:stretch/>
        </p:blipFill>
        <p:spPr>
          <a:xfrm>
            <a:off x="7077240" y="0"/>
            <a:ext cx="206676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210598688"/>
          <p:cNvPicPr/>
          <p:nvPr/>
        </p:nvPicPr>
        <p:blipFill>
          <a:blip r:embed="rId3"/>
          <a:stretch/>
        </p:blipFill>
        <p:spPr>
          <a:xfrm>
            <a:off x="0" y="0"/>
            <a:ext cx="1866960" cy="23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85ff0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755640" y="155592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темперамента человека имеет собственны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Рисунок8"/>
          <p:cNvPicPr/>
          <p:nvPr/>
        </p:nvPicPr>
        <p:blipFill>
          <a:blip r:embed="rId2"/>
          <a:stretch/>
        </p:blipFill>
        <p:spPr>
          <a:xfrm>
            <a:off x="900000" y="2997360"/>
            <a:ext cx="1584360" cy="2879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3564000" y="292068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ргичность (выносливост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ность долгое время без потерь и перенапряжения выдерживать воздействия окружающей среды и нагруз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1547640" y="1669320"/>
            <a:ext cx="65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Ы  ТЕМПЕР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Рисунок9"/>
          <p:cNvPicPr/>
          <p:nvPr/>
        </p:nvPicPr>
        <p:blipFill>
          <a:blip r:embed="rId2"/>
          <a:stretch/>
        </p:blipFill>
        <p:spPr>
          <a:xfrm>
            <a:off x="900000" y="2708280"/>
            <a:ext cx="1581120" cy="3097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3348000" y="2707200"/>
            <a:ext cx="54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стич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озможность (невозможность) быстро и без потерь для темпа работы переключаться с одного вида деятельности на друго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39e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1258920" y="162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Ы  ТЕМПЕР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771640" y="2493000"/>
            <a:ext cx="659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– характеризует протекание биологических процессов в организме и обусловливает индивидуальный темп переработки информации и перестройки привычных способов работы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10"/>
          <p:cNvPicPr/>
          <p:nvPr/>
        </p:nvPicPr>
        <p:blipFill>
          <a:blip r:embed="rId2"/>
          <a:stretch/>
        </p:blipFill>
        <p:spPr>
          <a:xfrm>
            <a:off x="755640" y="2708280"/>
            <a:ext cx="1457280" cy="300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2920" y="14839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1619280" y="15519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МЕТРЫ 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276720" y="249336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моциональность (чувствительность) 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пособность воспринимать внешние воздействия, реагировать на них эмоционально и с разной си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Рисунок11"/>
          <p:cNvPicPr/>
          <p:nvPr/>
        </p:nvPicPr>
        <p:blipFill>
          <a:blip r:embed="rId2"/>
          <a:stretch/>
        </p:blipFill>
        <p:spPr>
          <a:xfrm>
            <a:off x="468360" y="2492280"/>
            <a:ext cx="2460600" cy="36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:\Фоны 2\255609w1qpothn3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136" name="Picture 8" descr="c6c90281a812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6c90281a812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2388600" y="259200"/>
            <a:ext cx="49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ТЕМПЕР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130120" y="2205360"/>
            <a:ext cx="50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)Холер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)Сангви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)Флегмат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)Меланхол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Рисунок12"/>
          <p:cNvPicPr/>
          <p:nvPr/>
        </p:nvPicPr>
        <p:blipFill>
          <a:blip r:embed="rId4"/>
          <a:stretch/>
        </p:blipFill>
        <p:spPr>
          <a:xfrm>
            <a:off x="900000" y="5661000"/>
            <a:ext cx="7056720" cy="8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7:05:54Z</dcterms:created>
  <dc:creator>Кириллов Валерий Иванович</dc:creator>
  <dc:description/>
  <dc:language>en-US</dc:language>
  <cp:lastModifiedBy>user</cp:lastModifiedBy>
  <dcterms:modified xsi:type="dcterms:W3CDTF">2013-09-22T20:05:04Z</dcterms:modified>
  <cp:revision>19</cp:revision>
  <dc:subject/>
  <dc:title>ТЕМПЕРАМЕНТ</dc:title>
</cp:coreProperties>
</file>