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8E2-16A3-44CF-94D0-9A5D4842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0E3-2404-4C0F-A67C-99471C89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C2D-81CD-4F29-8CD0-9F0A0D92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590-A303-4959-9AFC-C0FB43B6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C31D-0E2E-422A-B58C-BB5FC318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51B-19D5-4E96-92D3-62AE6A49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160B-799E-4BDF-85FB-60A02C7A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7FE2-2D79-4568-AE3B-B74C6320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9BE8-7B13-4E4B-8769-9C8F8F6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CD0F-1F7A-4B7F-9709-F66CC1B9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0670-4CBC-4B08-8884-F4DBBAE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A59-1048-4ABC-94CA-1D4A4514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C75E-7F57-4C57-BF77-310FF38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7B16-1455-4BCC-88D6-AA50B66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5029-0DF6-4C75-B8D7-34F6F91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DBD-2993-4CE1-A35B-4F4D8C7B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802A-5E42-407E-89A6-DC36D2C3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81D-4D34-48B5-A819-62CADCD8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8C5-D96C-4941-B36F-885100BC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333-AA9F-4AAC-8098-5A7B5D0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487-D9B4-4108-8CB1-F7FCA9D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483-F7BE-4377-B171-929F42AE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7E9-33D0-4D01-B991-066AB4BC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C9E-2E1C-4F57-A69F-DAFB1CC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0432-9633-4046-B323-C9A33A5790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A63B-52E7-4CBB-B6B8-28BC13C327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kontakte.ru/photo12686329_146771833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kontakte.ru/photo12686329_14677160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27f4c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атематике для 6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итоги г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ИТОГОВАЯ ЗАДАЧА </a:t>
            </a:r>
            <a:br>
              <a:rPr sz="4000"/>
            </a:b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(5 баллов)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иса в первый день прочитала ½ книги, во второй день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ставшейся части, а в третий день половину того, что прочитала в первые два дня, потом уснула. Успела ли Алиса прочитать всю книг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68360" y="1628640"/>
            <a:ext cx="8218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иса в первый день прочитала ½ книги, во второй день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ставшейся части, а в третий день половину того, что прочитала в первые два дня, потом уснула. Успела ли Алиса прочитать всю книг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1557360"/>
          <a:ext cx="8207280" cy="5157720"/>
        </p:xfrm>
        <a:graphic>
          <a:graphicData uri="http://schemas.openxmlformats.org/drawingml/2006/table">
            <a:tbl>
              <a:tblPr/>
              <a:tblGrid>
                <a:gridCol w="2735280"/>
                <a:gridCol w="2736720"/>
                <a:gridCol w="273528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ан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лныш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вездоч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блиц-опр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магия сч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конкурс капитан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конкурс дев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конкурс мальч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соревнование художн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итоговая задач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27f4c"/>
                </a:solidFill>
                <a:latin typeface="Arial"/>
              </a:rPr>
              <a:t>ЦЕЛЬ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изация умственной деятельности учащихся на уроке матема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157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Блиц-опр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Магия с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Соревновани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- капит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- девоч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- мальч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Соревнование худож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Соревнование чертеж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Итоговая задач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Подведение ит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6-2 класс 175 школы</a:t>
            </a:r>
            <a:br>
              <a:rPr sz="4000"/>
            </a:b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Калининского район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59" name="Picture 5" descr="x_d89e0e94"/>
          <p:cNvPicPr/>
          <p:nvPr/>
        </p:nvPicPr>
        <p:blipFill>
          <a:blip r:embed="rId1"/>
          <a:stretch/>
        </p:blipFill>
        <p:spPr>
          <a:xfrm>
            <a:off x="3390840" y="1557360"/>
            <a:ext cx="5753160" cy="4314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_e3014f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0" y="2962440"/>
            <a:ext cx="12384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БЛИЦ-ОПРОС </a:t>
            </a:r>
            <a:br>
              <a:rPr sz="4000"/>
            </a:b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(1 балл за правильный ответ)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1 коман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c784e"/>
                </a:solidFill>
                <a:latin typeface="Tahoma"/>
              </a:rPr>
              <a:t>дать опреде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уральных чис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оположных чис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пределительного закона умножения для сум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пор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о сложения отрицательных чис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ординатной прям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аллельных прям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о нахождения дроби от чис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о умножения обыкновенных дроб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2 коман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c784e"/>
                </a:solidFill>
                <a:latin typeface="Tahoma"/>
              </a:rPr>
              <a:t>дать опреде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ых чис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аимно обратных чис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пределительного закона умножения для раз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го свойства пропор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нахождения числа по данному значению дроб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ножения отрицательных чис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сложения чисел с разными знак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ординатной плоск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пендикулярных прям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МАГИЯ СЧЕТА</a:t>
            </a:r>
            <a:br>
              <a:rPr sz="4000"/>
            </a:b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(5 баллов)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4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2,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5Х(-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8" descr="m_53759f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405080" y="3068640"/>
            <a:ext cx="1238400" cy="933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9"/>
          <p:cNvSpPr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4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2,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5Х(-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1,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(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+(-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2,1Х(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(3 балла)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a4ac"/>
                </a:solidFill>
                <a:latin typeface="Tahoma"/>
              </a:rPr>
              <a:t>ЗАДАЧА ДЛЯ КАПИТАН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усник уходит в плавание в понедельник в полдень. Плавание продлится 100 часов. Каков день и час прибыти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a4ac"/>
                </a:solidFill>
                <a:latin typeface="Tahoma"/>
              </a:rPr>
              <a:t>ЗАДАЧА ДЛЯ ДЕВОЧЕ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у, погоди!»- зарычал волк, заметив зайца, и бросился за ним. На каком расстоянии они будут через 5 мин., если заяц в минуту пробегает 500 м, а волк 450 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a4ac"/>
                </a:solidFill>
                <a:latin typeface="Tahoma"/>
              </a:rPr>
              <a:t>ЗАДАЧА ДЛЯ МАЛЬЧИ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a4a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царя Гвидона 7 сыновей, у каждого его сына по 7 сыновей, а у каждого внука царя Гвидона по 2 дочери. Сколько правнучек у царя Гвид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СОРЕВНОВАНИЯ ХУДОЖНИКОВ</a:t>
            </a:r>
            <a:br>
              <a:rPr sz="4000"/>
            </a:b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(4 балла)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435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ahoma"/>
              </a:rPr>
              <a:t>1 КОМА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ИСОВАТЬ ФИГУРУ В СИСТЕМЕ КООРДИНА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1;4), (0;0), (1;3), (2;3), (3;2), (3;0), (1;-1), (2;-1), (1;-3), (0;-1), вторую половину найти , отметив для каждой точки симметричну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ahoma"/>
              </a:rPr>
              <a:t>2 КОМА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ИСОВАТЬ ФИГУРУ В СИСТЕМЕ КООРДИН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0;0), (-1;1), (-3;1), (-2;3), (-3;3), (-4;6), (0;8), (2;5), (2;11), (6;10), (3;9), (4;5), (3;0), (2;0), (1;-7), (3;-8), (0;-8), (0;0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СОРЕВНОВАНИЯ ЧЕРТЕЖНИКОВ</a:t>
            </a:r>
            <a:br>
              <a:rPr sz="4000"/>
            </a:br>
            <a:r>
              <a:rPr b="0" lang="ru-RU" sz="4000" spc="-1" strike="noStrike">
                <a:solidFill>
                  <a:srgbClr val="827f4c"/>
                </a:solidFill>
                <a:latin typeface="Arial"/>
              </a:rPr>
              <a:t>(2 балла)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ahoma"/>
              </a:rPr>
              <a:t>1 КОМА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ертить прямоугольник размером 5 клеток на 7 клеток. Заштриховать 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3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асти прямоугольника. Создать рисуно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ahoma"/>
              </a:rPr>
              <a:t>2 КОМА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ертить прямоугольник размером 8 клеток на 3 клетки. Заштриховать 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4 части прямоугольника. Создать рисуно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543840" y="32464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тоговая зада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00:08Z</dcterms:created>
  <dc:creator>Ринат</dc:creator>
  <dc:description/>
  <dc:language>en-US</dc:language>
  <cp:lastModifiedBy>Сизова И.М.</cp:lastModifiedBy>
  <dcterms:modified xsi:type="dcterms:W3CDTF">2013-09-28T11:15:55Z</dcterms:modified>
  <cp:revision>87</cp:revision>
  <dc:subject/>
  <dc:title>ВИКТОРИНА</dc:title>
</cp:coreProperties>
</file>