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12.png" ContentType="image/png"/>
  <Override PartName="/ppt/media/image7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F63-98B3-473B-ADB6-4A2166A8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84A-6062-4459-BD52-686A95AC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A0E-213F-468C-BC3D-CD349F57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598-A664-4DB5-A6CB-08D6B07C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DFE-8F71-4F73-93AC-63DE50E1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704-3D04-4035-8E3F-7FE4CEE3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5E3-9640-4FA4-ABFA-294B8E89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F6B-C274-4353-8F0A-559216D9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BC4-28F4-4575-B248-3CDE44F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045-756A-4453-AF61-F5F47DFD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86A-0ED1-447E-A3BF-C57EBCD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9DB-0A51-4EA4-B026-F7D42E0A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AF12-663B-4FBB-A056-779EB1F99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magicalears.com/clipart/Classic%20Characters/Mickey%20Mouse/07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kirkwood.k12.mo.us/parent_student/nkm/nkms_site/learning_community_pages/studentprojects/2001-2002/animation_robbie_n_8e/images/fishmickey.gif" TargetMode="External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Bradley Hand ITC"/>
              </a:rPr>
              <a:t>Enjoy Englis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009600">
            <a:off x="456840" y="4800600"/>
            <a:ext cx="2133720" cy="98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793200">
            <a:off x="5790960" y="533160"/>
            <a:ext cx="2600280" cy="120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3352680"/>
            <a:ext cx="2432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-304920"/>
            <a:ext cx="2392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 sandwiche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193356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34120" y="2209680"/>
            <a:ext cx="22762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h the car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2924280" cy="2768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4120" y="2133720"/>
            <a:ext cx="24382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e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3390840" cy="315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81480" y="1981080"/>
            <a:ext cx="26672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y a plan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19266600">
            <a:off x="1371240" y="2437920"/>
            <a:ext cx="2900520" cy="2063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2209680"/>
            <a:ext cx="23558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ke photo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2419200" cy="3748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105520" y="2362320"/>
            <a:ext cx="23842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at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189160" cy="298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876920" y="2438280"/>
            <a:ext cx="21762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ve a pic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562120" cy="254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29200" y="2666880"/>
            <a:ext cx="25779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nc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2359080" cy="308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05520" y="2057400"/>
            <a:ext cx="227628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Bradley Hand ITC"/>
              </a:rPr>
              <a:t>New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делать, гот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a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'w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ə] – пол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есть (куш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 sandwic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'sænwɪʤ]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терб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ake a pho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'fəʊtəʊ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тографирова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00200" y="2514600"/>
            <a:ext cx="220968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2054520" cy="2004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913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y football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e a cak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2185920" cy="2667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2133720" cy="207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 shopping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2538360" cy="2590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952880" y="2286000"/>
            <a:ext cx="26733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y hockey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226872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057400"/>
            <a:ext cx="2438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ve a bath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268776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27432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the flower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2602080" cy="3047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410080" y="2362320"/>
            <a:ext cx="24955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 for a wal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73960" cy="39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3067200" cy="3738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81480" y="2362320"/>
            <a:ext cx="2438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9-27T08:44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