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click.wav" ContentType="audio/x-wav"/>
  <Override PartName="/ppt/media/image6.jpeg" ContentType="image/jpe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6F5-3A41-4288-A084-634D99B8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C34-77B2-4E97-9AE8-CC2558BF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703-F237-4834-9ABA-7C8C4E9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848-B33B-483D-B3CC-CC94D501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D191-889E-4327-95B3-67BDFACA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8205-65DD-463D-93D5-C837579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D31C-A47E-470A-97AC-953104C0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608-8A9A-4302-A2E0-770E0D1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4108-186A-4747-A45E-CC19A16B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6763-B574-4A9E-998B-1F2AE5D9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9B58-8E98-4EE7-9F3B-658A937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31A-0057-4EBB-B3E0-D5E59399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D76A-A8BE-40D0-BC79-8B362A3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9EB4-B932-4AC8-9A4B-42871C8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9DDD-BB6F-4722-8BAF-2AD449C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7BB8-4B75-4909-817A-A7BA1F06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02EC-C3D4-4E3D-A3AD-6880CD9B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4D5-F99C-4EA1-B154-D6BD03F3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649-8BC3-4F3E-9790-A56FFB48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489-1A29-4C96-A808-123C1D5E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F36-16D8-46C4-8533-A5A3626D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7C8-9201-402B-86E2-4781373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DCA-8FEA-4A38-9DEA-53C6665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2F1-19FC-4402-8391-FCB4FD3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C420-EA00-4175-8163-399B92E58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441-5EE2-4DC9-9A47-6ADC069C09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0880" y="19810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5481"/>
                </a:solidFill>
                <a:latin typeface="Comic Sans MS"/>
              </a:rPr>
              <a:t>Редкие и исчезающие животные Приморского края</a:t>
            </a: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2b5481"/>
                </a:solidFill>
                <a:latin typeface="Comic Sans MS"/>
              </a:rPr>
              <a:t>Группа «Зоолог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3" descr="сканирование0003"/>
          <p:cNvPicPr/>
          <p:nvPr/>
        </p:nvPicPr>
        <p:blipFill>
          <a:blip r:embed="rId1"/>
          <a:stretch/>
        </p:blipFill>
        <p:spPr>
          <a:xfrm>
            <a:off x="1447920" y="4572000"/>
            <a:ext cx="863640" cy="75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сканирование0006"/>
          <p:cNvPicPr/>
          <p:nvPr/>
        </p:nvPicPr>
        <p:blipFill>
          <a:blip r:embed="rId2"/>
          <a:stretch/>
        </p:blipFill>
        <p:spPr>
          <a:xfrm>
            <a:off x="6553080" y="380880"/>
            <a:ext cx="955800" cy="75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сканирование0010"/>
          <p:cNvPicPr/>
          <p:nvPr/>
        </p:nvPicPr>
        <p:blipFill>
          <a:blip r:embed="rId3"/>
          <a:stretch/>
        </p:blipFill>
        <p:spPr>
          <a:xfrm>
            <a:off x="5638680" y="457200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нирование0005"/>
          <p:cNvPicPr/>
          <p:nvPr/>
        </p:nvPicPr>
        <p:blipFill>
          <a:blip r:embed="rId4"/>
          <a:stretch/>
        </p:blipFill>
        <p:spPr>
          <a:xfrm>
            <a:off x="762120" y="380880"/>
            <a:ext cx="8445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сканирование0011"/>
          <p:cNvPicPr/>
          <p:nvPr/>
        </p:nvPicPr>
        <p:blipFill>
          <a:blip r:embed="rId1"/>
          <a:stretch/>
        </p:blipFill>
        <p:spPr>
          <a:xfrm>
            <a:off x="1295280" y="2514600"/>
            <a:ext cx="259092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514600" y="380880"/>
            <a:ext cx="43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Амурский тиг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Хищ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Кошачь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, сокращающийся в численности вид, который находится под угрозой исчезновения. Внесен в Красную книгу РФ. Тигр встречается в Сихотэ-Алинском и Лазовском заповедниках. Питается хищник кабанами, изюбрями, пятнистыми оленями, косулями. Охотничьи владения тигра обширны 600-800кв.км. Он охотится в одиноч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За одну трапезу амурский тигр может съесть до 30 кг мяса. Сытый тигр большую часть дня отдыхает, лишь изредка встает, чтобы напиться из ближайшего ручья. Он прекрасно плавает. Детёнышей бывает от 1 до 4, но чаще от1 до 2. Они остаются с матерью 2-3 года, а затем становятся самостоятельными. Смертность среди молодых животных высокая-50%. </a:t>
            </a: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 животных уменьшается в связи с браконьерством и дисбалансом кормовых ресурс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сканирование0035"/>
          <p:cNvPicPr/>
          <p:nvPr/>
        </p:nvPicPr>
        <p:blipFill>
          <a:blip r:embed="rId1"/>
          <a:stretch/>
        </p:blipFill>
        <p:spPr>
          <a:xfrm>
            <a:off x="1143000" y="25146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5481"/>
                </a:solidFill>
                <a:latin typeface="Tahoma"/>
              </a:rPr>
              <a:t>Пятнистый олен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59160" y="1981080"/>
            <a:ext cx="337644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Парнокопыт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Олень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Пятнистые олени, или, как их называют, олени-цветки, - основная достопримечательность Лазовского заповедника. Питаются олени желудями дуба, побегами и листьями деревьев и кустарников. Они предпочитают стадный образ жизни и держатся группами по 10-30 особ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оленей уменьшается  в связи с нападением на них хищников (тигр, волк, рысь) и браконьерств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Причины исчезнов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8040" y="2190240"/>
            <a:ext cx="79279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914400" y="25909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ох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браконьер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172200" y="2590920"/>
            <a:ext cx="205740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разруш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местооб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505320" y="350532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838080" y="4724280"/>
            <a:ext cx="20574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загрязн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окружающей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сре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6172200" y="4724280"/>
            <a:ext cx="213372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дисбалан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п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2895480" y="3124080"/>
            <a:ext cx="762120" cy="3812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5334120" y="3124080"/>
            <a:ext cx="838080" cy="3812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2895480" y="4419360"/>
            <a:ext cx="762120" cy="6094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2"/>
          <p:cNvSpPr/>
          <p:nvPr/>
        </p:nvSpPr>
        <p:spPr>
          <a:xfrm flipH="1" flipV="1">
            <a:off x="5334120" y="4419360"/>
            <a:ext cx="838080" cy="6094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Наши исслед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5481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Мы, группа «Зоологи» провели опрос среди учащихся 3-4 класс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Ребята отвечали на вопросы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Напиши названия трёх редких животных Приморского кра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Какое животное изображено на гербе нашего края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Что делают люди для сохранения редких животных Приморского края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Сколько заповедников в крае?</a:t>
            </a:r>
            <a:r>
              <a:rPr b="1" lang="ru-RU" sz="21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Результаты опро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441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1 вопрос правильно ответили - 38 учащих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2 вопрос правильно ответили - 42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3 вопрос правильно ответили -  26 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4 вопрос правильно ответили - 32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1752480" y="1981080"/>
          <a:ext cx="6019920" cy="26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601992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Творческая мастерск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Picture 16" descr="007"/>
          <p:cNvPicPr/>
          <p:nvPr/>
        </p:nvPicPr>
        <p:blipFill>
          <a:blip r:embed="rId1"/>
          <a:stretch/>
        </p:blipFill>
        <p:spPr>
          <a:xfrm>
            <a:off x="2514600" y="2971800"/>
            <a:ext cx="189720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Наши рису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Picture 8" descr="1 278"/>
          <p:cNvPicPr/>
          <p:nvPr/>
        </p:nvPicPr>
        <p:blipFill>
          <a:blip r:embed="rId1"/>
          <a:stretch/>
        </p:blipFill>
        <p:spPr>
          <a:xfrm>
            <a:off x="2971800" y="259092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Наши 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В ходе нашего исследования, мы узнали, что есть животные в Приморском крае, которые находятся на грани исчезновения. Это значит, что их мало, они могут погибнуть. Наше государство заботиться о таких животных: принимает законы, защищающие животных, создаёт заповедники, заказники.  Знакомит нас с редкими животными и учит жить в гармонии с природой- Красная книга Приморского края. В книгу занесены 283 вида редких и находящихся под угрозой исчезновения животны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Хоров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Нор звериных, птичьего гнез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Разорять не будем НИКОГДА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Пусть птенцам и маленьким зверят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Хорошо живётся с нами рядом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                                     </a:t>
            </a:r>
            <a:r>
              <a:rPr b="1" lang="ru-RU" sz="1200" spc="-1" strike="noStrike">
                <a:solidFill>
                  <a:srgbClr val="2b5481"/>
                </a:solidFill>
                <a:latin typeface="Tahoma"/>
              </a:rPr>
              <a:t>В.Берест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сканирование004"/>
          <p:cNvPicPr/>
          <p:nvPr/>
        </p:nvPicPr>
        <p:blipFill>
          <a:blip r:embed="rId1"/>
          <a:stretch/>
        </p:blipFill>
        <p:spPr>
          <a:xfrm>
            <a:off x="1219320" y="1981080"/>
            <a:ext cx="14731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Наше предположение о том, что «природа неисчерпаема», оказалось ошибочным. Животные – часть природы, поэтому надо защищать, охранять и бережно к ним относи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Зверь, трава, цветок и птица</a:t>
            </a:r>
            <a:br>
              <a:rPr sz="2000"/>
            </a:b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 Не всегда умеют защититься.</a:t>
            </a:r>
            <a:br>
              <a:rPr sz="2000"/>
            </a:b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Если будут уничтожены они,</a:t>
            </a:r>
            <a:br>
              <a:rPr sz="2000"/>
            </a:b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     На планете мы останемся од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сканирование009"/>
          <p:cNvPicPr/>
          <p:nvPr/>
        </p:nvPicPr>
        <p:blipFill>
          <a:blip r:embed="rId1"/>
          <a:stretch/>
        </p:blipFill>
        <p:spPr>
          <a:xfrm>
            <a:off x="1295280" y="457200"/>
            <a:ext cx="2006640" cy="147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74960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ОХРАНА ПРИРОДЫ</a:t>
            </a: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, комплекс мер по сохранению, рациональному использованию и восстановлению природных ресурсов Земли, в том числе видового разнообразия флоры и фауны, богатства недр, чистоты вод и атмосферы. Опасность необратимых изменений природной среды в отдельных регионах Земли стала реальной из-за возросших масштабов хозяйственной деятельности человека. К 70-м гг. 20 века  исчезло свыше 250 видов и подвидов позвоночных животных. С начала 80-х гг. в среднем 1 вид (или подвид) животных исчезал ежедневно, а вид растений — еженедельно (под угрозой исчезновения находятся св. 20 тыс. видов). Около 1000 видов птиц и млекопитающих (в основном обитатели тропических лесов, сводимых со скоростью десятков га в минуту) находятся под угрозой вымирания. Ежегодно сжигается около 1 млрд. т условного топлива, выбрасываются в атмосферу сотни млн. тонн оксидов азота, серы, углерода (часть из них возвращается в виде кислотных дождей), сажи, золы и пыли. Почвы и воды загрязняются промышленными и бытовыми стоками (сотни млрд. тонн в год), нефтепродуктами (несколько млн. т), минеральными удобрениями (около сотни млн. т) и пестицидами, тяжелыми металлами (ртуть, свинец и др.), радиоактивными отход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ru-RU" sz="4800" spc="-1" strike="noStrike">
                <a:solidFill>
                  <a:srgbClr val="2b5481"/>
                </a:solidFill>
                <a:latin typeface="Tahoma"/>
              </a:rPr>
              <a:t>Цель: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ознакомление и расширение </a:t>
            </a:r>
            <a:br>
              <a:rPr sz="3200"/>
            </a:b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    знаний о редких животных</a:t>
            </a:r>
            <a:br>
              <a:rPr sz="3200"/>
            </a:b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     Приморского кра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              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              </a:t>
            </a:r>
            <a:r>
              <a:rPr b="1" lang="ru-RU" sz="4800" spc="-1" strike="noStrike">
                <a:solidFill>
                  <a:srgbClr val="2b5481"/>
                </a:solidFill>
                <a:latin typeface="Tahoma"/>
              </a:rPr>
              <a:t>Задачи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узнать и расширить знания о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редких животных Приморского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края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определить причины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исчезновения животных и меры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их защиты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привить любовь к природе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воспитать бережное отношение к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животным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Пути решения задач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изучить материалы из учебника и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дополнительную литературу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провести опрос среди учащихся 3-4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классов</a:t>
            </a:r>
            <a:br>
              <a:rPr sz="3600"/>
            </a:br>
            <a:r>
              <a:rPr b="1" lang="ru-RU" sz="3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нарисовать экологические знаки и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рисунки редких животных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Приморского края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Гипотеза</a:t>
            </a:r>
            <a:br>
              <a:rPr sz="4400"/>
            </a:br>
            <a:br>
              <a:rPr sz="2000"/>
            </a:br>
            <a:r>
              <a:rPr b="1" lang="ru-RU" sz="3600" spc="-1" strike="noStrike">
                <a:solidFill>
                  <a:srgbClr val="2b5481"/>
                </a:solidFill>
                <a:latin typeface="Tahoma"/>
              </a:rPr>
              <a:t>П</a:t>
            </a: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рирода неисчерпае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Мы предполагаем, что природа неисчерпаема, сколько бы ни брать у неё, всё снова само собой восстанов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2" descr="024"/>
          <p:cNvPicPr/>
          <p:nvPr/>
        </p:nvPicPr>
        <p:blipFill>
          <a:blip r:embed="rId1"/>
          <a:stretch/>
        </p:blipFill>
        <p:spPr>
          <a:xfrm>
            <a:off x="1143000" y="2819520"/>
            <a:ext cx="156852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сканирование0003"/>
          <p:cNvPicPr/>
          <p:nvPr/>
        </p:nvPicPr>
        <p:blipFill>
          <a:blip r:embed="rId1"/>
          <a:stretch/>
        </p:blipFill>
        <p:spPr>
          <a:xfrm>
            <a:off x="838080" y="2133720"/>
            <a:ext cx="1511280" cy="1476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33720" y="380880"/>
            <a:ext cx="51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Усач реликтов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19240" y="2329920"/>
            <a:ext cx="39639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Жесткокрыл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Усачи, или Дровосе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 вид, находящийся под угрозой исчезновения. Внесён в Красную книгу РФ. В настоящее время его численность на территории Приморского края критическая, этот вид может исчезнуть. Обитают жуки в хвойно-широколиственных и  широколиственных лесах. Они летают с июля по сентябрь, питаются вытекающим соком на стволах деревьев, откладывают яйца на кору деревьев. Заселяют липу амурскую, ясень маньчжурский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вида сильно сокращается из-за вырубки леса и лесных пожаров.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1295280" y="2743200"/>
            <a:ext cx="1614600" cy="1476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905120" y="380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Утка-мандар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4097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Гусеобраз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Ути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 вид, внесён в Красную книгу РФ. Мандаринки населяют горно-таёжные реки, предпочтительно в смешанных  лесах. Начинают прилетать на места гнездовий в конце марта. Токование отмечается с середины апреля, а откладка яиц- с середины мая (кладка-7-14 яиц). Гнездятся в дуплах тополей. Отлёт к местам зимовок происходит в октябр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птицы уменьшается из-за вырубки леса, выжигания дуплистых деревьев и незаконного отстрела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1295280" y="2819520"/>
            <a:ext cx="1522440" cy="1476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981080" y="4572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Японский журав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07120" y="2262240"/>
            <a:ext cx="330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Журавлеобраз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Журавли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 вид журавлей, находящийся под угрозой исчезновения. Гнездится небольшими группами (отдельными парами) в бассейне реки Уссури. К месту гнездования журавль прилетает в апреле, а покидает его в октябре. Расстояние между гнездами- от одного до нескольких километров. Кладка состоит из 1-2 яиц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Негативное влияние оказывает на жизнь пернатых оказывает уничтожение гнёзд (травяные пожары) и птиц (отстрел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сканирование0010"/>
          <p:cNvPicPr/>
          <p:nvPr/>
        </p:nvPicPr>
        <p:blipFill>
          <a:blip r:embed="rId1"/>
          <a:stretch/>
        </p:blipFill>
        <p:spPr>
          <a:xfrm>
            <a:off x="1447920" y="2819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838080" y="380880"/>
            <a:ext cx="754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Дальневосточный леопар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09720" y="182880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Хищ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Кошачь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чайший, находящийся на грани исчезновения вид. Леопард обитает на юго-западе Приморского края. Питается он косулей, пятнистым оленем, барсуком, зайцем и енотовидной собакой. Детёнышей бывает у леопарда-2, редко-3. Они бывают рядом с матерью 12-15 месяцев, после чего становятся самостоятельным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Основным фактором уменьшения количества этого животного -  браконьерская добыча, связанная с повышенным спросом на части тела, которые используются для тибетской медицины. Происходит смена местообитания, связанная с рубкой леса и пожарами.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 нач. школы</cp:lastModifiedBy>
  <dcterms:modified xsi:type="dcterms:W3CDTF">2013-09-28T03:53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