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F8B-02F8-47F2-A948-0C3A567A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C7C-9C07-4965-889F-BB13D57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181-F1DF-42D3-845C-2871988F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910-BD3D-45D8-8000-8F09EEBE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470-914D-4527-B43D-642BFC8C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B86-1FCA-42C5-B0DE-B79E2B7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C0A-C049-4621-B76B-EBF12870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237-B4B4-4ED5-B064-DC9C21C1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E104-0858-4F53-BE4E-F9784DC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5E65-D52B-4BBD-8643-D1B3EA7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1F34-2243-46B3-84E2-24B8798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89E-15D7-45B0-8E8A-65AA2E5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72C-908D-421B-BFCC-C9EA3AD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DF9-3254-4D2F-8599-8798FAC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078-2504-4C4B-8C7D-D58042A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7A4-ADBC-42FE-B61A-0C607DD2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678B-1CD4-4C7E-B4C7-98F24FD8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BF8-1E78-43FF-BAED-51E1D00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95B-7A7E-4D72-A20F-76BCF9F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14F-300C-4830-A211-171A354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5A0-DECF-4E05-ABAD-0CBDA48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B4C-58BC-4BDF-8CF5-31B96FB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CD7-AD9E-451E-A5B3-0833F95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8B8-38B2-434E-918D-E54DF26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B4F7-BC8E-4F3A-84B7-1DC02D2519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124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344EFB-BC2B-4B9F-94D6-B862CCC224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79640" y="360360"/>
            <a:ext cx="5580000" cy="30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41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Лес и его 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9280"/>
            <a:ext cx="846612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работ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арсегов Максим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еник 4 -б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ОУ РМЭ «Лицей Бауманск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чиева Раиса Александр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Йошкар — Ола,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начение леса для здоровья челове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 имеет огромное целебное знач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здухе природных лесов присутствует более 300 наименование химических соединений. Лес активно поглощает промышленные загрязнения, в частности пыль, углеводороды. Лес выделяет фитонциды- обладающие бактерицидными свойствами, они благотворно влияют на нервную систему, обмен веществ, губительно действует на вирус гриппа, снижают содержание микробов в воздух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начение леса для жизнедеятельности человек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тарину на  Руси говорили: «Рядом с лесом жить- голодному не быть».Можно выделить следующие основные направления использования лес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 пищи(грибы, ягоды, звер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72080" y="2340000"/>
            <a:ext cx="3968640" cy="29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84240"/>
            <a:ext cx="82263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начение леса для жизнедеятельности человек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439640"/>
            <a:ext cx="4319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27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 энергии(др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27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оительный матери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27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ье для производства бума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27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ье, применяемое в медици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27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улятор природных процессов(лесопосадки для защиты почвы от выветриван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00720" y="1979640"/>
            <a:ext cx="450036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действие леса с окружающей средо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энергия. Служит одним из главных источников существования ле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сфера. Лес непосредственно участвует в круговороте воды в природе и таким образом взаимодействует с гидросфер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а. Лес участвует в  круговороте кислор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отный мир. Лес служит средой обитания для многих животных. Животные играют в лесу роль санита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. Лес имеет огромное значение для здоровья и жизнедеятельности человека. Жизнедеятельность человека в свою очередь влияет на ле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319640" y="1618920"/>
            <a:ext cx="468000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 работы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арсегов Максим Валентинови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. Йошкар — Ола, 2010 г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011480" cy="3005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19040" y="361800"/>
            <a:ext cx="822024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зитная карточ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сложный организм. Этот организм состоит  из множества деревьев, живущих совместной жизнью, при которой взаимное влияние друг на друга и борьба за существование является главными условием. Это условие даёт лесу в то же время необходимую стойкость в борьбе с вредителями и с разными невзгод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дельно стоящие деревья не могут быть названы лесом, хотя их и можно насчитать большое колич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89280" y="539640"/>
            <a:ext cx="4230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нятие о ле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4240"/>
            <a:ext cx="82263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6680" y="1622520"/>
            <a:ext cx="3703680" cy="3238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389480" y="1600200"/>
            <a:ext cx="443052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132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7333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ножение древесных пород происходит двумя способами – от семян и от корневой поросли. Семенами размножаются хвойные породы, а лиственные – семенами и поросл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7333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70280" y="2421000"/>
            <a:ext cx="4013280" cy="2882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0720" y="318960"/>
            <a:ext cx="69231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исхождение деревь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31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орьба за существ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160" y="1743120"/>
            <a:ext cx="422748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лесу происходит самая жестокая борьба за существование, и лишь немногие деревья выходят из неё победителями. Количество деревьев на одном гектаре от 100 до 150 тыс.шт; а через 150-200 лет остаётся от400 до 800 деревьев – остальные погибают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19640" y="2035080"/>
            <a:ext cx="4500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ль леса в природе и жизни человека велика. Лес даёт много пользы – помогает нам в борьбе с природой: предохраняет водоёмы от обмеления, задерживает летучие пески, улучшает поч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дышит, забирая из воздуха углекислый газ, а отдаёт обратно кислор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улучшает климат, очищает воздух и укрепляет здоровье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5520" y="179280"/>
            <a:ext cx="5603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ль леса в прир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594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71080"/>
            <a:ext cx="4680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ждое  дерево разделяется на три части – корень, ствол и вершину с листьями, или крону. При помощи корней дерево берёт   из земли питательные вещества, и в то же время корни служат для дерева опорой. Листья служат для получения пищи из воздуха, а ствол является главною, самой ценной частью дерева и проводником питательных веществ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68840" y="2441520"/>
            <a:ext cx="4011480" cy="2838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024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оение и питание дер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5759280" cy="41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gg</cp:lastModifiedBy>
  <dcterms:modified xsi:type="dcterms:W3CDTF">2009-02-05T17:40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