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8F58-49A3-477A-BE34-794524FD7C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C211-AD24-43E2-98B0-0FF6D99664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C8A-C77E-42AB-B5FF-C494D0BD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286-9317-4683-BD3C-C873AD6A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68B7-6D52-4690-87FB-28173821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06B-1DE6-4998-B355-BE20296F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76A1-E1EE-43E6-820D-EE8F28B5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9574-8C68-4D20-863F-15BD8992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FBAA-02BA-4E2B-8B0F-9762911F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B363-D510-480F-8A29-0A352C24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255B-C7C0-4968-AEFD-A4EDAE9A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5B7D-AE4D-4947-A26A-AC00DC97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89E8-FD30-4BC3-AF8E-6B4018BC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5D4C-5649-49B6-B470-A7D0421F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BFD3-DA59-495E-90C8-9036F0FE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0277-33B1-4FEE-8F56-89F39860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6594-32CD-4864-B957-76C1B1D8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5694-2696-4B8C-A8DD-425637B7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ECF8-CE22-4530-852B-35957BB7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3D919-1B37-42BD-A242-06648462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DA12A-3E14-4204-841D-E4C33CF7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48B62-3F91-423D-B58D-2B2AE300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45B0A-EF7A-439B-9961-9ED7B61D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69C11-8205-4DF5-A96B-6F05D53C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384F-6060-40F1-8D5C-34F099E0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D1E11-6F1D-4F9A-9A93-9366A92F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851B4-D340-4022-AE87-9C8A2B16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4CA3A-4534-49FC-8097-F643FC32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C1C2D-262C-4C3A-B8A1-42E7CBC7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E53F0-4352-456B-BFA8-0A3AACD2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93AA2-7B4A-45D6-B116-0A179486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C8B01-041A-4E28-915E-80B25487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B7ECC-D372-48E4-AEAF-A83AF312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085F8-2E31-44DA-826D-7D31FC66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7C959-07F2-4760-A5A2-43CA7BDF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8E3E-47D5-4A27-8C2F-A4BDA103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3A3B7-BAD8-448C-B07C-A30DD403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BFD1-71E4-42E6-A231-0F088A6E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7789C-1E5E-4C49-8FB1-AB274C6E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792A5-E784-45D3-A971-AAD616FF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4B904-9499-4A6D-A696-6AFCFBE1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6EE37-A34A-4611-B629-B7F506AC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02D57-DD76-4A50-9A79-0CE95C00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343CD-1F1B-4501-A83D-EA707319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67E1C-0CEA-4F73-BB89-B7EB1FE0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1E4AB-14D8-47D1-B2A0-1546D69F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C18-3F1A-440B-BA5C-717F2C6C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B120F-7DEA-4F92-A719-05FBBC58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151E0-9968-4154-BB99-2F0A749E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84E72-00D6-4C14-9E9F-3E4DB644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070DA-4E92-4AE7-BD38-1E8417DB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F1951-EAA2-499A-A7DE-B7BD9053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0099C-3132-47EC-B669-B40A5F80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D817A-5DFA-4EE7-8FFD-85E55CF8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AD791-84D0-4968-B620-CC603661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1D848-5D58-4631-94D4-9C75F0E9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24F04-A77B-4F53-9F91-E3CD6BEF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6A7F-B0B6-4997-BA98-5DEBBE76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B615B-6853-4748-B359-73525BE5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659-CD28-42B2-A525-66B8DC52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A0A-4B07-41F8-9D9F-EE64D16F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F454-A274-438C-8D99-40CE054C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F664-ABF5-4C01-ABFD-A774BBFA091D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2686-5B58-4112-BF3D-70325782C798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4FAC-082C-4087-87DB-A762F8159994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AFB2-412C-419C-BD07-D63284076B51}" type="slidenum">
              <a:rPr b="0" lang="ru-RU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AE92-8448-431D-9E2B-6C27749ACBA3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Franklin Gothic Medium"/>
              </a:rPr>
              <a:t>ИНТЕГРАЦИЯ ОБРАЗОВАТЕЛЬНОЙ ОБЛАСТИ ТРУД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1673280" y="115920"/>
            <a:ext cx="62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грация О. О. «Труд» с О. О. «Позн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24000" y="577800"/>
          <a:ext cx="8569080" cy="6500880"/>
        </p:xfrm>
        <a:graphic>
          <a:graphicData uri="http://schemas.openxmlformats.org/drawingml/2006/table">
            <a:tbl>
              <a:tblPr/>
              <a:tblGrid>
                <a:gridCol w="1763640"/>
                <a:gridCol w="1368360"/>
                <a:gridCol w="1897200"/>
                <a:gridCol w="1955520"/>
                <a:gridCol w="1584360"/>
              </a:tblGrid>
              <a:tr h="366120"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Виды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амообслужи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руд в уголке прир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Хоз.-бытовой тр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учной тр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знакомление с трудом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366120"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оздавать ситуации, побуждающие детей к проявлению навыков самообслужива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гровая ситуация «Научим Неумейку мыть рук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облюдать порядок в своем шкафу, учить раскладывать одежду в определенные места(верхняя, нижняя пол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чить самостоятельно готовить материалы и пособия к НО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иобщать детей  к труду  на огороде (величина, сенсорное развитие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должать ухаживать за цветами в уголке природы(цветы с широкими листьями и с узкими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едение календаря природы (какой день недели сегодня, какой был вчера, какой будет завтра, какое число       вчера небо было ясное, сегодня пасмурное и т. д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чить детей самостоятельно и добросовестно выполнять обязанности дежурных по столовой сервировать стол(раскладывать ложки, вилки справа от тарелки, расставлять хлебницы),убирать посуду после е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чить детей помогать взрослым поддерживать порядок в группе: протирать игрушки и учебные пособия, мыть игрушки и строительный материал (сначала кубики, затем цилиндры),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аивать  навыки стирки мелких вещей и кукольного белья (белое и цветное)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иобщать детей к изготовлению пособий для сюжетно-ролевых игр; предметов для познавательно-исследовательской деятельности, украшений к  праздникам, творческих работ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 изготовлению памяток  с номерами телефонов экстренных служб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уклетов по уходу за растения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должать работу по ведению дневников наблюдений(схематичное изображение погодных явлений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оздавать тематические альбомы, н-р, «Все работы хороши- выбирай на вкус», «Наши помощник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должать знакомить дошкольников с  трудом взрослы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рганизовать встречу с представителями професс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добрать дидактические игры, которые моделируют структуру трудового процесса и расширяют представления о мире профессий, их взаимосвязях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ектная деятельнос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249" name="TextBox 4"/>
          <p:cNvSpPr/>
          <p:nvPr/>
        </p:nvSpPr>
        <p:spPr>
          <a:xfrm>
            <a:off x="3975120" y="1700280"/>
            <a:ext cx="15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0" y="333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грация О. О. «Труд» с О. О. «Художественная литерату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843120" y="836640"/>
          <a:ext cx="6989760" cy="576576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1366920"/>
                <a:gridCol w="1368360"/>
                <a:gridCol w="1517760"/>
              </a:tblGrid>
              <a:tr h="366120"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Виды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обслужи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уд в уголке прир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оз.-бытовой тр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чной тр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знакомление с трудом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371520">
                <a:tc gridSpan="5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6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пользовать потешки (Водичка-водичка, умой моё личико…)пословицы, поговорки для обучения детей навыкам самообслуживания, формирования культурно-гигиенических навы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креплять представление о трудолюбии и лени. Знакомить с произведениями, отображающими процесс труда в природе (н-р белорусская н.с. «Легкий хлеб», р.н.с. «Вершки и корешк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обрать русский народный фольклор и использовать его для сопровождения трудового процесс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влекать детей к ремонту книг, пособ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вершенствовать умение работать с природным материалом, бумагой, тканью. Продолжать учить делать  игры и игрушки своими руками, привлекать к изготовлению пособий для театрализованной деятельност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накомить детей с художественной литературой, детскими энциклопедиями, знакомящими детей с трудовой деятельностью взрослы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знакомить с трудом писателя, книгоиздате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252" name="TextBox 3"/>
          <p:cNvSpPr/>
          <p:nvPr/>
        </p:nvSpPr>
        <p:spPr>
          <a:xfrm>
            <a:off x="3971520" y="19890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1332000" y="18900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Интеграция О. О. труд с О. О. Социа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24000" y="692280"/>
          <a:ext cx="8569080" cy="5195880"/>
        </p:xfrm>
        <a:graphic>
          <a:graphicData uri="http://schemas.openxmlformats.org/drawingml/2006/table">
            <a:tbl>
              <a:tblPr/>
              <a:tblGrid>
                <a:gridCol w="2087280"/>
                <a:gridCol w="1586160"/>
                <a:gridCol w="1798560"/>
                <a:gridCol w="1225440"/>
                <a:gridCol w="1871640"/>
              </a:tblGrid>
              <a:tr h="366120"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Виды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амообслужи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руд в уголке прир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Хоз.-бытовой тр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учной тр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знакомление с трудом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366120"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0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чить замечать и самостоятельно устранять непорядок в своем внешнем виде, тактично говорить товарищу о неполадке в его костюме, обуви, помогать устранять его. Формировать такие качества, как отзывчивость, взаимо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должать формировать навыки культуры поведения на природ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акреплять представление о трудолюбии и лен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ивлекать детей к хоз. бытовому труду: девочки стирают кукольное бельё, мальчики ремонтируют машины, протирают строительный материа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должать формировать дружеские взаимоотношения, учить вместе играть, трудить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южетно-ролевые игры, которые  включают реальные трудовые процессы (шитье кукольной одежды, изготовление мебели) в игровой сюжет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южетно-ролевые игры производственной и семейной тематики, позволяющие отражать мир взрослых, а также включать реальные трудовые процессы (шитье кукольной одежды, изготовление мебели) в игровой сюж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иобщать девочек и мальчиков помогать мамам и папам, интересоваться кем работают родите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Инсценировка, драматизация рассказов, сказок, стихов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255" name="TextBox 3"/>
          <p:cNvSpPr/>
          <p:nvPr/>
        </p:nvSpPr>
        <p:spPr>
          <a:xfrm>
            <a:off x="4142880" y="1773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240" y="404280"/>
            <a:ext cx="7521840" cy="2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ОД В ХОДЕ РЕЖИМНЫХ МОМЕНТ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08000" y="620640"/>
          <a:ext cx="7521480" cy="3662280"/>
        </p:xfrm>
        <a:graphic>
          <a:graphicData uri="http://schemas.openxmlformats.org/drawingml/2006/table">
            <a:tbl>
              <a:tblPr/>
              <a:tblGrid>
                <a:gridCol w="7521480"/>
              </a:tblGrid>
              <a:tr h="36622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местный труд (хозяйственно-бытовой, ручной, в природе)- изготовление кормушек для птиц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бслуживани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довые поруче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журств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тивные разговоры, свободное общение о заботе/ труде. («Проверь, всем ли детям будет удобно пить из чашек.», «Как я должна подготовиться к работе?», А что делать, если нет чистых чашек?»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сматривание и обсуждение картин, иллюстраций, фотографий о профессиях взрослых, предметов, инструментов, материалов как компонентов трудового процесс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дактические игры, моделирующие структуру трудового процесса и расширяющие представления о мире профессий, их взаимосвязях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овые народные игры трудовой тематики(«Баба сеяла горох», «Яблонька», «Занимайся, капустка», «А мы сеяли, сеяли лён» и др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ение, обсуждение, инсценирование, драматизация рассказов, сказок, стихов о трудовой деятельности, побуждающих детей к размышлению и анализу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мотр и анализ мультфильмов, видеофильмов, телепередач о профессиях взрослых, о трудовой деятельности в прошлом и настояще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южетно-ролевые игры производственной и семейной тематики, позволяющие отражать мир взрослых, а также включать реальные трудовые процессы (шитье кукольной одежды, изготовление мебели) в игровой сюже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тематических альбомов, н-р, «Все работы хороши- выбирай на вкус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ВЗАИМОДЕЙСТВИЕ  ДОУ С СЕМЬЯМИ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68360" y="1052640"/>
          <a:ext cx="7521480" cy="2892240"/>
        </p:xfrm>
        <a:graphic>
          <a:graphicData uri="http://schemas.openxmlformats.org/drawingml/2006/table">
            <a:tbl>
              <a:tblPr/>
              <a:tblGrid>
                <a:gridCol w="7521480"/>
              </a:tblGrid>
              <a:tr h="28922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влечение родителей в образовательный процесс ДОУ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Гость группы» (встречи с представителями разных профессий: дети узнают о том, где и кем работают родители, в чем состоит ценность их труда, получают представление о материальном благополучии семьи и т. д.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ршруты выходного дня («Кто работает в нашем городе»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мейные проекты («Папины/ мамины профессии»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вместные субботн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матические выставки совместных творческих работ («Осенний калейдоскоп» и др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сихолого-педагогическое просвещение через организацию активных форм взаимодейств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чера вопросов и отве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стерские и практикумы («Игрушка своими руками» и др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</a:tbl>
          </a:graphicData>
        </a:graphic>
      </p:graphicFrame>
      <p:pic>
        <p:nvPicPr>
          <p:cNvPr id="260" name="Picture 4" descr="I:\DCIM\100SSCAM\STP66721.JPG"/>
          <p:cNvPicPr/>
          <p:nvPr/>
        </p:nvPicPr>
        <p:blipFill>
          <a:blip r:embed="rId1"/>
          <a:stretch/>
        </p:blipFill>
        <p:spPr>
          <a:xfrm>
            <a:off x="179280" y="3573360"/>
            <a:ext cx="3505320" cy="2627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I:\DCIM\100SSCAM\STP66738.JPG"/>
          <p:cNvPicPr/>
          <p:nvPr/>
        </p:nvPicPr>
        <p:blipFill>
          <a:blip r:embed="rId2"/>
          <a:stretch/>
        </p:blipFill>
        <p:spPr>
          <a:xfrm>
            <a:off x="5364000" y="3645000"/>
            <a:ext cx="352584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САМОСТОЯТЕЛЬНАЯ  ДЕЯТЕЛЬНОСТЬ  ДЕТЕ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24000" y="981000"/>
          <a:ext cx="8280360" cy="279108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2791080">
                <a:tc>
                  <a:txBody>
                    <a:bodyPr lIns="114120" rIns="114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южетно-ролевые игры производственной и семейной тематики «Зоопарк», «Ферме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ценирование, драматизация рассказов, сказок, стихов по данной тем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идактические игры, моделирующие структуру трудового процесса и расширение представлений о мире профессий, их взаимосвязях: «Мишка вытирает пыль», «К Кате пришли гости на праздничный обед» и т. 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сматривание иллюстраций, фотографий, альбомов, детских энциклопедий, знакомящих детей с трудовой деятельностью в прошлом и настоящ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уктивная деятельность: рисование («Нарисуй, что мама (папа, бабушка) делают дома, чем они любят заниматься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удожественный и ручной труд (поделки из бумаги, бросового материала для оформления, украшения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.е. организация детских мини-мастерских и студий для продуктивной досуговой деятельност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</a:tbl>
          </a:graphicData>
        </a:graphic>
      </p:graphicFrame>
      <p:pic>
        <p:nvPicPr>
          <p:cNvPr id="264" name="Picture 5" descr="I:\DCIM\100SSCAM\STP66770.JPG"/>
          <p:cNvPicPr/>
          <p:nvPr/>
        </p:nvPicPr>
        <p:blipFill>
          <a:blip r:embed="rId1"/>
          <a:stretch/>
        </p:blipFill>
        <p:spPr>
          <a:xfrm>
            <a:off x="468360" y="3762360"/>
            <a:ext cx="2820960" cy="3095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I:\DCIM\100SSCAM\STP66780.JPG"/>
          <p:cNvPicPr/>
          <p:nvPr/>
        </p:nvPicPr>
        <p:blipFill>
          <a:blip r:embed="rId2"/>
          <a:stretch/>
        </p:blipFill>
        <p:spPr>
          <a:xfrm>
            <a:off x="4476600" y="3762360"/>
            <a:ext cx="44881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428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96a1b"/>
                </a:solidFill>
                <a:latin typeface="Arial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ПРИНЦИПЫ  ФЕДЕРАЛЬНЫХ  ГОСУДАРСТВЕННЫХ ТРЕБОВАНИЙ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179280" y="141300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нцип развивающего образов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ю которого является развитие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нцип необходимости и достаточности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нцип интеграции образовательных областей в соответствии с возрастными возможностями и особенностями воспитанников, спецификой и возможностями образовательных обла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мплексно-тематический принцип построения образовательного проце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шение программных образовательных задач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вместной деятельности взрослого и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Franklin Gothic Demi"/>
              </a:rPr>
              <a:t>Интеграция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от лат. integrum — целое;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лат. integratio — восстановление, восполнение) — синтез, объединение в единое целое отдельных частей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Demi"/>
              </a:rPr>
              <a:t>Взаимопроникновение, взаимовлияние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2"/>
          <p:cNvSpPr/>
          <p:nvPr/>
        </p:nvSpPr>
        <p:spPr>
          <a:xfrm>
            <a:off x="684360" y="40464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ополагающий принцип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нцип интеграции образовательных обла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-549000" y="1268280"/>
            <a:ext cx="106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нтегрированная деятельность построено по принципу объединения несколь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идов  деятельности и разных средств развития детей, проводится системат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(на них преподается новый, ранее не изученный материал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реимущества интегрированной деятельности заключается в повышении мотив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бучения, во время которого какое-либо явление рассматривается с несколь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торон, формируя познавательный интерес, целостность картины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нтегрированная деятельность в детском саду учит получать информаци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ысля нестандартно, сравнивать и обобщать ее, 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539640" y="549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Интеграция содержания и задач психолого-педагогической работы </a:t>
            </a: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образовательной области «Тру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-4429080" y="757080"/>
            <a:ext cx="152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Горизонтальный свиток 85"/>
          <p:cNvSpPr/>
          <p:nvPr/>
        </p:nvSpPr>
        <p:spPr>
          <a:xfrm>
            <a:off x="6012000" y="1195560"/>
            <a:ext cx="2876400" cy="16808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 образовательной область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«Безопасность»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 (формирование основ безопасности собственной жизнедеятельности в процессе трудовой деятельност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Горизонтальный свиток 84"/>
          <p:cNvSpPr/>
          <p:nvPr/>
        </p:nvSpPr>
        <p:spPr>
          <a:xfrm>
            <a:off x="139680" y="1333440"/>
            <a:ext cx="3324240" cy="18036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 образовательной область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«Коммуникация»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(развитие свободного общения со взрослыми и детьми в  процессе трудовой деятельности, знакомства с трудом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Горизонтальный свиток 82"/>
          <p:cNvSpPr/>
          <p:nvPr/>
        </p:nvSpPr>
        <p:spPr>
          <a:xfrm>
            <a:off x="3635280" y="2565360"/>
            <a:ext cx="3038400" cy="17668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 образовательной область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«Познание»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 (формирование целостной картины мира и расширение кругозора в части развития представлений о труде взрослых, детей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Горизонтальный свиток 81"/>
          <p:cNvSpPr/>
          <p:nvPr/>
        </p:nvSpPr>
        <p:spPr>
          <a:xfrm>
            <a:off x="6012000" y="3645000"/>
            <a:ext cx="2933640" cy="2997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 образовательной область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«Социализация»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(формирование первичных представлений о себе, гендерных особенностях, семье, социуме и государстве, освоение общепринятых норм и правил взаимоотношений со взрослыми и сверстниками в контексте развития детского труда и представлений о труде взрослых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Горизонтальный свиток 80"/>
          <p:cNvSpPr/>
          <p:nvPr/>
        </p:nvSpPr>
        <p:spPr>
          <a:xfrm>
            <a:off x="3416400" y="5373720"/>
            <a:ext cx="2876400" cy="1681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 образовательной область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«Физическая культура»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(развитие физических качеств ребенка в процессе освоения разных видов труд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Горизонтальный свиток 80"/>
          <p:cNvSpPr/>
          <p:nvPr/>
        </p:nvSpPr>
        <p:spPr>
          <a:xfrm>
            <a:off x="1403280" y="3860640"/>
            <a:ext cx="2876760" cy="1681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 образовательной область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«Художественная литература»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(</a:t>
            </a:r>
            <a:r>
              <a:rPr b="0" lang="ru-RU" sz="1100" spc="-1" strike="noStrike">
                <a:solidFill>
                  <a:srgbClr val="000000"/>
                </a:solidFill>
                <a:latin typeface="Franklin Gothic Book"/>
              </a:rPr>
              <a:t>использование художественных произведений для формирования ценностных представлений о трудовой деятельности взрослых и детей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468360" y="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зическ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грация О. О. «Труд» с О. О. «Физическая культу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57120" y="785880"/>
          <a:ext cx="8497800" cy="5214960"/>
        </p:xfrm>
        <a:graphic>
          <a:graphicData uri="http://schemas.openxmlformats.org/drawingml/2006/table">
            <a:tbl>
              <a:tblPr/>
              <a:tblGrid>
                <a:gridCol w="1928880"/>
                <a:gridCol w="1714680"/>
                <a:gridCol w="1785600"/>
                <a:gridCol w="1571760"/>
                <a:gridCol w="1496880"/>
              </a:tblGrid>
              <a:tr h="366120"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Виды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обслужи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уд в прир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озяйственно--бытовой тр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чной тр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знакомление с трудом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378000">
                <a:tc gridSpan="5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вовать  в подготовке и расстановке пособий для физкультурных занятий, приводить в порядок рабочие места после занят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общать к изготовлению пособий для подвижных и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накомить с трудом взрослых: спортсмен, тренер, судья, инструктор по ФИЗ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85840" y="857160"/>
          <a:ext cx="8497800" cy="5218200"/>
        </p:xfrm>
        <a:graphic>
          <a:graphicData uri="http://schemas.openxmlformats.org/drawingml/2006/table">
            <a:tbl>
              <a:tblPr/>
              <a:tblGrid>
                <a:gridCol w="1928880"/>
                <a:gridCol w="1714320"/>
                <a:gridCol w="1785960"/>
                <a:gridCol w="1571760"/>
                <a:gridCol w="1496880"/>
              </a:tblGrid>
              <a:tr h="366120"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Виды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6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обслужи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уд в прир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оз.-бытовой тр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чной тр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знакомление с трудом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377640">
                <a:tc gridSpan="5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ировать культурно-гигиенические навы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олжать учить детей самостоятельно одеваться и раздеваться в определенной последова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ить соотносить одежду с временем год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ить содержать одежду и обувь в поряд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общать к труду на огороде, (правила по уходу за овощами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ировать привычку к здоровому питан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ировать представления о пользе комнатных растений для микроклимата в помещении, о лекарственных комнатных расте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ировать представления о взаимосвязи соблюдения гигиены помещения и инфекционными заболевани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спитывать привычку содержать игрушки, помещение группы в чистот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общать к изготовлению пособий для сюжетно-ролевых игр «Больница», «Апте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накомить с трудом взрослых: врача, медицинской сестры, провизора, инструктора ФИЗО, тренера, и т.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241" name="Прямоугольник 3"/>
          <p:cNvSpPr/>
          <p:nvPr/>
        </p:nvSpPr>
        <p:spPr>
          <a:xfrm>
            <a:off x="571680" y="2142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грация О. О. «Труд» с О. О. «Здоровь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500040" y="1429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-личностн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грация О. О. «Труд» с О. О. «Безопас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57120" y="714240"/>
          <a:ext cx="8497800" cy="6070680"/>
        </p:xfrm>
        <a:graphic>
          <a:graphicData uri="http://schemas.openxmlformats.org/drawingml/2006/table">
            <a:tbl>
              <a:tblPr/>
              <a:tblGrid>
                <a:gridCol w="1928880"/>
                <a:gridCol w="1714680"/>
                <a:gridCol w="1785600"/>
                <a:gridCol w="1571760"/>
                <a:gridCol w="1496880"/>
              </a:tblGrid>
              <a:tr h="366120"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Виды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обслужи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уд в прир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оз.-бытовой тр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чной тр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знакомление с трудом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377640">
                <a:tc gridSpan="5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1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ировать привычку есть не торопясь, не разговаривать во время еды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олжать учить пользоваться правильно столовыми приборами — ложкой, вилко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ить детей во время умывания пользоваться только теми средствами, которые, дал взрослы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ить детей правильно надевать обувь, полностью её застегива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ировать представления о правилах безопасности при пользовании садовым инвентар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ировать представления о правилах безопасности при взаимодействии с растени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ировать представления о правилах безопасности при пользовании моющими средств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ировать представления о правилах безопасности при пользовании бытовой техник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ировать представления о правилах безопасности при пользовании ножницами, проволокой, иглой, шил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 т.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накомить с трудом взрослых:  пожарных, полицейских, служб МЧС, «Скорой помощ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8757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знавательно-речевое развитие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грация О. О. «Труд» с О. О. «Коммуникация»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95280" y="922320"/>
          <a:ext cx="8497800" cy="5811840"/>
        </p:xfrm>
        <a:graphic>
          <a:graphicData uri="http://schemas.openxmlformats.org/drawingml/2006/table">
            <a:tbl>
              <a:tblPr/>
              <a:tblGrid>
                <a:gridCol w="1728720"/>
                <a:gridCol w="1511280"/>
                <a:gridCol w="1368360"/>
                <a:gridCol w="1368720"/>
                <a:gridCol w="2520720"/>
              </a:tblGrid>
              <a:tr h="415800"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Виды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обслужи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уд в прир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оз.-бытовой тр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чной тр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знакомление с трудом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366840">
                <a:tc gridSpan="5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7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очнять и упражнять в использовании названий предметов одежды, её деталей, качественных прилагательны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ределять и называть названия блюд, их свойства и качество, определять из чего изготовлено. (сок из слив – сливовый, каша из гречки – гречнев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дение календаря природы (отмечать день недели, число, месяц, год., наблюдение за погодой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ределять и называть растения, описывать раст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оваривать алгоритм  ухода за растения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ировать навыки дежурства с использованием элементов речевого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 столового этикет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ить оценивать результат своей работы с помощью взрослог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общать к изготовлению дидактических игр по развитию ре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накомить с трудом взрослых: логопед, актер, журналист, дикто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0:41:48Z</dcterms:created>
  <dc:creator>Admin</dc:creator>
  <dc:description/>
  <dc:language>en-US</dc:language>
  <cp:lastModifiedBy>Admin</cp:lastModifiedBy>
  <dcterms:modified xsi:type="dcterms:W3CDTF">2013-09-29T04:32:51Z</dcterms:modified>
  <cp:revision>97</cp:revision>
  <dc:subject/>
  <dc:title>Интеграция образовательной области труд</dc:title>
</cp:coreProperties>
</file>