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28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397-6F53-4343-8FBC-966AD760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155F-A786-4B74-98D2-AA5591D9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F037-DE77-4F14-86D4-308BF5D3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8CB-99C5-4D46-A4FE-1A205AD2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A26E-34D4-4740-9FB8-99D39883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5D6A-385F-4232-B119-A7A00D1C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E830-69CF-4DD4-8526-F5A4E582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0C6B-535F-4323-B1E2-90A79212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F229-C27F-43ED-AFA3-6D00F9C6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B93B-C6CB-427F-9E6D-15EAB292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92DD-F701-4B07-BD8E-B1606467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CDE-4DA0-4F69-A146-58AC54B7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7A05-483B-411D-AED5-8BE44C7E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7BE5-9B39-4029-AF88-22EBCCB4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9C1B-6EFC-4B47-8218-B2577ED7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A9A6-CC9C-4C4C-B36D-F0E7384D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DAB2-4E46-48F7-950C-99F53D14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E8EB-2840-4EC1-BF6D-FCE954F9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F85-852B-4C0D-BEF0-83ABCB78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EC51-8130-4C74-BF15-3A4D8C4E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09D9-87D6-4E56-874C-313E2C1D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E3CC-140D-480F-8F87-20F84F38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56B7-7EE7-48FB-92E3-E5472B3C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2269-C309-4D12-AFA6-D072F601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965A-8CC2-4A6F-A3C6-A7B9644660E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AD25-1A77-4C38-B524-C3BEA117036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2492280"/>
            <a:ext cx="6966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4005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574005"/>
                </a:solidFill>
                <a:latin typeface="Arial"/>
              </a:rPr>
              <a:t>Архитектурная керамика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563640" y="3068280"/>
            <a:ext cx="3816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8eb25"/>
                </a:solidFill>
                <a:latin typeface="Arial"/>
              </a:rPr>
              <a:t>Изразец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 rot="21081000">
            <a:off x="971640" y="404640"/>
            <a:ext cx="1944720" cy="19432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003640" y="549360"/>
            <a:ext cx="2016360" cy="1871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08000" y="4149720"/>
            <a:ext cx="4174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Изразцы</a:t>
            </a: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 — керамические (глиняные) плитки, разновидность кафеля,     предназначенная для облицовки стен, печей, каминов, фасадов зданий.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160" y="1773000"/>
            <a:ext cx="171612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4390920" cy="4608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2122560" cy="2160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24000" y="4221000"/>
            <a:ext cx="208728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Лицевая поверхность изразцов может быть гладкой или рельефной.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508200" cy="4464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140360" y="1628640"/>
            <a:ext cx="3311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477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Изразцовые печи появились на Руси в конце XVI века. Они выполняли не только отопительную, но и декоративную функцию. </a:t>
            </a:r>
            <a:br>
              <a:rPr sz="1600"/>
            </a:b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Такие печи украшали залы дворцов и самых богатых домов.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2089080" cy="2449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627280" y="3716280"/>
            <a:ext cx="1762200" cy="2295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716360" y="1700280"/>
            <a:ext cx="24447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овременные камин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2952720" cy="44658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211640" y="1484280"/>
            <a:ext cx="31845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987640" y="333360"/>
            <a:ext cx="1657440" cy="1943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651640" y="981000"/>
            <a:ext cx="1655640" cy="1871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179280" y="3284640"/>
            <a:ext cx="2344680" cy="2808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2771640" y="2781360"/>
            <a:ext cx="2376720" cy="2303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5364000" y="3284640"/>
            <a:ext cx="22147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2268360" cy="2376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843280" y="260280"/>
            <a:ext cx="2303280" cy="2303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364000" y="907920"/>
            <a:ext cx="2014560" cy="2305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395280" y="3645000"/>
            <a:ext cx="2087640" cy="2519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2771640" y="2997360"/>
            <a:ext cx="2370240" cy="2520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5508720" y="3789360"/>
            <a:ext cx="21510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7274160" cy="40705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анно из изразц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4T18:20:21Z</dcterms:created>
  <dc:creator>АЛИНА</dc:creator>
  <dc:description/>
  <dc:language>en-US</dc:language>
  <cp:lastModifiedBy>АЛИНА</cp:lastModifiedBy>
  <dcterms:modified xsi:type="dcterms:W3CDTF">2013-09-14T19:47:24Z</dcterms:modified>
  <cp:revision>2</cp:revision>
  <dc:subject/>
  <dc:title>Архитектурная керамика</dc:title>
</cp:coreProperties>
</file>