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477-73EA-4278-BABD-6E5B4007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F9E-CEB9-480F-9736-CE01FB6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26-C02B-425D-B9C1-25B72EE8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0F8-CD34-4813-BE43-CA54EF4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2728-B7E6-4C7A-B345-EF2C43ED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3CD1-5D07-406C-987A-7A98516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16E8-4E28-4041-A548-DE209EA9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DFBE-60D5-4B30-ACA6-AA8B7A2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54A-CC85-471E-B73B-20540A47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1370-E7AA-422C-A5A7-E594E816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459B-314D-423E-9F58-A5960B0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659-7161-4600-B1CC-C0B807A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A43-5ADE-4B45-A7D4-889477A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5C08-6A21-4002-A32C-D149397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A7E0-9818-463C-8F3A-2F79AD0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E958-2602-4706-A98D-36EDA407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0B7-1B21-44CC-A358-177FE5D8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28A-C1DE-41BE-B942-EC705184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ED7-81E7-4EED-8E5F-661BBA53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CE7-67E5-42A3-9C23-C10C0316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7BB-9543-4059-BD6C-445DA679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21E-D01A-433A-B037-79834BB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F4C-3A0E-4D01-BE18-DC929E7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5FA-7594-4AF4-AA40-13051DBD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f1f1"/>
            </a:gs>
            <a:gs pos="100000">
              <a:srgbClr val="0e0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18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564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412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2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3520"/>
                <a:ext cx="1015920" cy="12646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152360"/>
                  <a:gd name="textAreaBottom" fmla="*/ 1152720 h 11523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7C84-1830-46A4-9245-5598088458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f1f1"/>
            </a:gs>
            <a:gs pos="100000">
              <a:srgbClr val="0e0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5560"/>
            <a:chOff x="-468360" y="-293400"/>
            <a:chExt cx="9765000" cy="767556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5560"/>
              <a:chOff x="-468360" y="-293400"/>
              <a:chExt cx="9765000" cy="767556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55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436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24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7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4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384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81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832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136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368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468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2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24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2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29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140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60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39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10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124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60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152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58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80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67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0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795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836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480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660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43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588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2320" y="-1479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196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098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1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228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64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17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65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795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836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480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66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43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588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196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028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1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228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1640" y="1502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17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65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484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276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8920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56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672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3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636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516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83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31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29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18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3680"/>
                <a:ext cx="849600" cy="102348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897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5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296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04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748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86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74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08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26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70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764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3904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69840"/>
              <a:ext cx="8876160" cy="2532960"/>
              <a:chOff x="97560" y="2769840"/>
              <a:chExt cx="8876160" cy="253296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5880"/>
                <a:ext cx="1782720" cy="1636560"/>
              </a:xfrm>
              <a:custGeom>
                <a:avLst/>
                <a:gdLst>
                  <a:gd name="textAreaLeft" fmla="*/ 0 w 1782720"/>
                  <a:gd name="textAreaRight" fmla="*/ 1783080 w 1782720"/>
                  <a:gd name="textAreaTop" fmla="*/ 0 h 1636560"/>
                  <a:gd name="textAreaBottom" fmla="*/ 1636920 h 1636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4760"/>
                <a:ext cx="8745120" cy="223920"/>
                <a:chOff x="228600" y="352476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476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848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4400"/>
                <a:ext cx="8745120" cy="223560"/>
                <a:chOff x="120600" y="343440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440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812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69840"/>
                <a:ext cx="2102040" cy="2152080"/>
                <a:chOff x="154800" y="276984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098520"/>
                  <a:ext cx="1627200" cy="1494360"/>
                </a:xfrm>
                <a:custGeom>
                  <a:avLst/>
                  <a:gdLst>
                    <a:gd name="textAreaLeft" fmla="*/ 0 w 1627200"/>
                    <a:gd name="textAreaRight" fmla="*/ 1627560 w 1627200"/>
                    <a:gd name="textAreaTop" fmla="*/ 0 h 1494360"/>
                    <a:gd name="textAreaBottom" fmla="*/ 1494720 h 1494360"/>
                  </a:gdLst>
                  <a:ahLst/>
                  <a:rect l="textAreaLeft" t="textAreaTop" r="textAreaRight" b="textAreaBottom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0880" y="3726000"/>
                  <a:ext cx="366480" cy="1097280"/>
                </a:xfrm>
                <a:custGeom>
                  <a:avLst/>
                  <a:gdLst>
                    <a:gd name="textAreaLeft" fmla="*/ 0 w 366480"/>
                    <a:gd name="textAreaRight" fmla="*/ 366840 w 366480"/>
                    <a:gd name="textAreaTop" fmla="*/ 0 h 1097280"/>
                    <a:gd name="textAreaBottom" fmla="*/ 1097640 h 1097280"/>
                  </a:gdLst>
                  <a:ahLst/>
                  <a:rect l="textAreaLeft" t="textAreaTop" r="textAreaRight" b="textAreaBottom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3240" y="3397320"/>
                  <a:ext cx="1379520" cy="360000"/>
                </a:xfrm>
                <a:custGeom>
                  <a:avLst/>
                  <a:gdLst>
                    <a:gd name="textAreaLeft" fmla="*/ 0 w 1379520"/>
                    <a:gd name="textAreaRight" fmla="*/ 1379880 w 1379520"/>
                    <a:gd name="textAreaTop" fmla="*/ 0 h 360000"/>
                    <a:gd name="textAreaBottom" fmla="*/ 360000 h 360000"/>
                  </a:gdLst>
                  <a:ahLst/>
                  <a:rect l="textAreaLeft" t="textAreaTop" r="textAreaRight" b="textAreaBottom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69760" y="3358080"/>
                  <a:ext cx="885600" cy="859320"/>
                </a:xfrm>
                <a:custGeom>
                  <a:avLst/>
                  <a:gdLst>
                    <a:gd name="textAreaLeft" fmla="*/ 0 w 885600"/>
                    <a:gd name="textAreaRight" fmla="*/ 885960 w 885600"/>
                    <a:gd name="textAreaTop" fmla="*/ 0 h 859320"/>
                    <a:gd name="textAreaBottom" fmla="*/ 859680 h 859320"/>
                  </a:gdLst>
                  <a:ahLst/>
                  <a:rect l="textAreaLeft" t="textAreaTop" r="textAreaRight" b="textAreaBottom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0960" y="3655800"/>
                  <a:ext cx="527040" cy="52092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F918-DBA3-4A30-A7A8-FA620F6DEDF2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Comic Sans MS"/>
              </a:rPr>
              <a:t>Наши удивительные соседи - бабочки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Бабочки Волгоградской област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Выполнила:Барышева Екатерина , ученица 2 «Б»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F:\Энциклопедии\биология и география\животные\фото животные Волг обл\беспозвоночные\насекомые\бабочки\Lepidoptera К\04 Перламутровка.jpg"/>
          <p:cNvPicPr/>
          <p:nvPr/>
        </p:nvPicPr>
        <p:blipFill>
          <a:blip r:embed="rId1"/>
          <a:stretch/>
        </p:blipFill>
        <p:spPr>
          <a:xfrm>
            <a:off x="609480" y="635040"/>
            <a:ext cx="8153640" cy="5435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3019320" y="6019920"/>
            <a:ext cx="3105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перламутров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F:\Энциклопедии\биология и география\животные\фото животные Волг обл\беспозвоночные\насекомые\бабочки\Lepidoptera К\Американская белая бабочка 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1765080" y="6216480"/>
            <a:ext cx="584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Американская белая бабоч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F:\Энциклопедии\биология и география\животные\фото животные Волг обл\беспозвоночные\насекомые\бабочки\Lepidoptera К\Медведица геба.jpg"/>
          <p:cNvPicPr/>
          <p:nvPr/>
        </p:nvPicPr>
        <p:blipFill>
          <a:blip r:embed="rId1"/>
          <a:stretch/>
        </p:blipFill>
        <p:spPr>
          <a:xfrm>
            <a:off x="762120" y="1076400"/>
            <a:ext cx="7619760" cy="4705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878920" y="5791320"/>
            <a:ext cx="33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Медведица Геб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F:\Энциклопедии\биология и география\животные\фото животные Волг обл\беспозвоночные\насекомые\бабочки\1 мнемозина-085.jpg"/>
          <p:cNvPicPr/>
          <p:nvPr/>
        </p:nvPicPr>
        <p:blipFill>
          <a:blip r:embed="rId1"/>
          <a:stretch/>
        </p:blipFill>
        <p:spPr>
          <a:xfrm>
            <a:off x="762120" y="776160"/>
            <a:ext cx="7619760" cy="53056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2912760" y="6019920"/>
            <a:ext cx="3318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Поликсена (КК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F:\Энциклопедии\биология и география\животные\фото животные Волг обл\беспозвоночные\насекомые\бабочки\б лесная перламутровка и углокрыльца с-белое_348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748440" y="6095880"/>
            <a:ext cx="7646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ольшая лесная перламутровка и углокрыльниц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F:\Энциклопедии\биология и география\животные\фото животные Волг обл\беспозвоночные\насекомые\бабочки\бабочка бархатница крупноглазка_359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1980000" y="6216480"/>
            <a:ext cx="5182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Бархатница крупноглаз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F:\Энциклопедии\биология и география\животные\фото животные Волг обл\беспозвоночные\насекомые\бабочки\бабочка белянка репная 233.JPG"/>
          <p:cNvPicPr/>
          <p:nvPr/>
        </p:nvPicPr>
        <p:blipFill>
          <a:blip r:embed="rId1"/>
          <a:stretch/>
        </p:blipFill>
        <p:spPr>
          <a:xfrm>
            <a:off x="981000" y="571680"/>
            <a:ext cx="7182000" cy="5715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"/>
          <p:cNvSpPr/>
          <p:nvPr/>
        </p:nvSpPr>
        <p:spPr>
          <a:xfrm>
            <a:off x="2968920" y="6216480"/>
            <a:ext cx="320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Белянка репна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F:\Энциклопедии\биология и география\животные\фото животные Волг обл\беспозвоночные\насекомые\бабочки\бабочка воловий глаз_097.JPG"/>
          <p:cNvPicPr/>
          <p:nvPr/>
        </p:nvPicPr>
        <p:blipFill>
          <a:blip r:embed="rId1"/>
          <a:stretch/>
        </p:blipFill>
        <p:spPr>
          <a:xfrm>
            <a:off x="2486160" y="571680"/>
            <a:ext cx="4171680" cy="5715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3175560" y="6216480"/>
            <a:ext cx="279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Воловий глаз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F:\Энциклопедии\биология и география\животные\фото животные Волг обл\беспозвоночные\насекомые\бабочки\бабочка глазчатый бражник 0439.jpg"/>
          <p:cNvPicPr/>
          <p:nvPr/>
        </p:nvPicPr>
        <p:blipFill>
          <a:blip r:embed="rId1"/>
          <a:stretch/>
        </p:blipFill>
        <p:spPr>
          <a:xfrm>
            <a:off x="762120" y="771480"/>
            <a:ext cx="7619760" cy="5315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547000" y="6019920"/>
            <a:ext cx="405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Глазчатый бражни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F:\Энциклопедии\биология и география\животные\фото животные Волг обл\беспозвоночные\насекомые\бабочки\мнемозина 1919.JPG"/>
          <p:cNvPicPr/>
          <p:nvPr/>
        </p:nvPicPr>
        <p:blipFill>
          <a:blip r:embed="rId1"/>
          <a:stretch/>
        </p:blipFill>
        <p:spPr>
          <a:xfrm>
            <a:off x="762120" y="595440"/>
            <a:ext cx="7619760" cy="56671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2843280" y="6216480"/>
            <a:ext cx="345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Мнемозина (КК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F:\животные\бабочка боярышница 1573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3231000" y="621648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ярышниц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F:\Энциклопедии\биология и география\животные\фото животные Волг обл\беспозвоночные\насекомые\бабочки\бабочка мешочница 1637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359880" y="6216480"/>
            <a:ext cx="2422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мешочниц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F:\Энциклопедии\биология и география\животные\фото животные Волг обл\беспозвоночные\насекомые\бабочки\бабочка шашечница_323.JPG"/>
          <p:cNvPicPr/>
          <p:nvPr/>
        </p:nvPicPr>
        <p:blipFill>
          <a:blip r:embed="rId1"/>
          <a:stretch/>
        </p:blipFill>
        <p:spPr>
          <a:xfrm>
            <a:off x="762120" y="657360"/>
            <a:ext cx="7619760" cy="55432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3341520" y="6216480"/>
            <a:ext cx="2459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шашечниц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F:\Энциклопедии\биология и география\животные\фото животные Волг обл\беспозвоночные\насекомые\бабочки\Большая лесная перламутровка самка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642600" y="6216480"/>
            <a:ext cx="785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Большая лесная перламутровка (самка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F:\Энциклопедии\биология и география\животные\фото животные Волг обл\беспозвоночные\насекомые\бабочки\большая лесная перламутровка_346.JPG"/>
          <p:cNvPicPr/>
          <p:nvPr/>
        </p:nvPicPr>
        <p:blipFill>
          <a:blip r:embed="rId1"/>
          <a:stretch/>
        </p:blipFill>
        <p:spPr>
          <a:xfrm>
            <a:off x="762120" y="704880"/>
            <a:ext cx="7619760" cy="54482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412280" y="6216480"/>
            <a:ext cx="6319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Большая лесная перламутров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F:\Энциклопедии\биология и география\животные\фото животные Волг обл\беспозвоночные\насекомые\бабочки\бражник языкан  5948.JPG"/>
          <p:cNvPicPr/>
          <p:nvPr/>
        </p:nvPicPr>
        <p:blipFill>
          <a:blip r:embed="rId1"/>
          <a:stretch/>
        </p:blipFill>
        <p:spPr>
          <a:xfrm>
            <a:off x="871560" y="571680"/>
            <a:ext cx="7400880" cy="5715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2878200" y="6216480"/>
            <a:ext cx="338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Бражник языкан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F:\Энциклопедии\биология и география\животные\фото животные Волг обл\беспозвоночные\насекомые\бабочки\махаон и подалирий 9508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"/>
          <p:cNvSpPr/>
          <p:nvPr/>
        </p:nvSpPr>
        <p:spPr>
          <a:xfrm>
            <a:off x="2435040" y="6216480"/>
            <a:ext cx="427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Махаон и подалири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F:\Энциклопедии\биология и география\животные\фото животные Волг обл\беспозвоночные\насекомые\бабочки\махаон 9517.JPG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3782880" y="5943600"/>
            <a:ext cx="157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махаон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F:\животные\бабочка голубянка щербак балка 1832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3487320" y="6216480"/>
            <a:ext cx="216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голубян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F:\животные\бабочка дневной павлиний глаз 2056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2181960" y="6216480"/>
            <a:ext cx="478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Дневной павлиний глаз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F:\животные\бабочка пестрянка 1863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3501720" y="6216480"/>
            <a:ext cx="2140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пестрян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F:\животные\бражник 1857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3634920" y="6216480"/>
            <a:ext cx="187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бражни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F:\Энциклопедии\биология и география\животные\фото животные Волг обл\беспозвоночные\насекомые\бабочки\Lepidoptera К\01а Крапивница.jpg"/>
          <p:cNvPicPr/>
          <p:nvPr/>
        </p:nvPicPr>
        <p:blipFill>
          <a:blip r:embed="rId1"/>
          <a:stretch/>
        </p:blipFill>
        <p:spPr>
          <a:xfrm>
            <a:off x="914400" y="1600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F:\Энциклопедии\биология и география\животные\фото животные Волг обл\беспозвоночные\насекомые\бабочки\Lepidoptera К\01 Крапивница.jpg"/>
          <p:cNvPicPr/>
          <p:nvPr/>
        </p:nvPicPr>
        <p:blipFill>
          <a:blip r:embed="rId2"/>
          <a:stretch/>
        </p:blipFill>
        <p:spPr>
          <a:xfrm>
            <a:off x="4343400" y="1219320"/>
            <a:ext cx="4471920" cy="33922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332160" y="5715000"/>
            <a:ext cx="2479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крапивниц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F:\Энциклопедии\биология и география\животные\фото животные Волг обл\беспозвоночные\насекомые\бабочки\Lepidoptera К\02 Адмирал.jpg"/>
          <p:cNvPicPr/>
          <p:nvPr/>
        </p:nvPicPr>
        <p:blipFill>
          <a:blip r:embed="rId1"/>
          <a:stretch/>
        </p:blipFill>
        <p:spPr>
          <a:xfrm>
            <a:off x="609480" y="766800"/>
            <a:ext cx="7194600" cy="4834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664080" y="5715000"/>
            <a:ext cx="18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адмира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F:\Энциклопедии\биология и география\животные\фото животные Волг обл\беспозвоночные\насекомые\бабочки\Lepidoptera К\03 Траурница7b.jpg"/>
          <p:cNvPicPr/>
          <p:nvPr/>
        </p:nvPicPr>
        <p:blipFill>
          <a:blip r:embed="rId1"/>
          <a:stretch/>
        </p:blipFill>
        <p:spPr>
          <a:xfrm>
            <a:off x="1530360" y="1339920"/>
            <a:ext cx="6083280" cy="41781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3468240" y="6019920"/>
            <a:ext cx="2207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траурниц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3:46:28Z</dcterms:created>
  <dc:creator>Tcherezova</dc:creator>
  <dc:description/>
  <dc:language>en-US</dc:language>
  <cp:lastModifiedBy>andrei</cp:lastModifiedBy>
  <dcterms:modified xsi:type="dcterms:W3CDTF">2013-09-29T13:03:21Z</dcterms:modified>
  <cp:revision>12</cp:revision>
  <dc:subject/>
  <dc:title>Наши удивительные соседи - бабочки</dc:title>
</cp:coreProperties>
</file>