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9D9-58DE-4376-8ADC-04523017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E11-1CE7-4909-B231-2B9B621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14C-16A2-4B33-95BF-7431FE3C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91A-0ED5-44D4-8559-CDE4A74E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92EE-C67E-434D-9C60-E3559DDF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D6D-318A-4E21-912C-7EF067B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9A0F-77F2-4D26-9646-B7ABFA7D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C2C-7BE5-41A5-B049-BC0C3DBB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733-CC1E-4429-BCDA-F716996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5CA9-1DEC-4E50-A64A-E2B73120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3AE-F090-4999-A666-059DB87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0B8-F14D-447B-A5B5-695999C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3CB1-3999-496C-AD21-6A779A14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4674-ACF2-4949-9AAF-AB1749A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B0D2-ACE3-4028-A126-7718EFEE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FD7-93E0-4FCF-8B8D-AE2CFDE8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199D-89AE-4834-B3DE-37ECF56B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438-8271-4910-B089-7C78F22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41C-7D43-4837-A708-9B214BA8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B71-9409-4944-8E57-8BE74526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570-1BC4-4176-B345-63EEEA0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014-EE26-49CE-B787-4289E99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DF0-B559-4E0D-9318-BD0578B9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B3F-5CF6-4D2E-AC93-DD46FD3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7EF6-26DB-4C12-9973-F274661299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F3BA-FE0F-48F8-917F-BE8BE2BEDC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s56.radikal.ru/i154/1002/a9/5f6baa124349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1166728999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81440" y="3357360"/>
            <a:ext cx="604836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80"/>
                </a:solidFill>
                <a:latin typeface="Arial"/>
              </a:rPr>
              <a:t>Белый медведь        </a:t>
            </a:r>
            <a:br>
              <a:rPr sz="4400"/>
            </a:br>
            <a:r>
              <a:rPr b="0" i="1" lang="ru-RU" sz="4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793960" y="6013440"/>
            <a:ext cx="4873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564000" y="115920"/>
            <a:ext cx="52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i?id=111365250-03"/>
          <p:cNvPicPr/>
          <p:nvPr/>
        </p:nvPicPr>
        <p:blipFill>
          <a:blip r:embed="rId2"/>
          <a:stretch/>
        </p:blipFill>
        <p:spPr>
          <a:xfrm>
            <a:off x="539640" y="18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003640" y="2060640"/>
            <a:ext cx="4140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УНИЧТОЖЕНИЯ ПОПУЛЯЦИИ БЕЛЫХ МЕДВЕДЕЙ ПОТРЕБУЕТСЯ ВСЕГО ЛИШ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30 ЛЕТ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446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лый медвед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Ursus maritim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 — хищное млекопитающее семейства медвежьих, близкий родственник бурого медведя, от которого отделился 200–500 тысяч лет назад. Латинское назван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Ursus maritim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ереводится как «медведь морской». Его длина достигает 3 м, масса до 1 т. Обычно самцы весят 400–450 кг. Мелкие медведи водятся на Шпицбергене, крупные — в Беринговом мо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06920" y="3860640"/>
            <a:ext cx="4537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го медведя от других медведей отличают длинная шея и плоская голова. Кожа у него чёрная. Цвет шубы варьирует от белого до желтоватого; летом мех может желтеть из-за постоянного воздействия солнечного света. Шерсть белого медведя лишена пигментной окраски, и шерстинки полые. Подошвы ног подбиты шерстью, чтобы не скользить по льду и не мёрзнуть. Крупные когти могут удержать даже сильную добыч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0_dbab_1ef19d2d_XL"/>
          <p:cNvPicPr/>
          <p:nvPr/>
        </p:nvPicPr>
        <p:blipFill>
          <a:blip r:embed="rId1"/>
          <a:stretch/>
        </p:blipFill>
        <p:spPr>
          <a:xfrm>
            <a:off x="4643280" y="189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531758"/>
          <p:cNvPicPr/>
          <p:nvPr/>
        </p:nvPicPr>
        <p:blipFill>
          <a:blip r:embed="rId2"/>
          <a:stretch/>
        </p:blipFill>
        <p:spPr>
          <a:xfrm>
            <a:off x="108000" y="3500280"/>
            <a:ext cx="4248000" cy="3202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54_02"/>
          <p:cNvPicPr/>
          <p:nvPr/>
        </p:nvPicPr>
        <p:blipFill>
          <a:blip r:embed="rId3"/>
          <a:stretch/>
        </p:blipFill>
        <p:spPr>
          <a:xfrm>
            <a:off x="2627280" y="35002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0_dc0b_901ae073_XL"/>
          <p:cNvPicPr/>
          <p:nvPr/>
        </p:nvPicPr>
        <p:blipFill>
          <a:blip r:embed="rId1"/>
          <a:srcRect l="0" t="0" r="0" b="4724"/>
          <a:stretch/>
        </p:blipFill>
        <p:spPr>
          <a:xfrm>
            <a:off x="4140360" y="2852640"/>
            <a:ext cx="4595760" cy="35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untitled"/>
          <p:cNvPicPr/>
          <p:nvPr/>
        </p:nvPicPr>
        <p:blipFill>
          <a:blip r:embed="rId2"/>
          <a:stretch/>
        </p:blipFill>
        <p:spPr>
          <a:xfrm>
            <a:off x="539640" y="2852640"/>
            <a:ext cx="2808360" cy="3600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395280" y="260280"/>
            <a:ext cx="835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белых медведей низкий потенциал размножения: самка впервые приносит потомство в возрасте 4–8 лет, рожает один раз в 2–3 года и имеет в помёте 1–3 медвежат, таким образом в течение жизни принося не более 10–15 детёнышей. Новорождённые беспомощные, как у всех медведей, и имеют массу около 750 г. Через 3 месяца самка вместе с ними покидает берлогу и переходит к бродячему образу жизни. Медвежата остаются при ней до 1,5 лет. Смертность среди медвежат достигает 10–30 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olar%20bears%20small-thumb-425x506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219640" y="1484280"/>
            <a:ext cx="356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ЛАНЕТЕ ОСТАЛОСЬ НЕ БОЛЕ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5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ЕЛЫХ МЕДВЕДЕЙ И ИХ ЧИСЛЕННОСТЬ СОКРАЩАЕТСЯ С КАЖДЫМ ГО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321346A98E20-3"/>
          <p:cNvPicPr/>
          <p:nvPr/>
        </p:nvPicPr>
        <p:blipFill>
          <a:blip r:embed="rId1"/>
          <a:stretch/>
        </p:blipFill>
        <p:spPr>
          <a:xfrm>
            <a:off x="0" y="0"/>
            <a:ext cx="4211640" cy="350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1166728999_11"/>
          <p:cNvPicPr/>
          <p:nvPr/>
        </p:nvPicPr>
        <p:blipFill>
          <a:blip r:embed="rId2"/>
          <a:stretch/>
        </p:blipFill>
        <p:spPr>
          <a:xfrm>
            <a:off x="4788000" y="3500280"/>
            <a:ext cx="4356000" cy="3357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211640" y="69228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XXI в. существование белого медведя на Чукотке оказалось под угрозой. Если оставить все как есть, то у него будет мало шансов на выжи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50920" y="3743280"/>
            <a:ext cx="453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лится надежда, что люди спохватятся и сделают все от них зависящее, чтобы эту угрозу предотвратить. И, возможно, наши потомки еще долго будут любоваться этим красивым и удивительным зверем, по праву ставшим живым символом Арк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322"/>
          <p:cNvPicPr/>
          <p:nvPr/>
        </p:nvPicPr>
        <p:blipFill>
          <a:blip r:embed="rId1"/>
          <a:srcRect l="0" t="0" r="0" b="1821"/>
          <a:stretch/>
        </p:blipFill>
        <p:spPr>
          <a:xfrm>
            <a:off x="0" y="0"/>
            <a:ext cx="4211640" cy="3294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4356000" y="260280"/>
            <a:ext cx="49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лосберегающие и водоотталкивающие свойства  шкур БЕЛОГО МЕДВЕДЯ используются по сей день. Чаще всего шкуры идут на изготовление непромокаемых торбазов, на опушку малахая и кухлянки, налокотники и наколенники для охотничьей одежды, пошив штанов, чижей, рукавиц, на ремни для упряжи и арк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802fb6eb4e9ff1d9c9dc9af9bee8680c"/>
          <p:cNvPicPr/>
          <p:nvPr/>
        </p:nvPicPr>
        <p:blipFill>
          <a:blip r:embed="rId2"/>
          <a:stretch/>
        </p:blipFill>
        <p:spPr>
          <a:xfrm>
            <a:off x="5003640" y="3429000"/>
            <a:ext cx="4140360" cy="3429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0" y="3881520"/>
            <a:ext cx="5040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шкур шили полог (спальное место в яранге), их использовали как коврики для отдыха и настилали на нарты, ими укрывали имущество от дождя, «войдали» полозья нарт. На медвежьих шкурах перетаскивали байдары и снаряжение на кромку припая, дети катались на них зимой со снежных скл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271622108_yetichnaya-kosmetika-gl"/>
          <p:cNvPicPr/>
          <p:nvPr/>
        </p:nvPicPr>
        <p:blipFill>
          <a:blip r:embed="rId1"/>
          <a:stretch/>
        </p:blipFill>
        <p:spPr>
          <a:xfrm>
            <a:off x="250920" y="260280"/>
            <a:ext cx="4032000" cy="4319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1258920" y="5229360"/>
            <a:ext cx="60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щите на косметических средствах вот такие зн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их производстве не пострадали животные и они не тестировались на животных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Картинка 24 из 6172">
            <a:hlinkClick r:id="rId2"/>
          </p:cNvPr>
          <p:cNvPicPr/>
          <p:nvPr/>
        </p:nvPicPr>
        <p:blipFill>
          <a:blip r:embed="rId3"/>
          <a:srcRect l="0" t="0" r="38078" b="5416"/>
          <a:stretch/>
        </p:blipFill>
        <p:spPr>
          <a:xfrm>
            <a:off x="5219640" y="333360"/>
            <a:ext cx="345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30pm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826920" y="115920"/>
            <a:ext cx="7848720" cy="6426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ерей отстреливают иной раз только потому, что они препятствуют выходу моржей на бер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219640" y="1916280"/>
            <a:ext cx="3745080" cy="250164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ициальное открытие охоты приведет к быстрому уничтожению популяции. Среднее ежегодное промысловое изъятие из популяции в настоящее время составляет около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80 особей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5651640" y="155736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жна организация широкой просветительской кампании в защиту белых медведей посредством издания книг, буклетов, постеров, календа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9:07:59Z</dcterms:created>
  <dc:creator>Аня</dc:creator>
  <dc:description/>
  <dc:language>en-US</dc:language>
  <cp:lastModifiedBy>Ванёк</cp:lastModifiedBy>
  <dcterms:modified xsi:type="dcterms:W3CDTF">2012-04-23T18:09:28Z</dcterms:modified>
  <cp:revision>64</cp:revision>
  <dc:subject/>
  <dc:title>Слайд 1</dc:title>
</cp:coreProperties>
</file>