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861-BC76-42C7-B054-DE7D3433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C3B-8EB9-49AF-BAD1-2FDF12F3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AE9-52BF-45BF-B86D-B9D1C0BE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527-2B44-4DA5-904E-A840C932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AA5-19B8-4221-B180-EB5647AD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DAC-DCC2-4F28-B9EE-9019B4E1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29C-AB6A-4BB1-9EAD-39FBDF5F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900-A537-402A-BDA1-2995CA52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9AD-4C4A-4B9A-AB0F-DC988070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276-41F3-4741-8211-D7FB29AC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F57-B46B-4CCC-BB5D-366D5EA8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D22-4143-4452-82F3-2173E026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9609-D707-483A-ACEB-A1FD904B2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852280"/>
            <a:ext cx="8135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Береги честь смолоду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(Проблема нравственного выбора в романе М.Булгакова «Белая гвардия»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тмосфера в доме Турби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3024000" cy="22320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572000" y="1268280"/>
            <a:ext cx="3097080" cy="2365920"/>
            <a:chOff x="4572000" y="1268280"/>
            <a:chExt cx="3097080" cy="236592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4572000" y="1268280"/>
              <a:ext cx="3097080" cy="20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572000" y="3327120"/>
              <a:ext cx="307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Гостиная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3645000"/>
            <a:ext cx="2953080" cy="2989440"/>
            <a:chOff x="1187280" y="3645000"/>
            <a:chExt cx="2953080" cy="2989440"/>
          </a:xfrm>
        </p:grpSpPr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1187280" y="3645000"/>
              <a:ext cx="2953080" cy="23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744560" y="6053040"/>
              <a:ext cx="187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Комната Михаила Булгаков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364000" y="3645000"/>
            <a:ext cx="3157560" cy="3040560"/>
            <a:chOff x="5364000" y="3645000"/>
            <a:chExt cx="3157560" cy="3040560"/>
          </a:xfrm>
        </p:grpSpPr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5364000" y="3645000"/>
              <a:ext cx="3157560" cy="242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057360" y="6104160"/>
              <a:ext cx="169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Комната Тальберго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250920" y="260280"/>
            <a:ext cx="8675280" cy="6308280"/>
            <a:chOff x="250920" y="260280"/>
            <a:chExt cx="8675280" cy="63082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4109760" y="2589480"/>
              <a:ext cx="4816440" cy="39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250920" y="260280"/>
              <a:ext cx="4269960" cy="35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58000" y="4605840"/>
              <a:ext cx="32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Медицинский кабинет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37432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руппа №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лексей Турб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бе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кую книгу он чит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 какой фразе задержался его взгля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Что значат для него эти сло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тупки. Как они его характеризу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кие свои суждения автор вкладывает в уста герое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умел ли сохранить герой честь? Чем его за это награждает автор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1557360"/>
            <a:ext cx="396072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ппа №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колка Турб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характеризуют героя следующие сц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колка в б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колка в Анатомическом теат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йдите слова Николки о честном слове. Что можно сказать об авторе таких сл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держал ли Николка испытание времене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4221000"/>
            <a:ext cx="403236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руппа №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кую идейную нагрузку несет этот обра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 чем трагедия Ел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кую книгу читает? Почему именно её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кие свои заветные мысли Булгаков выражает ее уст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олитва Елены. Выделите ключевые сло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4221000"/>
            <a:ext cx="352728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руппа №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рои чести и бесчес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то еще из героев романа сохранил свою честь и человечнос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то из героев не сохранил этих качест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к Булгаков наказывает 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13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Все пройдет. Страдания, муки, кровь, голод и мор. Меч исчезнет, а вот звезды останутся, когда и тени наших тел и дел не останется на земле. Нет ни одного человека, который бы этого не знал. Так почему же мы не хотим обратить свой взгляд на них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5257800"/>
            <a:ext cx="3456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Почему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2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11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1:34:12Z</dcterms:created>
  <dc:creator>sezam</dc:creator>
  <dc:description/>
  <dc:language>en-US</dc:language>
  <cp:lastModifiedBy>Ступак</cp:lastModifiedBy>
  <dcterms:modified xsi:type="dcterms:W3CDTF">2013-09-23T13:16:33Z</dcterms:modified>
  <cp:revision>23</cp:revision>
  <dc:subject/>
  <dc:title>Береги честь смолоду</dc:title>
</cp:coreProperties>
</file>