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6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8.jpeg" ContentType="image/jpeg"/>
  <Override PartName="/ppt/media/image17.gif" ContentType="image/gif"/>
  <Override PartName="/ppt/media/image7.jpeg" ContentType="image/jpeg"/>
  <Override PartName="/ppt/media/image20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11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E1FB-5D05-4685-82C7-1B91C446EA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C54A-B5C5-4C38-9282-52F1B7F703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0784-FB29-48BF-B4A4-469A262DAE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7AC-0B31-4710-8EAB-11A11C17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F3A-8454-445A-8ABF-72B9FE8A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AE2-9C15-4670-9EE2-84EB3E2C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0690-C5A5-4A10-9493-F705765D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8B8-4D01-4D4B-9FAC-60905065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86A4-4EFC-4866-93CD-6EBB43FC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D2B4-18BF-40A9-BF7E-D0F5F7E7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E5B-D066-4BB7-AE2F-FD736038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8433-3BC9-4D34-9752-42A59BEA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EB2-EA4F-4116-A821-B486BF83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03C-76AB-4FDF-9F98-B009E4D1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DB37-D43F-4341-9B67-F111D807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C1D7-406C-44B0-B0E2-13E9E1A10B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Monotype Corsiva"/>
              </a:rPr>
              <a:t>Давайте познакомимся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34.gif"/>
          <p:cNvPicPr/>
          <p:nvPr/>
        </p:nvPicPr>
        <p:blipFill>
          <a:blip r:embed="rId1"/>
          <a:stretch/>
        </p:blipFill>
        <p:spPr>
          <a:xfrm>
            <a:off x="611280" y="1760400"/>
            <a:ext cx="424008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Результаты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 анкетирования учащих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часто с детьми играют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играет – 80 %, каждый день-10%, играла, когда был(а) маленькой – 1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играет – 10 %, каждый день-0%, когда есть время – 1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Результаты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 анкетирования учащих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акие игры играете ребенок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левые – 3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ольные – 1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ивные – 0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ьютерные – 6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Monotype Corsiva"/>
              </a:rPr>
              <a:t>Резюм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детей много свободного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и любят своих родителей, любят проводить с ними время, любят играть с ни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ята любят активный отдых,но им приходиться проводить время за компьют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родителей нет времени для проведения времени, для игр с деть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Monotype Corsiva"/>
              </a:rPr>
              <a:t>Результаты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Monotype Corsiva"/>
              </a:rPr>
              <a:t>социологического опрос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результатам социологических исследований на воспитание детей отцы в будние дни тратят своего времени 9,6% (21 мин), а в выходные - 7,2% (32 мин). Куда же идет остальное свободное время отцов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00000"/>
                </a:solidFill>
                <a:uFillTx/>
                <a:latin typeface="Monotype Corsiva"/>
              </a:rPr>
              <a:t>Ситуац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енок пытается поговорить с отцом, но тот увлеченно смотрит футбол, не слушает ребенка. Мама разговаривает по телефону, отмахивается от сына. Мальчик уходит на улицу, где встречает подростков, которые ему «сочувствуют» и предлагают «забыть» о проблемах с помощью наркотик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00000"/>
                </a:solidFill>
                <a:uFillTx/>
                <a:latin typeface="Monotype Corsiva"/>
              </a:rPr>
              <a:t>ИТО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ихотворение Э.Асадова 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ец поздравляет сына с днем рожд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Тебе семнадцать. Ну, совсем большой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через год получишь разрешень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регрешенья взрослы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куренье и на бокал вина, мой дорогой!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ын посмотрел задумчиво в окн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Спасибо, папа, за разрешение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 сигареты, водку и ви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ж года три, как бросил я все эт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Упражнение «Мешочек пробле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5" descr="10.gif"/>
          <p:cNvPicPr/>
          <p:nvPr/>
        </p:nvPicPr>
        <p:blipFill>
          <a:blip r:embed="rId1"/>
          <a:stretch/>
        </p:blipFill>
        <p:spPr>
          <a:xfrm>
            <a:off x="915840" y="1928880"/>
            <a:ext cx="62121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Monotype Corsiva"/>
              </a:rPr>
              <a:t>БУДНИ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Вечера сокровенных 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бесе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5" descr="vidaf2_opt.jpg"/>
          <p:cNvPicPr/>
          <p:nvPr/>
        </p:nvPicPr>
        <p:blipFill>
          <a:blip r:embed="rId1"/>
          <a:stretch/>
        </p:blipFill>
        <p:spPr>
          <a:xfrm>
            <a:off x="2428920" y="1698480"/>
            <a:ext cx="43578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Просмотр мультфильмов и кинофильм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Дни рождения героев мультфильмов и фильм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father_and_children_watching_television_in_new_pe0075656.jpg"/>
          <p:cNvPicPr/>
          <p:nvPr/>
        </p:nvPicPr>
        <p:blipFill>
          <a:blip r:embed="rId1"/>
          <a:srcRect l="0" t="16803" r="0" b="8359"/>
          <a:stretch/>
        </p:blipFill>
        <p:spPr>
          <a:xfrm>
            <a:off x="1785960" y="1928880"/>
            <a:ext cx="55562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«Как 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организовать 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свободное время ребенка»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Панченк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Надежда Викторо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Составлением электронных презентаций, минирол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449x449.png"/>
          <p:cNvPicPr/>
          <p:nvPr/>
        </p:nvPicPr>
        <p:blipFill>
          <a:blip r:embed="rId1"/>
          <a:stretch/>
        </p:blipFill>
        <p:spPr>
          <a:xfrm>
            <a:off x="571680" y="1571760"/>
            <a:ext cx="4276440" cy="42764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imagetwo.jpg"/>
          <p:cNvPicPr/>
          <p:nvPr/>
        </p:nvPicPr>
        <p:blipFill>
          <a:blip r:embed="rId2"/>
          <a:srcRect l="61720" t="4691" r="1564" b="2531"/>
          <a:stretch/>
        </p:blipFill>
        <p:spPr>
          <a:xfrm>
            <a:off x="5143680" y="3071880"/>
            <a:ext cx="33573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</a:rPr>
              <a:t>коллекциониров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3" descr="184274_1024_76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Monotype Corsiva"/>
              </a:rPr>
              <a:t>Выходны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уббота</a:t>
            </a: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 – день хозяйствен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ный: поход по магазинам, стирка, уборка, бан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скресение</a:t>
            </a: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 – день выдуманных праздник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</a:rPr>
              <a:t>День осенних листье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3" descr="0_1a4c7_36cd5fad_XL.jpg"/>
          <p:cNvPicPr/>
          <p:nvPr/>
        </p:nvPicPr>
        <p:blipFill>
          <a:blip r:embed="rId1"/>
          <a:stretch/>
        </p:blipFill>
        <p:spPr>
          <a:xfrm>
            <a:off x="2000160" y="1290600"/>
            <a:ext cx="483408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Разноцветная неделя</a:t>
            </a:r>
            <a:r>
              <a:rPr b="0" lang="ru-RU" sz="6600" spc="-1" strike="noStrike">
                <a:solidFill>
                  <a:srgbClr val="c00000"/>
                </a:solidFill>
                <a:latin typeface="Monotype Corsiva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3" descr="cartoon-wallpaper-1024x768-1001055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Праздник варень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3" descr="konservy.jpg"/>
          <p:cNvPicPr/>
          <p:nvPr/>
        </p:nvPicPr>
        <p:blipFill>
          <a:blip r:embed="rId1"/>
          <a:stretch/>
        </p:blipFill>
        <p:spPr>
          <a:xfrm>
            <a:off x="1095480" y="1928880"/>
            <a:ext cx="69530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ТРАДИЦИОННЫЕ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РАЗД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Содержимое 3" descr="0_9fa1a_ec7a2d1_L.jpg"/>
          <p:cNvPicPr/>
          <p:nvPr/>
        </p:nvPicPr>
        <p:blipFill>
          <a:blip r:embed="rId1"/>
          <a:stretch/>
        </p:blipFill>
        <p:spPr>
          <a:xfrm>
            <a:off x="714240" y="1500120"/>
            <a:ext cx="359424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1310890764_229183005_3----.jpg"/>
          <p:cNvPicPr/>
          <p:nvPr/>
        </p:nvPicPr>
        <p:blipFill>
          <a:blip r:embed="rId2"/>
          <a:stretch/>
        </p:blipFill>
        <p:spPr>
          <a:xfrm>
            <a:off x="4429080" y="2500200"/>
            <a:ext cx="427356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Упражнение «Снежин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3" descr="391926605.jpg"/>
          <p:cNvPicPr/>
          <p:nvPr/>
        </p:nvPicPr>
        <p:blipFill>
          <a:blip r:embed="rId1"/>
          <a:stretch/>
        </p:blipFill>
        <p:spPr>
          <a:xfrm>
            <a:off x="2071800" y="1785960"/>
            <a:ext cx="4398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Monotype Corsiva"/>
              </a:rPr>
              <a:t>Памят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3" descr="bc567673b7676a10e53910ad5230ece9_XL.jpg"/>
          <p:cNvPicPr/>
          <p:nvPr/>
        </p:nvPicPr>
        <p:blipFill>
          <a:blip r:embed="rId1"/>
          <a:stretch/>
        </p:blipFill>
        <p:spPr>
          <a:xfrm>
            <a:off x="771480" y="1600200"/>
            <a:ext cx="71503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Упражнение  Лента времени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(часть вторая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3143160"/>
          <a:ext cx="9144000" cy="208764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</a:tblGrid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0960">
                <a:tc gridSpan="2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35280" y="6858000"/>
            <a:ext cx="4608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5400" spc="-1" strike="noStrike">
                <a:solidFill>
                  <a:srgbClr val="002060"/>
                </a:solidFill>
                <a:latin typeface="Monotype Corsiva"/>
              </a:rPr>
              <a:t>Не упускай ни часу, удержишь в руках сегодняшний день, меньше будешь зависеть от завтрашнего...</a:t>
            </a:r>
            <a:br>
              <a:rPr sz="4800"/>
            </a:br>
            <a:r>
              <a:rPr b="0" lang="ru-RU" sz="4800" spc="-1" strike="noStrike">
                <a:solidFill>
                  <a:srgbClr val="002060"/>
                </a:solidFill>
                <a:latin typeface="Monotype Corsiva"/>
              </a:rPr>
              <a:t>(Из советов Л.А. Сенеки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"Свеча доверия"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3" descr="noel1.gif"/>
          <p:cNvPicPr/>
          <p:nvPr/>
        </p:nvPicPr>
        <p:blipFill>
          <a:blip r:embed="rId1"/>
          <a:stretch/>
        </p:blipFill>
        <p:spPr>
          <a:xfrm>
            <a:off x="2286000" y="2612880"/>
            <a:ext cx="3714840" cy="42451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Kerzen0013.gif"/>
          <p:cNvPicPr/>
          <p:nvPr/>
        </p:nvPicPr>
        <p:blipFill>
          <a:blip r:embed="rId2"/>
          <a:stretch/>
        </p:blipFill>
        <p:spPr>
          <a:xfrm>
            <a:off x="214200" y="214200"/>
            <a:ext cx="2494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</a:rPr>
              <a:t>Спасибо за работу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Monotype Corsiva"/>
              </a:rPr>
              <a:t> до свидан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Monotype Corsiva"/>
              </a:rPr>
              <a:t>Не упускай ни часу, удержишь в руках сегодняшний день, меньше будешь зависеть от завтрашнего.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(Из советов Л.А. Сенек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Monotype Corsiva"/>
              </a:rPr>
              <a:t>Лента времен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Monotype Corsiva"/>
              </a:rPr>
              <a:t>Уважаемые родители, вам необходим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Monotype Corsiva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Monotype Corsiva"/>
              </a:rPr>
              <a:t>заполнить ленту времени №1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17375e"/>
                </a:solidFill>
                <a:latin typeface="Monotype Corsiva"/>
              </a:rPr>
              <a:t>Перед вами листы с лентой. В пустые графы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Monotype Corsiva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Monotype Corsiva"/>
              </a:rPr>
              <a:t>напротив числа (часа) укажите, чем заня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Monotype Corsiva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Monotype Corsiva"/>
              </a:rPr>
              <a:t>ваш ребе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4365720"/>
          <a:ext cx="9144000" cy="208764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0960">
                <a:tc gridSpan="2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692360" y="-1371600"/>
            <a:ext cx="730440" cy="67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68000" y="1341000"/>
            <a:ext cx="63565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1239392688.jpg"/>
          <p:cNvPicPr/>
          <p:nvPr/>
        </p:nvPicPr>
        <p:blipFill>
          <a:blip r:embed="rId1"/>
          <a:stretch/>
        </p:blipFill>
        <p:spPr>
          <a:xfrm>
            <a:off x="755640" y="0"/>
            <a:ext cx="3933720" cy="3933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17bbf138aa3cf86a3dcc93d0b975cbfc.gif"/>
          <p:cNvPicPr/>
          <p:nvPr/>
        </p:nvPicPr>
        <p:blipFill>
          <a:blip r:embed="rId2"/>
          <a:stretch/>
        </p:blipFill>
        <p:spPr>
          <a:xfrm rot="19690200">
            <a:off x="1082520" y="4328640"/>
            <a:ext cx="2055960" cy="17812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0_50f0_1434ef15_XL.jpg"/>
          <p:cNvPicPr/>
          <p:nvPr/>
        </p:nvPicPr>
        <p:blipFill>
          <a:blip r:embed="rId3"/>
          <a:stretch/>
        </p:blipFill>
        <p:spPr>
          <a:xfrm>
            <a:off x="4356000" y="1989000"/>
            <a:ext cx="452772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На что же дети тратят 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это свободное время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Monotype Corsiva"/>
              </a:rPr>
              <a:t>25% ребят гуляет на улице с друзьям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Monotype Corsiva"/>
              </a:rPr>
              <a:t>18% - слушают музыку или смотрят телевиз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Monotype Corsiva"/>
              </a:rPr>
              <a:t>15% - читают и трудятся на до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Monotype Corsiva"/>
              </a:rPr>
              <a:t>14% - посещают кружки и се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Результаты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 анкетирования учащих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же у наших детей этого свободного времен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часа – 1 0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часа – 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часа –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 часов – 8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Результаты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 анкетирования учащих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кем ребенок любит провод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бодное врем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родителями – 3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одноклассниками – 5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друзьями во дворе –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братьями или сестрами (если есть) –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Результаты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 анкетирования учащих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вое свободное время наши де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тели бы вот чем занять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зкультура, поход, природа – 6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ещать спортивные мероприятия – 10%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ение, музыка, коллекции –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оделие – 2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04:55:17Z</dcterms:created>
  <dc:creator>User</dc:creator>
  <dc:description/>
  <dc:language>en-US</dc:language>
  <cp:lastModifiedBy>НАДЕЖДА</cp:lastModifiedBy>
  <dcterms:modified xsi:type="dcterms:W3CDTF">2011-12-20T21:03:43Z</dcterms:modified>
  <cp:revision>37</cp:revision>
  <dc:subject/>
  <dc:title>Слайд 1</dc:title>
</cp:coreProperties>
</file>