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0.png" ContentType="image/png"/>
  <Override PartName="/ppt/media/image18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27.png" ContentType="image/png"/>
  <Override PartName="/ppt/media/image30.wmf" ContentType="image/x-wmf"/>
  <Override PartName="/ppt/media/image14.jpeg" ContentType="image/jpeg"/>
  <Override PartName="/ppt/media/image8.png" ContentType="image/png"/>
  <Override PartName="/ppt/media/image28.png" ContentType="image/png"/>
  <Override PartName="/ppt/media/image7.jpeg" ContentType="image/jpeg"/>
  <Override PartName="/ppt/media/image5.gif" ContentType="image/gif"/>
  <Override PartName="/ppt/media/image10.png" ContentType="image/png"/>
  <Override PartName="/ppt/media/image1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jpeg" ContentType="image/jpeg"/>
  <Override PartName="/ppt/media/image24.png" ContentType="image/png"/>
  <Override PartName="/ppt/media/image3.gif" ContentType="image/gif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5F36-86A0-4DC6-BF9A-CF239F5DE0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EB20-2418-4E4E-A640-0C83707093B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59E-138E-49E3-8D79-1D56E138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DA0-C870-441A-8B60-F81438E6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758-7293-4EF4-96DC-36250CA8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640-9826-4BB6-9DD9-85501057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924D-565E-40EE-9BCC-3AF41D5F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162A-E053-4B91-BCBB-7612C31C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63DC-98AC-4424-91E3-41480970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557F-630D-425F-BCAD-2CCA92C2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9C1F-FC0F-4C1A-B462-D5C68D90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35E6-9947-406C-898D-B613F265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0926-C1B1-4981-A568-D830AA0E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D90-8EED-4634-A8E2-EBA93179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CF05-7964-4F60-8EEF-602ECD76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448B-12CB-4FAA-B224-A97BF573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0582-58F6-4B5C-B8AA-D214E2C2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A150-6379-4C33-B2DB-D97551F6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7D5D-1C30-42F0-858C-E9AE8160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171-A5CF-47FD-82D8-1CB96C40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5BB-8E19-46EE-BD32-B2B4E5A5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A5E-2CBA-453C-A386-3217401B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50E-9C29-41BA-9EEC-C8303560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7D1-DD19-4EC4-A6E2-096FDC41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692-9158-40CE-B040-2A4D9D41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E31-C3EF-48D9-9F53-A2228AD5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250C-7257-4AEB-8AA8-AC2BFA8886B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61B3-9CE9-41D3-A1F3-B1F687A0561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93560" y="212760"/>
            <a:ext cx="7901280" cy="33955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3929040" y="3857760"/>
            <a:ext cx="4572000" cy="28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mic Sans MS"/>
              </a:rPr>
              <a:t>Выполнила</a:t>
            </a:r>
            <a:r>
              <a:rPr b="1" lang="en-US" sz="1800" spc="-1" strike="noStrike">
                <a:solidFill>
                  <a:srgbClr val="7030a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Штевнина </a:t>
            </a:r>
            <a:r>
              <a:rPr b="0" lang="ru-RU" sz="1800" spc="-1" strike="noStrike">
                <a:solidFill>
                  <a:srgbClr val="cc00cc"/>
                </a:solidFill>
                <a:latin typeface="Comic Sans MS"/>
              </a:rPr>
              <a:t> Ю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mic Sans MS"/>
              </a:rPr>
              <a:t>Проверила</a:t>
            </a:r>
            <a:r>
              <a:rPr b="1" lang="en-US" sz="1800" spc="-1" strike="noStrike">
                <a:solidFill>
                  <a:srgbClr val="7030a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Comic Sans MS"/>
              </a:rPr>
              <a:t>Леонов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Comic Sans MS"/>
              </a:rPr>
              <a:t>Ирина Владимиро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f9738"/>
                </a:solidFill>
                <a:latin typeface="Comic Sans MS"/>
              </a:rPr>
              <a:t>201</a:t>
            </a:r>
            <a:r>
              <a:rPr b="1" lang="ru-RU" sz="1400" spc="-1" strike="noStrike">
                <a:solidFill>
                  <a:srgbClr val="af9738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af9738"/>
                </a:solidFill>
                <a:latin typeface="Comic Sans MS"/>
              </a:rPr>
              <a:t>го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8" descr="AG00052_"/>
          <p:cNvPicPr/>
          <p:nvPr/>
        </p:nvPicPr>
        <p:blipFill>
          <a:blip r:embed="rId3"/>
          <a:stretch/>
        </p:blipFill>
        <p:spPr>
          <a:xfrm rot="20737200">
            <a:off x="928440" y="4049640"/>
            <a:ext cx="2305080" cy="1441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360" y="259920"/>
            <a:ext cx="79009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Оптимальной величиной скорости движения воздуха в жилых помещениях является 0,1 м/с. Установлено также, что «сухой» воздух способствует увеличению бактериальной и химической загрязненности воздушной среды (например, за счет увеличения испарения и летучести химических веществ). Поэтому оптимальная величина относительной влажности воздуха – 40–60%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Содержимое 6" descr="P1020665.jpg"/>
          <p:cNvPicPr/>
          <p:nvPr/>
        </p:nvPicPr>
        <p:blipFill>
          <a:blip r:embed="rId2"/>
          <a:stretch/>
        </p:blipFill>
        <p:spPr>
          <a:xfrm rot="1904400">
            <a:off x="7357680" y="54288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0" y="928800"/>
            <a:ext cx="68580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Для живых организмов, в том числе и человека, звук является одним из воздействий окружающей среды. В природе громкие звуки редки, шум относительно слаб и непродолжителен. Звуки и шумы большой мощности поражают слуховой аппарат и нервные центры, могут вызвать болевые ощущения и шок. Так действует шумовое загрязнение. Шумы вызывают функциональные расстройства сердечнососудистой системы, оказывают вредное воздействие на зрительный и вестибулярный анализаторы. По мнению ученых, именно инфразвуками, неслышно проникающими сквозь самые толстые стены, вызываются многие нервные болезни жителей крупных городов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D:\Картинки\мои\картинки)\i23tcjpio4s9i0wb.jpg"/>
          <p:cNvPicPr/>
          <p:nvPr/>
        </p:nvPicPr>
        <p:blipFill>
          <a:blip r:embed="rId3"/>
          <a:stretch/>
        </p:blipFill>
        <p:spPr>
          <a:xfrm>
            <a:off x="7072200" y="1714680"/>
            <a:ext cx="1928880" cy="3000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85480" y="285480"/>
            <a:ext cx="7638840" cy="61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льтразвуки, также опасны. Особенно сильно их отрицательному воздействию подвержены клетки нервной системы. В настоящее время врачи говорят о шумовой болезни, развивающейся в результате воздействия шума; она сопровождается преимущественным поражением слуха и нервной системы. Но в то же время тихий шелест листвы, журчание ручья, птичьи голоса, легкий плеск воды и шум прибоя всегда приятны человеку. Они успокаивают его, снимают стрессы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 Уровень шума в 20–30 децибел (дБ) практически безвреден для человека, это естественный шумовой фон. Что же касается громких звуков, то здесь допустимая граница составляет примерно 80 децибел. Звук в 130 децибел уже вызывает у человека болевое ощущение, а в 150 дБ становится для него непереносимым. Основным источником внешнего шума является городской транспорт, а внутреннего – лифты, бытовые электроприборы, громкая речь и др. Допустимый уровень шума в жилом помещении в дневное время должен быть не более 40 дБ, а в ночное 30 дБ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6840" y="1599840"/>
            <a:ext cx="59007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Объектом исследования явилась собственная квартира. Были подробно изучены источники поступления энергии, микроклимат в квартире, шумовое загрязнение, их влияние на здоровье членов семьи. Все исследования имели целью выявить благоприятные и неблагоприятные факторы в экосистеме квартиры и устранить или уменьшить влияние негативных воздействий на здоровье нашей семьи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7000920" y="2714760"/>
            <a:ext cx="1714320" cy="2400120"/>
          </a:xfrm>
          <a:custGeom>
            <a:avLst/>
            <a:gdLst>
              <a:gd name="textAreaLeft" fmla="*/ 110880 w 1714320"/>
              <a:gd name="textAreaRight" fmla="*/ 1603440 w 1714320"/>
              <a:gd name="textAreaTop" fmla="*/ 110880 h 2400120"/>
              <a:gd name="textAreaBottom" fmla="*/ 2289240 h 2400120"/>
            </a:gdLst>
            <a:ahLst/>
            <a:rect l="textAreaLeft" t="textAreaTop" r="textAreaRight" b="textAreaBottom"/>
            <a:pathLst>
              <a:path w="21600" h="30239">
                <a:moveTo>
                  <a:pt x="0" y="0"/>
                </a:moveTo>
                <a:lnTo>
                  <a:pt x="21600" y="0"/>
                </a:lnTo>
                <a:lnTo>
                  <a:pt x="21600" y="30239"/>
                </a:lnTo>
                <a:lnTo>
                  <a:pt x="0" y="30239"/>
                </a:lnTo>
                <a:close/>
              </a:path>
              <a:path fill="lightenLess" w="21600" h="302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39">
                <a:moveTo>
                  <a:pt x="21600" y="0"/>
                </a:moveTo>
                <a:lnTo>
                  <a:pt x="21600" y="30239"/>
                </a:lnTo>
                <a:lnTo>
                  <a:pt x="20200" y="28839"/>
                </a:lnTo>
                <a:lnTo>
                  <a:pt x="20200" y="1400"/>
                </a:lnTo>
                <a:close/>
              </a:path>
              <a:path fill="darkenLess" w="21600" h="30239">
                <a:moveTo>
                  <a:pt x="21600" y="30239"/>
                </a:moveTo>
                <a:lnTo>
                  <a:pt x="0" y="30239"/>
                </a:lnTo>
                <a:lnTo>
                  <a:pt x="1400" y="28839"/>
                </a:lnTo>
                <a:lnTo>
                  <a:pt x="20200" y="28839"/>
                </a:lnTo>
                <a:close/>
              </a:path>
              <a:path fill="lighten" w="21600" h="30239">
                <a:moveTo>
                  <a:pt x="0" y="302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39"/>
                </a:lnTo>
                <a:close/>
              </a:path>
              <a:path fill="darken" w="21600" h="30239">
                <a:moveTo>
                  <a:pt x="10800" y="8157"/>
                </a:moveTo>
                <a:lnTo>
                  <a:pt x="13376" y="10768"/>
                </a:lnTo>
                <a:lnTo>
                  <a:pt x="13376" y="9027"/>
                </a:lnTo>
                <a:lnTo>
                  <a:pt x="15152" y="9027"/>
                </a:lnTo>
                <a:lnTo>
                  <a:pt x="15152" y="12543"/>
                </a:lnTo>
                <a:lnTo>
                  <a:pt x="17763" y="15120"/>
                </a:lnTo>
                <a:lnTo>
                  <a:pt x="16109" y="15120"/>
                </a:lnTo>
                <a:lnTo>
                  <a:pt x="16109" y="22309"/>
                </a:lnTo>
                <a:lnTo>
                  <a:pt x="5491" y="22309"/>
                </a:lnTo>
                <a:lnTo>
                  <a:pt x="5491" y="15120"/>
                </a:lnTo>
                <a:lnTo>
                  <a:pt x="3837" y="15120"/>
                </a:lnTo>
                <a:close/>
              </a:path>
              <a:path fill="darkenLess" w="21600" h="30239">
                <a:moveTo>
                  <a:pt x="13376" y="10768"/>
                </a:moveTo>
                <a:lnTo>
                  <a:pt x="13376" y="9027"/>
                </a:lnTo>
                <a:lnTo>
                  <a:pt x="15152" y="9027"/>
                </a:lnTo>
                <a:lnTo>
                  <a:pt x="15152" y="12543"/>
                </a:lnTo>
                <a:close/>
              </a:path>
              <a:path fill="darkenLess" w="21600" h="30239">
                <a:moveTo>
                  <a:pt x="9877" y="18618"/>
                </a:moveTo>
                <a:lnTo>
                  <a:pt x="11723" y="18618"/>
                </a:lnTo>
                <a:lnTo>
                  <a:pt x="11723" y="22309"/>
                </a:lnTo>
                <a:lnTo>
                  <a:pt x="16109" y="22309"/>
                </a:lnTo>
                <a:lnTo>
                  <a:pt x="16109" y="15120"/>
                </a:lnTo>
                <a:lnTo>
                  <a:pt x="5491" y="15120"/>
                </a:lnTo>
                <a:lnTo>
                  <a:pt x="5491" y="22309"/>
                </a:lnTo>
                <a:lnTo>
                  <a:pt x="9877" y="2230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8" descr=""/>
          <p:cNvPicPr/>
          <p:nvPr/>
        </p:nvPicPr>
        <p:blipFill>
          <a:blip r:embed="rId2"/>
          <a:stretch/>
        </p:blipFill>
        <p:spPr>
          <a:xfrm>
            <a:off x="450720" y="-182520"/>
            <a:ext cx="8418600" cy="1609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брать пыль с разных поверхностей помещения (с книг, ковровых дорожек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бранные виды пыли разместить по предметным стеклам и пронумеровать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смотреть приготовленные образцы пыли под микроскопом и сфотографировать их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ать подробное описание исследуемым образцам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аботать результаты и сделать вывод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4" descr=""/>
          <p:cNvPicPr/>
          <p:nvPr/>
        </p:nvPicPr>
        <p:blipFill>
          <a:blip r:embed="rId2"/>
          <a:stretch/>
        </p:blipFill>
        <p:spPr>
          <a:xfrm>
            <a:off x="378000" y="-158760"/>
            <a:ext cx="8924760" cy="158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928760" y="1285920"/>
            <a:ext cx="37292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орудование и материалы: электронный термометр, психрометр аспирацион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" descr="03"/>
          <p:cNvPicPr/>
          <p:nvPr/>
        </p:nvPicPr>
        <p:blipFill>
          <a:blip r:embed="rId3"/>
          <a:stretch/>
        </p:blipFill>
        <p:spPr>
          <a:xfrm>
            <a:off x="428760" y="1500120"/>
            <a:ext cx="4286160" cy="4776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4" descr=""/>
          <p:cNvPicPr/>
          <p:nvPr/>
        </p:nvPicPr>
        <p:blipFill>
          <a:blip r:embed="rId2"/>
          <a:stretch/>
        </p:blipFill>
        <p:spPr>
          <a:xfrm>
            <a:off x="420840" y="-171360"/>
            <a:ext cx="8339040" cy="1603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85840" y="1285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7030a0"/>
              </a:buClr>
              <a:buSzPct val="77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тодика измерения шумового загряз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7030a0"/>
              </a:buClr>
              <a:buSzPct val="77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становить шумомер в центре помещения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7030a0"/>
              </a:buClr>
              <a:buSzPct val="77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становить функцию А – взвешивание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7030a0"/>
              </a:buClr>
              <a:buSzPct val="77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ключить шумомер на 1-2 минут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7030a0"/>
              </a:buClr>
              <a:buSzPct val="77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писать пиковое значение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7030a0"/>
              </a:buClr>
              <a:buSzPct val="77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делать вывод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" descr="http://gorsun.org.ru/i/lib/children/environment/02.jpg"/>
          <p:cNvPicPr/>
          <p:nvPr/>
        </p:nvPicPr>
        <p:blipFill>
          <a:blip r:embed="rId3"/>
          <a:stretch/>
        </p:blipFill>
        <p:spPr>
          <a:xfrm>
            <a:off x="1500120" y="3571920"/>
            <a:ext cx="6958080" cy="2714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4" descr=""/>
          <p:cNvPicPr/>
          <p:nvPr/>
        </p:nvPicPr>
        <p:blipFill>
          <a:blip r:embed="rId2"/>
          <a:stretch/>
        </p:blipFill>
        <p:spPr>
          <a:xfrm>
            <a:off x="450720" y="-182520"/>
            <a:ext cx="8328240" cy="1609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образцы пыли"/>
          <p:cNvPicPr/>
          <p:nvPr/>
        </p:nvPicPr>
        <p:blipFill>
          <a:blip r:embed="rId3"/>
          <a:stretch/>
        </p:blipFill>
        <p:spPr>
          <a:xfrm>
            <a:off x="500040" y="1928880"/>
            <a:ext cx="8021520" cy="407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:\Картинки\мои\картинки)\28836.jpeg"/>
          <p:cNvPicPr/>
          <p:nvPr/>
        </p:nvPicPr>
        <p:blipFill>
          <a:blip r:embed="rId2"/>
          <a:stretch/>
        </p:blipFill>
        <p:spPr>
          <a:xfrm>
            <a:off x="6808680" y="4138560"/>
            <a:ext cx="2341800" cy="253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14200" y="285840"/>
            <a:ext cx="7467840" cy="60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сследование пыли в жилых помещениях квартиры проводилось с помощью светового микроскопа. Максимальное количество пыли оседает в жилых помещениях на поверхности мебели, а также в труднодоступных для уборки местах. Рассмотрев частицы пыли под микроскопом, мы обнаружили, что они неоднородны по составу и размеру, серого цвета, соединены между собой ворсинками. Пыль неоднородна и по структуре: книжная пыль – серого цвета, состоит из мельчайших частиц (мелкодисперсная), древесная пыль – более крупная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ыль, собранная с ковровых дорожек, содержит более крупные частицы, которые соединены ворсинками, может включать шерсть животных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5" descr=""/>
          <p:cNvPicPr/>
          <p:nvPr/>
        </p:nvPicPr>
        <p:blipFill>
          <a:blip r:embed="rId2"/>
          <a:stretch/>
        </p:blipFill>
        <p:spPr>
          <a:xfrm>
            <a:off x="450720" y="-122400"/>
            <a:ext cx="8242560" cy="1549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стояние микроклимата в комнатах квартиры мы исследовали с помощью термометра и психромет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казатели микроклимата квартир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42960" y="3143160"/>
          <a:ext cx="7643880" cy="3214800"/>
        </p:xfrm>
        <a:graphic>
          <a:graphicData uri="http://schemas.openxmlformats.org/drawingml/2006/table">
            <a:tbl>
              <a:tblPr/>
              <a:tblGrid>
                <a:gridCol w="1528920"/>
                <a:gridCol w="1528560"/>
                <a:gridCol w="1528920"/>
                <a:gridCol w="1528560"/>
                <a:gridCol w="1528920"/>
              </a:tblGrid>
              <a:tr h="800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од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379bb"/>
                      </a:solidFill>
                    </a:lnL>
                    <a:lnR>
                      <a:noFill/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a379bb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пература, С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a379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носительная влажность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379bb"/>
                      </a:solidFill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a379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ный результ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итарно – гигиеническая нор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ный результ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итарно – гигиеническая нор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379bb"/>
                      </a:solidFill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пл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379bb"/>
                      </a:solidFill>
                    </a:lnL>
                    <a:lnR>
                      <a:noFill/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-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-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379bb"/>
                      </a:solidFill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лод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379bb"/>
                      </a:solidFill>
                    </a:lnL>
                    <a:lnR>
                      <a:noFill/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379bb"/>
                      </a:solidFill>
                    </a:lnR>
                    <a:lnT w="5760">
                      <a:solidFill>
                        <a:srgbClr val="a379bb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solidFill>
                      <a:srgbClr val="f0ecf3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420840" y="-165240"/>
            <a:ext cx="7480080" cy="1317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28400" y="14288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7030a0"/>
              </a:buClr>
              <a:buSzPct val="10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2254"/>
                </a:solidFill>
                <a:latin typeface="Times New Roman"/>
              </a:rPr>
              <a:t>Гипотез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7030a0"/>
              </a:buClr>
              <a:buSzPct val="10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2254"/>
                </a:solidFill>
                <a:latin typeface="Times New Roman"/>
              </a:rPr>
              <a:t>Введе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7030a0"/>
              </a:buClr>
              <a:buSzPct val="10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2254"/>
                </a:solidFill>
                <a:latin typeface="Times New Roman"/>
              </a:rPr>
              <a:t>Цел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7030a0"/>
              </a:buClr>
              <a:buSzPct val="10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2254"/>
                </a:solidFill>
                <a:latin typeface="Times New Roman"/>
              </a:rPr>
              <a:t>Задач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7030a0"/>
              </a:buClr>
              <a:buSzPct val="10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2254"/>
                </a:solidFill>
                <a:latin typeface="Times New Roman"/>
              </a:rPr>
              <a:t>Загрязнение атмосферы квартир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7030a0"/>
              </a:buClr>
              <a:buSzPct val="10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2254"/>
                </a:solidFill>
                <a:latin typeface="Times New Roman"/>
              </a:rPr>
              <a:t>Микроклимат жилых помещ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7030a0"/>
              </a:buClr>
              <a:buSzPct val="10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2254"/>
                </a:solidFill>
                <a:latin typeface="Times New Roman"/>
              </a:rPr>
              <a:t>Влияние звуков на челов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7030a0"/>
              </a:buClr>
              <a:buSzPct val="10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2254"/>
                </a:solidFill>
                <a:latin typeface="Times New Roman"/>
              </a:rPr>
              <a:t>Методы исследова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7030a0"/>
              </a:buClr>
              <a:buSzPct val="10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2254"/>
                </a:solidFill>
                <a:latin typeface="Times New Roman"/>
              </a:rPr>
              <a:t>Результаты исследова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7030a0"/>
              </a:buClr>
              <a:buSzPct val="10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2254"/>
                </a:solidFill>
                <a:latin typeface="Times New Roman"/>
              </a:rPr>
              <a:t>Выво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7030a0"/>
              </a:buClr>
              <a:buSzPct val="10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2254"/>
                </a:solidFill>
                <a:latin typeface="Times New Roman"/>
              </a:rPr>
              <a:t>Рекомендац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7030a0"/>
              </a:buClr>
              <a:buSzPct val="8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7030a0"/>
              </a:buClr>
              <a:buSzPct val="8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9" descr="AG00011_"/>
          <p:cNvPicPr/>
          <p:nvPr/>
        </p:nvPicPr>
        <p:blipFill>
          <a:blip r:embed="rId3"/>
          <a:stretch/>
        </p:blipFill>
        <p:spPr>
          <a:xfrm>
            <a:off x="6858000" y="642960"/>
            <a:ext cx="1736640" cy="1942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7640" y="752400"/>
            <a:ext cx="746748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Прямоугольник 5" descr=""/>
          <p:cNvPicPr/>
          <p:nvPr/>
        </p:nvPicPr>
        <p:blipFill>
          <a:blip r:embed="rId2"/>
          <a:stretch/>
        </p:blipFill>
        <p:spPr>
          <a:xfrm>
            <a:off x="115920" y="115920"/>
            <a:ext cx="8820000" cy="11826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642960" y="1428840"/>
            <a:ext cx="7816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измерили уровень шума в комнатах квартиры с помощью шумомера и установили: максимальный уровень шума в дневное время – до 55дБ, в ночное время – до 35 дБ, что соответствует санитарно – гигиеническим нормам. Наиболее сильный шум создают кухонные приборы: электрическая мясорубка, кофемолка, миксер – до 75 дБ, а также электрическая дрель – до 75 дБ, деревообрабатывающий станок – до 95 дБ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SzPct val="1070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Максимальное количество пыли оседает в жилых помещениях на поверхности мебели, а также в труднодоступных для уборки местах. Рассмотрев частицы пыли под микроскопом, мы обнаружили, что они неоднородны по составу и размеру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SzPct val="1070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о показателям температуры полученные результаты соответствуют норме;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SzPct val="10702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о показателям относительной влажности в теплый период года полученные результаты ниже санитарно – гигиенических норм, а в холодный период соответствуют норме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SzPct val="10702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ровень шума в дневное и ночное время соответствует норме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7030a0"/>
              </a:buClr>
              <a:buSzPct val="82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водить влажную уборку в квартире  2-3 раза в недел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7030a0"/>
              </a:buClr>
              <a:buSzPct val="82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бивать ковровые дорожки 1 раз в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7030a0"/>
              </a:buClr>
              <a:buSzPct val="82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лушать музыку на более низкой громк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7030a0"/>
              </a:buClr>
              <a:buSzPct val="82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роить более прочные дома со звукоизолирующими стен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9" descr="AN00790_"/>
          <p:cNvPicPr/>
          <p:nvPr/>
        </p:nvPicPr>
        <p:blipFill>
          <a:blip r:embed="rId3"/>
          <a:stretch/>
        </p:blipFill>
        <p:spPr>
          <a:xfrm rot="834000">
            <a:off x="5665320" y="3970440"/>
            <a:ext cx="2428920" cy="2531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5400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сли уровень шума и степень запыления превышают постоянную  норму, то это ведет к ухудшению слуха и раздражению слизистой оболочки дыхательных пу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J0341499"/>
          <p:cNvPicPr/>
          <p:nvPr/>
        </p:nvPicPr>
        <p:blipFill>
          <a:blip r:embed="rId3"/>
          <a:stretch/>
        </p:blipFill>
        <p:spPr>
          <a:xfrm rot="796800">
            <a:off x="5838480" y="2480760"/>
            <a:ext cx="2698560" cy="3259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566640" y="-66600"/>
            <a:ext cx="7480440" cy="1084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78920" y="620280"/>
            <a:ext cx="8534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Нам часто кажется, что загрязнения окружающей среды подкарауливают нас лишь на улице, и поэтому на экологию наших квартир мы обращаем мало внимания. Но квартира — не только укрытие от неблагоприятных условий окружающего мира, но и мощный фактор, воздействующий на человека и его здоровья. На качество среды в жилище влияют: наружный воздух ; вещества, возникающие в процессе приготовления пищи; вещества, выделяемые мебелью, книгами, одеждой комнатными растениями; электромагнитное загрязнение. Поэтому исследование состояния жилища с экологической точки зрения, решение проблемы создания здоровой среды обитания для человека в настоящее время являются очень актуальны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7030a0"/>
                </a:solidFill>
                <a:latin typeface="Comic Sans MS"/>
              </a:rPr>
              <a:t>Цель работы</a:t>
            </a:r>
            <a:r>
              <a:rPr b="0" lang="en-US" sz="2600" spc="-1" strike="noStrike">
                <a:solidFill>
                  <a:srgbClr val="7030a0"/>
                </a:solidFill>
                <a:latin typeface="Comic Sans MS"/>
              </a:rPr>
              <a:t> :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исследовать жилую квартиру как незамкнутую экосистему и предложить меры по созданию экологически безопасной для человека среды обитания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7030a0"/>
                </a:solidFill>
                <a:latin typeface="Comic Sans MS"/>
              </a:rPr>
              <a:t>Задачи</a:t>
            </a:r>
            <a:r>
              <a:rPr b="0" lang="en-US" sz="2600" spc="-1" strike="noStrike">
                <a:solidFill>
                  <a:srgbClr val="7030a0"/>
                </a:solidFill>
                <a:latin typeface="Comic Sans MS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7030a0"/>
              </a:buClr>
              <a:buSzPct val="89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рассмотреть влияние пыли на здоровье человека;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7030a0"/>
              </a:buClr>
              <a:buSzPct val="89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рассмотреть влияние микроклимата в жилище человека на состояние его здоровья;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7030a0"/>
              </a:buClr>
              <a:buSzPct val="89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определить источники электромагнитного излучения в квартире;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7030a0"/>
              </a:buClr>
              <a:buSzPct val="89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изучить степень шумового загрязнения, его влияние на здоровье жителей квартиры, определить меры борьбы с ним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2"/>
          <a:stretch/>
        </p:blipFill>
        <p:spPr>
          <a:xfrm>
            <a:off x="281160" y="96840"/>
            <a:ext cx="8673840" cy="1330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13840" y="1071720"/>
            <a:ext cx="821556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Источниками загрязнения могут быть ядовитые выделения синтетических смол, которыми пропитаны древесностружечные плиты (из них сделана мебель), испарения химических покрытий пола – линолеума и пленки ПВХ, не до конца сгоревший газ в газовых печах и плитах. Опасно для здоровья загрязнение воздуха табачным дымом. Воздух внутри дома практически всегда более пыльный, чем на улице. Ведь при проветривании комнаты, когда потоки уличного воздуха входят через форточку и выходят через вентиляционные решетки или через другую форточку, скорость и направление воздушного потока постоянно меняются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560" y="260280"/>
            <a:ext cx="8358120" cy="62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В сегодняшнее время от бронхиальной астмы  в России страдает 12% населения, тогда как в странах Европы и США эта цифра составляет 5%. По прогнозам, в ближайшие годы процент больных астмой может повыситься в России до 30%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Изученная под микроскопом пыль оказалась намного опаснее уличной. В пробах такой пыли можно обнаружить шерсть домашних животных, цветочную пыльцу, множество текстильных волокон от белья и одежды. Но самый неприятный компонент пыли – это пылевые клещи. Пылевые клещи – это микроскопические  паукообразные, живущие в постельном белье, коврах и мягкой мебели.  Они могут служить причиной возникновения астмы или аллергических приступов у людей с повышенной чувствительностью.  Пылевые клещи присутствуют почти в каждом доме, хотя вы их вряд ли увидите, так как они очень малы. Особенно быстро они размножаются в теплых и влажных местах. Подсчитано, что в 1 г домашней пыли может обитать до 30 тысяч таких клещ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414360" y="96840"/>
            <a:ext cx="8405640" cy="1330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 степени его влияния на тепловой баланс человека микроклимат жилых помещений подразделяется на комфортный, или нейтральный, и дискомфортный - нагревающий или охлаждающий. Пребывание в условиях дискомфортного микроклимата, в зависимости от степени этого дискомфорта, возраста человека и ряда других факторов, может привести к возникновению острой или хронической формы тепловой патолог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20840" y="-171360"/>
            <a:ext cx="8242200" cy="201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28760" y="1928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ри остром действии перегрева может возникнуть острая гипертермия,   которая характеризуется повышением температуры тела до 38-40°С, усиленным потоотделением, тахикардией (до 100 ударов в 1 мин и более), головокружением, нарушением зрительного восприятия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1:27:54Z</dcterms:created>
  <dc:creator>User</dc:creator>
  <dc:description/>
  <dc:language>en-US</dc:language>
  <cp:lastModifiedBy>Loner-XP</cp:lastModifiedBy>
  <dcterms:modified xsi:type="dcterms:W3CDTF">2013-09-28T18:18:43Z</dcterms:modified>
  <cp:revision>41</cp:revision>
  <dc:subject/>
  <dc:title>Исследование экологической среды жилого помещения </dc:title>
</cp:coreProperties>
</file>