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B03-F362-41B4-A4B0-1428C4C7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A24-0DA7-4152-BE79-EDA936F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227-4530-4A06-BEC6-07FF8C39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936-16C3-44A4-BA84-646CE2BD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DC5B-F701-419F-89EE-C624C7DB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DB83-229E-4AA0-B5DA-7E1F02D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1F7-ADF0-41AE-9944-FCE69CC1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6572-7984-4AE0-B022-B0F2B4A9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C46-859E-49B3-AE9A-53A0F5B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FBA-008C-41B5-81FF-377D664B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120-B62A-4EAD-A057-C9691C4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F2C-A0CA-47C5-8C2B-CDFFD3F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09AF-9625-4639-8709-F00B275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DCB-13F2-4D32-B386-80112A7C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A4A-D860-4EC8-8CF8-2BC09CAF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A9F-0CCF-43D0-965E-EED9CDFA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FE3-5314-4DE9-8B2E-D0C88E97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AE4-46A2-4801-8DDD-1BCDECE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5A5-9CB0-4494-B512-FB40122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188-E63F-4FF3-B254-11F9BFED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93F-1E80-4CDC-B037-6C26128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F16-6A67-4AAA-BFBA-10AD4DB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25A-D6BA-4627-BB70-4EC1BDB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1CA-F9AD-4D6C-A4DC-FB4B84F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9EB0-756B-479C-BF51-489DFA194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118-B802-46D2-8DA0-137B0B8D7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ЭТ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782880" y="5943600"/>
            <a:ext cx="536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езентация выполнена Гребенщиковой Ириной 10Б 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йяр де Шарден (французский теолог и философ) в своем труде «Феномен человека» объединяет традиционную этику с теорией эволю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медицины и биотехнологий привело к быстрому развитию биоэтики как анализа возникающих при принятии медицинских, судебно-юридических и прочих подобных решений этических затруд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проблемы э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этических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колай Гартман (фот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делы э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ое состояние э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ьберт Швейцер (фот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олжение «Современное состояние эт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́ти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(от др. греч. этос, «нрав, обычай») — философское исследование морали и нравств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мин этика иногда употребляется также для обозначения системы моральных и нравственных норм определённой социальной групп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сновные проблемы этик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а критериев добра и з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а смысла жизни и назначения 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а справедли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а долж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164360" y="5084640"/>
            <a:ext cx="8668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ификация этических ценнос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гласно Н. Гартману (немецкий философ-идеалист ), всё разнообразие нравственных ценностей подразделяется на основные и частные. К первым, которые лежат в основе всех остальных, относятся благо и примыкающие к нему ценности благородства, полноты и чистоты. Частные ценности, или ценности-добродетели, подразделены на три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ценности античной мора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— справедливость, мудрость, храбрость, самообладание; сюда же включаются аристотелевы ценности, основанные на принципе серед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ценности «культурного круга христианства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— любовь к ближнему; правдивость и искренность; надежда и верность; доверие и вера; скромность, смирение, дистанция; ценности внешнего обхо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чие ценнос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любовь к дальнему, дарящая добродетель, личная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5904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иколай Гартм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809880" cy="553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178160" cy="55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делы этик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афоло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иональн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ческ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логическ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ка деловых отношений (Этика делового общ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ая э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временное состояние э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7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ость приводит с одной стороны к отрицанию общепринятых нравственных и культурных ценностей (нигилизм), а с другой стороны: понятие добра распространяется на взаимоотношения с природой (биоцентрическая этика) и научные эксперименты (биоэти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ьбертом Швейцером (немецкий и французский теолог (богослов), философ, гуманист, музыкант и врач, лауреат Нобелевской премии мира (1952)) выдвинут принцип благоговения перед жизнью, основанный на этике ненасилия Льва Толстого и Махатмы Ганди. В своей книге «Культура и этика» А. Швейцер проанализировал историю этики и её состояние в XX веке, а также наметил пути её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ьберт Швейц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00600" cy="5238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7749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9:58:59Z</dcterms:created>
  <dc:creator>Светланка</dc:creator>
  <dc:description/>
  <dc:language>en-US</dc:language>
  <cp:lastModifiedBy>Светланка</cp:lastModifiedBy>
  <dcterms:modified xsi:type="dcterms:W3CDTF">2013-09-09T20:48:03Z</dcterms:modified>
  <cp:revision>6</cp:revision>
  <dc:subject/>
  <dc:title>ЭТИКА</dc:title>
</cp:coreProperties>
</file>