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433-D09E-455F-9FEC-2CA36ED9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59A-D983-4CEE-8E03-1BB7ED2B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605-856E-45C4-B6A9-D068D375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585-83BB-4D86-80FD-31158988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525E-A948-42F3-95B7-0933C7D3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ABB2-B91E-440C-AB40-4FA51305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DBDC-FC32-4EB4-90B0-82420569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E7C7-CCB3-48DB-B8EC-59799BB2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8611-3D88-4F09-ACED-406F75B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A2DB-42B6-46B1-886A-CD2AABC9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39C9-66F7-45F1-B5C0-18C9EC29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148-4401-4EE9-B00E-FE83BD0B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70C8-1FD0-4736-82EE-7C64CCEE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D916-0786-4ADA-8960-DDD77F6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394C-645B-46B2-83FB-4FC85FD6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921E-66AC-47A5-A9C2-6F1E5210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55E9-F840-4506-A67E-EAD28AC5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F75A8-AC5A-47A0-81EF-8D4F8407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0783E-FA3D-4932-A34A-C58F043F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3317E-A18E-4EE8-AC2E-51B16591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49B27-2433-4458-919A-A2080A1F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8B907-3E7A-4139-BF6B-AE78CF25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EB4-A5E5-42D7-B6EF-3DFD7C44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DFA5C-FA28-4B97-B97A-043E7491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D8F0D-A346-4152-A136-44DD91C3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E1F76-49E4-4CEE-B11A-707A75EA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A4C67-EFC4-4A35-BBDA-75A5DAC4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9B6C3-EE40-4034-81CD-F812A2C7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0CDFB-261A-4CFF-9761-AE45C4DD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52B1E-DA00-4FBC-A2DB-48575BB2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7D7C3-1E9F-437B-A017-1F52419C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0374B-8E2A-440E-A5CB-404B3DF2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3403E-57E0-46E0-A0EE-743B4B2F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E88-FE8C-4916-B55F-23D8E5EF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0E84AC-EC05-450B-BDB6-F8698D6D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D548D8-B7A7-4E2D-8F77-2E941073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2A2E1-1879-442A-A782-B8C2E56A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ADFDB-52AA-42C2-8664-A432F88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B0220-AD1B-4F74-B954-BF36B25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44250-F094-4B56-BE50-299B5AE5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90281-B7FC-457F-8E71-02F0109C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B3A21-B55E-4F07-9932-7A25CB66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BAF71-C972-4919-80CC-9C127F93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B754F-E231-460F-96E9-16F617FC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D86-CE13-4304-88D4-44A1395D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D771B-86F3-4CCE-9EB5-8A992FDD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70B38-60FE-4422-A0FA-AEB60BE7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8065F-E40A-477B-A268-D1A9E4BE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08B97-5805-4E87-9D1A-831502A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3F99C-C59F-4EE9-BF39-9E9B0AE3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2EE4F-E5B6-4A01-AAC4-6D3A964D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FD640-AB51-4EA1-8472-74585351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84E61-295E-4B99-8EEF-5468E189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D8417-09FF-43E7-9314-563C1D09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C9AFC-F900-4FA1-8E9D-6718ECDC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80E-0B8D-4117-A78D-44C7C5C8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E4661-A304-4F32-A7A4-24971FD9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A70CB-A3B1-4D3D-8735-8F5943BC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09783-F56B-4EB0-8F12-CA35563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11A2F-1EAB-4DC7-A764-E85D7310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104E2-039D-421E-A13F-AD7DA228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0314B-C484-4DF2-960C-9D2220F4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28B78-FFAE-46BC-B08B-B2FFAD1E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9EDB5-4C99-4849-A69B-3B7447B3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E0229-724F-4C01-9818-0FD8D91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9DE57-0679-4F08-8581-7854E2E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BD2-0555-4673-A53D-0BCE514A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F1B13-ADFC-4346-8C4D-2C3E9B63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A584-5F68-4E6A-830C-5F7B5B46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7BED-691A-4F25-BD29-D893C17A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18651-5159-436D-80D5-1CF3BB0A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42165-3001-4ED8-84DE-138C4209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C6D00-3FEC-4295-BE63-92A49D02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C64C1-9625-41C5-AAAE-A0DD492F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8417C-44AC-487E-A658-F9E3630B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8DDE4-2168-4F69-837C-027FEADE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59B7C4-E7E7-4FA1-B1CB-2444386E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84B-D983-460C-95A2-F6573280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A4F08-C740-4B59-BC07-07F1C6A2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162BDD-7E6B-4630-8830-2401395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54BEC-0219-4592-86B5-E7317107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49A5E-FD72-4EB7-93EB-0B9359FA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04D71-EF52-4237-9923-C7705A4D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402A5-04CA-42A7-AE0F-8F951397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58BBE-E3E8-47E8-B075-905DC63A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38F7B-2246-438F-B477-DDF049B9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41DF5-E00B-4265-8475-184BD352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30B6-64F2-4E6C-9AD9-C758A623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E3E-58FB-42BB-BEB2-813CD1A9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2ACC2-2F8B-4A3E-B463-501B9BAE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64703-A7B4-4293-B6D7-E220454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DFC3F-F8B3-4729-B4C7-55EFBE0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F86B0-ABCF-4A8B-979D-A415B7AD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CC707-2E27-4503-85AB-A54FDC5F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664B1-9144-470F-9904-2CE70599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61568-9818-49AF-81B1-85D00F68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D93D-DDEF-42D3-9431-5EBA4F9BA02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3B06-7644-47F7-9403-B12ED4AEB921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9D7-08CB-4C2A-ACDE-04820F9C9734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F43A-74B1-4CDC-990C-2E51163ED8E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212C-C430-4846-A33F-1B4B556FA0D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8006-66A5-4D77-B74E-3F8359C3F8B4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A65B-D58E-4594-A95A-05D6302E82EB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DF56-5306-4543-AFC7-BEEDF076063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ihi-rus.ru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ФИЛОСОФСКАЯ ЛИРИКА СЕРГЕЯ ЕСЕНИНА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«О красном вечере задумалась дорога»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«Не жалею, не зову, не плачу»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«Отговорила роща золотая»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«Мы теперь уходим понемногу»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«Пушкину»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«Гори, звезда моя, не падай»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«Синий туман. Снеговое раздолье»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. Есенин «О красном вечере задумалась дорога»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красном вечере задумалась дорог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ы рябин туманней глуби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-старуха челюстью порог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ет пахучий мякиш тишин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ний холод ласково и крот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дется мглой к овсяному двору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возь синь стекла желтоволосый от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чит глаза на галочью игр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яв трубу, сверкает по пове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 зеленая из розовой пе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о-то нет, и тонкогубый вете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ком-то шепчет, сгинувшем в ноч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у-то пятками уже не мять по рощ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рбленый лист и золото трав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гучий вздох, ныряя звоном тощи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ует клюв нахохленной сов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гуще хмарь, в хлеву покой и дрем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а белая узорит скользкий ров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жно охает ячменная солом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сая с губ кивающих к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. Есенин «Не жалею, не зову, не плачу»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алею, не зову, не плачу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ройдет, как с белых яблонь ды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яданья золотом охваченн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не буду больше молоды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теперь не так уж будешь бить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, тронутое холодко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рана березового ситц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манит шляться босико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 бродяжий! ты все реже, ре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евеливаешь пламень у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, моя утраченная свеже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йство глаз и половодье чувст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теперь скупее стал в желанья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моя, иль ты приснилась мн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но я весенней гулкой ранью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какал на розовом коне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ы, все мы в этом мире тленны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хо льется с кленов листьев медь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же ты вовек благословен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ишло процвесть и умере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. Есенин «Отговорила роща золотая»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говорила роща золотая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ерезовым, веселым языком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журавли, печально пролетая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ж не жалеют больше ни о ком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го жалеть? Ведь каждый в мире странник -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йдет, зайдет и вновь покинет дом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 всех ушедших грезит конопляник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 широким месяцем над голубым прудом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ою один среди равнины голой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журавлей относит ветром в даль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Я полон дум о юности веселой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о ничего в прошедшем мне не жаль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е жаль мне лет, растраченных напрасно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е жаль души сиреневую цветь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 саду горит костер рябины красной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о никого не может он согреть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е обгорят рябиновые кисти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 желтизны не пропадет трава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ак дерево роняет тихо листья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ак я роняю грустные слова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если время, ветром разметая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гребет их все в один ненужный ком..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кажите так... что роща золота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говорила милым языком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192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. Есенин «Мы теперь уходим понемногу»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ы теперь уходим понемногу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 ту страну, где тишь и благодать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ожет быть, и скоро мне в дорогу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ренные пожитки собирать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илые березовые чащи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ы, земля! И вы, равнин пески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еред этим сонмом уходящим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Я не в силах скрыть своей тоски.</a:t>
            </a:r>
            <a:br>
              <a:rPr sz="900"/>
            </a:br>
            <a:br>
              <a:rPr sz="900"/>
            </a:br>
            <a:r>
              <a:rPr b="0" lang="ru-RU" sz="9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Слишком я любил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на этом свете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се, что душу облекает в плоть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ир осинам, что, раскинув ветви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гляделись в розовую водь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ного дум я в тишине продумал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ного песен про себя сложил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на этой на земле угрюмой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частлив тем, что я дышал и жил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частлив тем, что целовал я женщин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ял цветы, валялся на траве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зверье, как братьев наших меньших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икогда не бил по голове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наю я, что не цветут там чащи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е звенит лебяжьей шеей рожь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того пред сонмом уходящим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Я всегда испытываю дрожь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наю я, что в той стране не будет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тих нив, златящихся во мгле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того и дороги мне люди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Что живут со мною на земле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192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. Есенин «Пушкину»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чтая о могучем дар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го, кто русской стал судьб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ою я на Тверском бульвар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ою и говорю с тоб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ондинистый, почти белес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легендах ставший как тума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 Александр! Ты был повес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я сегодня хулиган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 эти милые забав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затемнили образ тв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в бронзе выкованной слав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ясешь ты гордой голов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 я стою, как пред причастье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говорю в ответ теб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 умер бы сейчас от счасть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одобленный такой судьбе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, обреченный на гонень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ще я долго буду петь..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б и мое степное пень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мело бронзой прозвене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9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.Есенин «Гори, звезда моя, не падай»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ори, звезда моя, не падай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оняй холодные лучи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едь за кладбищенской оградой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ивое сердце не стучит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ы светишь августом и рожью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наполняешь тишь полей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акой рыдалистою дрожью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еотлетевших журавлей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, голову вздымая выше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е то за рощей - за холмом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Я снова чью-то песню слышу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 отчий край и отчий дом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золотеющая осень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 березах убавляя сок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всех, кого любил и бросил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Листвою плачет на песок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Я знаю, знаю. Скоро, скоро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и по моей, ни чьей вине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од низким траурным забором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Лежать придется так же мне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огаснет ласковое пламя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сердце превратится в прах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рузья поставят серый камень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 веселой надписью в стихах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о, погребальной грусти внемля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Я для себя сложил бы так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Любил он родину и землю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ак любит пьяница каба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192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. Есенин «Синий туман. Снеговое раздолье»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иний туман. Снеговое раздолье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онкий лимонный лунный свет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рдцу приятно с тихою болью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Что-нибудь вспомнить из ранних лет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нег у крыльца как песок зыбучий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от при такой же луне без слов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Шапку из кошки на лоб нахлобучив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айно покинул я отчий кров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нова вернулся я в край родимый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то меня помнит? Кто позабыл?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устно стою я, как странник гонимый,-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ый хозяин своей избы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олча я комкаю новую шапку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е по душе мне соболий мех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спомнил я дедушку, вспомнил я бабку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спомнил кладбищенский рыхлый снег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се успокоились, все там будем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ак в этой жизни радей не радей,-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от почему так тянусь я к людям,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от почему так люблю людей.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от отчего я чуть-чуть не заплакал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, улыбаясь, душой погас,-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ту избу на крыльце с собакой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ловно я вижу в последний раз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192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6:52:35Z</dcterms:created>
  <dc:creator>Лена</dc:creator>
  <dc:description/>
  <dc:language>en-US</dc:language>
  <cp:lastModifiedBy>Лена</cp:lastModifiedBy>
  <dcterms:modified xsi:type="dcterms:W3CDTF">2012-12-02T16:48:41Z</dcterms:modified>
  <cp:revision>5</cp:revision>
  <dc:subject/>
  <dc:title>Философская лирика Сергея Есенина</dc:title>
</cp:coreProperties>
</file>