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128-5F59-4558-90FA-8D707152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C30-E184-451A-9CB0-7DE2443E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AB1-3B32-434A-9F88-681455B6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19A-50DC-4791-A75D-27D2FADC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D280-4F7C-4D40-8470-A2E92BCE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A2C9-F2BE-4AE5-B0C1-77A72A76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A9A0-008C-486A-8E6D-FE89DCAB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9526-AB92-45B7-8796-B435646A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1D78-110E-4E59-B50B-EA46FE4D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22E0-217D-4F32-B7C3-BAB1B5AE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651B-4B72-47C6-B1B5-7AA41784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A91-9C7E-4E35-8511-AB526A8A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B91B-449F-41B3-A6EE-37229F36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4AF0-7145-4374-99C2-E3E237D9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5238-F4FC-4BD7-B2FF-AD74729D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F0DA-7618-49E1-AD21-B3A2252D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855F-A77D-44CE-9764-A7990459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510-CFE0-485C-AC45-8753704B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A9A-06BA-4393-98B3-3BBD58FA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798-6E1C-44CF-89B6-01E49C13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BC8-12AC-4064-8B42-EE3F2C00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D33-ACAE-4B3B-BDD8-E50E2D0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FC8-C2F7-4727-AE83-53C5DBB2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CB5-038B-456D-9EAC-4735CA7B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3A41-CB0B-4963-9177-97BB8743B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B147-E9B8-46CD-A727-E0D4ED3E0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adoved.com/uploads/posts/big/1282826228_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91;&#1089;&#1090;&#1072;&#1088;&#1085;&#1080;&#1082;" TargetMode="External"/><Relationship Id="rId2" Type="http://schemas.openxmlformats.org/officeDocument/2006/relationships/hyperlink" Target="http://ru.wikipedia.org/wiki/&#1041;&#1080;&#1086;&#1083;&#1086;&#1075;&#1080;&#1095;&#1077;&#1089;&#1082;&#1080;&#1081;_&#1074;&#1080;&#1076;" TargetMode="External"/><Relationship Id="rId3" Type="http://schemas.openxmlformats.org/officeDocument/2006/relationships/hyperlink" Target="http://ru.wikipedia.org/wiki/&#1050;&#1072;&#1083;&#1080;&#1085;&#1072;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kayseriliyim.net/kayseri/yemekler/icecekler/foto/buyuk/Gilaboru%20-1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0;&#1089;&#1090;" TargetMode="External"/><Relationship Id="rId2" Type="http://schemas.openxmlformats.org/officeDocument/2006/relationships/hyperlink" Target="http://ru.wikipedia.org/wiki/&#1062;&#1074;&#1077;&#1090;&#1086;&#1082;" TargetMode="External"/><Relationship Id="rId3" Type="http://schemas.openxmlformats.org/officeDocument/2006/relationships/hyperlink" Target="http://ru.wikipedia.org/wiki/&#1047;&#1086;&#1085;&#1090;&#1080;&#1082;_(&#1089;&#1086;&#1094;&#1074;&#1077;&#1090;&#1080;&#1077;)" TargetMode="External"/><Relationship Id="rId4" Type="http://schemas.openxmlformats.org/officeDocument/2006/relationships/hyperlink" Target="http://ru.wikipedia.org/wiki/&#1057;&#1086;&#1094;&#1074;&#1077;&#1090;&#1080;&#1077;" TargetMode="External"/><Relationship Id="rId5" Type="http://schemas.openxmlformats.org/officeDocument/2006/relationships/hyperlink" Target="http://ru.wikipedia.org/wiki/&#1055;&#1083;&#1086;&#1076;" TargetMode="External"/><Relationship Id="rId6" Type="http://schemas.openxmlformats.org/officeDocument/2006/relationships/hyperlink" Target="http://ru.wikipedia.org/wiki/&#1050;&#1086;&#1089;&#1090;&#1103;&#1085;&#1082;&#1072;" TargetMode="External"/><Relationship Id="rId7" Type="http://schemas.openxmlformats.org/officeDocument/2006/relationships/hyperlink" Target="http://ru.wikipedia.org/wiki/&#1043;&#1086;&#1088;&#1077;&#1095;&#1100;" TargetMode="External"/><Relationship Id="rId8" Type="http://schemas.openxmlformats.org/officeDocument/2006/relationships/hyperlink" Target="http://travolechenee.ru/wp-content/uploads/2011/02/vitex.jpg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89;&#1091;&#1093;&#1072;" TargetMode="External"/><Relationship Id="rId2" Type="http://schemas.openxmlformats.org/officeDocument/2006/relationships/hyperlink" Target="http://ru.wikipedia.org/wiki/&#1059;&#1084;&#1077;&#1088;&#1077;&#1085;&#1085;&#1099;&#1081;_&#1082;&#1083;&#1080;&#1084;&#1072;&#1090;" TargetMode="External"/><Relationship Id="rId3" Type="http://schemas.openxmlformats.org/officeDocument/2006/relationships/hyperlink" Target="http://ru.wikipedia.org/wiki/&#1045;&#1074;&#1088;&#1086;&#1087;&#1072;" TargetMode="External"/><Relationship Id="rId4" Type="http://schemas.openxmlformats.org/officeDocument/2006/relationships/hyperlink" Target="http://ru.wikipedia.org/wiki/&#1040;&#1079;&#1080;&#1103;" TargetMode="External"/><Relationship Id="rId5" Type="http://schemas.openxmlformats.org/officeDocument/2006/relationships/hyperlink" Target="http://ru.wikipedia.org/wiki/&#1057;&#1090;&#1077;&#1087;&#1100;" TargetMode="External"/><Relationship Id="rId6" Type="http://schemas.openxmlformats.org/officeDocument/2006/relationships/hyperlink" Target="http://ru.wikipedia.org/wiki/&#1059;&#1089;&#1090;&#1100;&#1077;" TargetMode="External"/><Relationship Id="rId7" Type="http://schemas.openxmlformats.org/officeDocument/2006/relationships/hyperlink" Target="http://ru.wikipedia.org/wiki/&#1051;&#1077;&#1089;" TargetMode="External"/><Relationship Id="rId8" Type="http://schemas.openxmlformats.org/officeDocument/2006/relationships/hyperlink" Target="http://ru.wikipedia.org/wiki/&#1055;&#1086;&#1095;&#1074;&#1072;" TargetMode="External"/><Relationship Id="rId9" Type="http://schemas.openxmlformats.org/officeDocument/2006/relationships/hyperlink" Target="http://ru.wikipedia.org/wiki/&#1042;&#1086;&#1076;&#1086;&#1105;&#1084;" TargetMode="External"/><Relationship Id="rId10" Type="http://schemas.openxmlformats.org/officeDocument/2006/relationships/hyperlink" Target="http://ru.wikipedia.org/wiki/&#1055;&#1086;&#1083;&#1103;&#1085;&#1072;" TargetMode="External"/><Relationship Id="rId11" Type="http://schemas.openxmlformats.org/officeDocument/2006/relationships/hyperlink" Target="http://ru.wikipedia.org/wiki/&#1054;&#1087;&#1091;&#1096;&#1082;&#1072;" TargetMode="External"/><Relationship Id="rId12" Type="http://schemas.openxmlformats.org/officeDocument/2006/relationships/hyperlink" Target="http://ru.wikipedia.org/wiki/&#1050;&#1072;&#1074;&#1082;&#1072;&#1079;" TargetMode="External"/><Relationship Id="rId13" Type="http://schemas.openxmlformats.org/officeDocument/2006/relationships/hyperlink" Target="http://ru.wikipedia.org/wiki/&#1050;&#1088;&#1099;&#1084;" TargetMode="External"/><Relationship Id="rId14" Type="http://schemas.openxmlformats.org/officeDocument/2006/relationships/hyperlink" Target="http://fitoapteka.org/images/foto/86/6.jpg" TargetMode="External"/><Relationship Id="rId15" Type="http://schemas.openxmlformats.org/officeDocument/2006/relationships/image" Target="../media/image6.jpeg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76;" TargetMode="External"/><Relationship Id="rId2" Type="http://schemas.openxmlformats.org/officeDocument/2006/relationships/hyperlink" Target="http://ru.wikipedia.org/wiki/&#1055;&#1072;&#1088;&#1082;" TargetMode="External"/><Relationship Id="rId3" Type="http://schemas.openxmlformats.org/officeDocument/2006/relationships/hyperlink" Target="http://ru.wikipedia.org/wiki/&#1044;&#1077;&#1082;&#1086;&#1088;&#1072;&#1090;&#1080;&#1074;&#1085;&#1086;&#1077;_&#1088;&#1072;&#1089;&#1090;&#1077;&#1085;&#1080;&#1077;" TargetMode="External"/><Relationship Id="rId4" Type="http://schemas.openxmlformats.org/officeDocument/2006/relationships/hyperlink" Target="http://ru.wikipedia.org/wiki/&#1053;&#1077;&#1082;&#1090;&#1072;&#1088;_(&#1089;&#1072;&#1093;&#1072;&#1088;&#1080;&#1089;&#1090;&#1099;&#1081;_&#1089;&#1086;&#1082;)" TargetMode="External"/><Relationship Id="rId5" Type="http://schemas.openxmlformats.org/officeDocument/2006/relationships/hyperlink" Target="http://ru.wikipedia.org/wiki/&#1055;&#1099;&#1083;&#1100;&#1094;&#1072;" TargetMode="External"/><Relationship Id="rId6" Type="http://schemas.openxmlformats.org/officeDocument/2006/relationships/hyperlink" Target="http://ru.wikipedia.org/w/index.php?title=&#1055;&#1086;&#1095;&#1074;&#1086;&#1079;&#1072;&#1097;&#1080;&#1090;&#1085;&#1086;&#1077;_&#1088;&#1072;&#1089;&#1090;&#1077;&#1085;&#1080;&#1077;&amp;action=edit&amp;redlink=1" TargetMode="External"/><Relationship Id="rId7" Type="http://schemas.openxmlformats.org/officeDocument/2006/relationships/hyperlink" Target="http://www.agenda.ro/pictures/diverse-37/viburnum_05_b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82;_(&#1085;&#1072;&#1087;&#1080;&#1090;&#1086;&#1082;)" TargetMode="External"/><Relationship Id="rId2" Type="http://schemas.openxmlformats.org/officeDocument/2006/relationships/hyperlink" Target="http://ru.wikipedia.org/wiki/&#1053;&#1072;&#1083;&#1080;&#1074;&#1082;&#1072;" TargetMode="External"/><Relationship Id="rId3" Type="http://schemas.openxmlformats.org/officeDocument/2006/relationships/hyperlink" Target="http://ru.wikipedia.org/wiki/&#1053;&#1072;&#1089;&#1090;&#1086;&#1081;&#1082;&#1072;_(&#1072;&#1083;&#1082;&#1086;&#1075;&#1086;&#1083;&#1100;&#1085;&#1099;&#1081;_&#1085;&#1072;&#1087;&#1080;&#1090;&#1086;&#1082;)" TargetMode="External"/><Relationship Id="rId4" Type="http://schemas.openxmlformats.org/officeDocument/2006/relationships/hyperlink" Target="http://ru.wikipedia.org/wiki/&#1042;&#1080;&#1085;&#1086;" TargetMode="External"/><Relationship Id="rId5" Type="http://schemas.openxmlformats.org/officeDocument/2006/relationships/hyperlink" Target="http://ru.wikipedia.org/wiki/&#1050;&#1080;&#1089;&#1077;&#1083;&#1100;" TargetMode="External"/><Relationship Id="rId6" Type="http://schemas.openxmlformats.org/officeDocument/2006/relationships/hyperlink" Target="http://ru.wikipedia.org/wiki/&#1055;&#1080;&#1088;&#1086;&#1075;" TargetMode="External"/><Relationship Id="rId7" Type="http://schemas.openxmlformats.org/officeDocument/2006/relationships/hyperlink" Target="http://ru.wikipedia.org/wiki/&#1055;&#1077;&#1082;&#1090;&#1080;&#1085;&#1086;&#1074;&#1099;&#1077;_&#1074;&#1077;&#1097;&#1077;&#1089;&#1090;&#1074;&#1072;" TargetMode="External"/><Relationship Id="rId8" Type="http://schemas.openxmlformats.org/officeDocument/2006/relationships/hyperlink" Target="http://ru.wikipedia.org/wiki/&#1052;&#1072;&#1088;&#1084;&#1077;&#1083;&#1072;&#1076;" TargetMode="External"/><Relationship Id="rId9" Type="http://schemas.openxmlformats.org/officeDocument/2006/relationships/hyperlink" Target="http://ru.wikipedia.org/wiki/&#1059;&#1082;&#1089;&#1091;&#1089;" TargetMode="External"/><Relationship Id="rId10" Type="http://schemas.openxmlformats.org/officeDocument/2006/relationships/hyperlink" Target="http://www.greeninfo.ru/img/catalog_gallery/t_1984_3_1275971775_big_rsz.jpg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www.good-cook.ru/i/thbn/b/d/bd974a3977a2e3d63d155b11787e9f41.jpg" TargetMode="Externa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88;&#1086;&#1076;&#1085;&#1072;&#1103;_&#1084;&#1077;&#1076;&#1080;&#1094;&#1080;&#1085;&#1072;" TargetMode="External"/><Relationship Id="rId2" Type="http://schemas.openxmlformats.org/officeDocument/2006/relationships/hyperlink" Target="http://ru.wikipedia.org/wiki/&#1050;&#1086;&#1088;&#1072;" TargetMode="External"/><Relationship Id="rId3" Type="http://schemas.openxmlformats.org/officeDocument/2006/relationships/hyperlink" Target="http://ru.wikipedia.org/wiki/&#1053;&#1072;&#1089;&#1090;&#1086;&#1081;_(&#1083;&#1077;&#1082;&#1072;&#1088;&#1089;&#1090;&#1074;&#1077;&#1085;&#1085;&#1072;&#1103;_&#1092;&#1086;&#1088;&#1084;&#1072;)" TargetMode="External"/><Relationship Id="rId4" Type="http://schemas.openxmlformats.org/officeDocument/2006/relationships/hyperlink" Target="http://ru.wikipedia.org/wiki/&#1044;&#1080;&#1091;&#1088;&#1077;&#1090;&#1080;&#1082;&#1080;" TargetMode="External"/><Relationship Id="rId5" Type="http://schemas.openxmlformats.org/officeDocument/2006/relationships/hyperlink" Target="http://www.povarenok.ru/images/all/222599.jpg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алина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Картинка 21 из 61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57360"/>
            <a:ext cx="5472000" cy="4375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826920" y="404640"/>
            <a:ext cx="6697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л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лина обыкновенн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лина красна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 листопадный 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кустарни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вид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рода 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Калин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Картинка 7 из 616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2637000"/>
            <a:ext cx="5077080" cy="3800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Картинка 90 из 5933"/>
          <p:cNvPicPr/>
          <p:nvPr/>
        </p:nvPicPr>
        <p:blipFill>
          <a:blip r:embed="rId7"/>
          <a:stretch/>
        </p:blipFill>
        <p:spPr>
          <a:xfrm>
            <a:off x="539640" y="3068640"/>
            <a:ext cx="40672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лина – это кустарник или дерево высотой 1,5-4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Листь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линой 5—10 см, трёх-пятилопастные, сверху тёмно-зелёные, снизу серовато-зелёные, слегка морщинист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Цве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ятилепестные, белые или бело-розовые, собраны в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зонтиковид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соцвет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Соцветия расположены на верхушках молодых ветвей. Цветёт в конце весны — начале лета в течение 10—14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Плод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овальная или шаровидная красная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костян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 крупной сплюснутой косточкой. Сочные, но имеют горьковатый вяжущий вкус, после первых морозов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гореч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опадает или становится меньше. Плоды созревают в августе—сентяб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Картинка 22 из 616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404640"/>
            <a:ext cx="4178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лина нетребовательна к условиям, легко переносит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засух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и морозы, но, наиболее часто встречается в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умеренном климат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Европ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Ази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 В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степных районах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тёт обычно в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устьях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рек, в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лесной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зоне предпочитает увлажнённые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почв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встречается как на берегах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водоём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так и на лесных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полянах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опушках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 Встречается также и в горных лесах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Кавказ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Крым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Картинка 37 из 6280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995640" y="0"/>
            <a:ext cx="4681800" cy="3960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Картинка 35 из 5845"/>
          <p:cNvPicPr/>
          <p:nvPr/>
        </p:nvPicPr>
        <p:blipFill>
          <a:blip r:embed="rId16"/>
          <a:stretch/>
        </p:blipFill>
        <p:spPr>
          <a:xfrm>
            <a:off x="6659640" y="3429000"/>
            <a:ext cx="22701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859280" y="54936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лину выращивают в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садах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парках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как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декоративное растен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лина почти не повреждается промышленными газами и не страдает от ды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лоды дают красную краску, кора — чёрно-зелёную краску для шер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течение полутора месяцев (начиная с июня) даёт медоносным пчёлам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нектар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пыльцу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нится как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почвозащитное растен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Картинка 28 из 628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1557360"/>
            <a:ext cx="47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475920"/>
            <a:ext cx="403848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оды имеют своеобразный ароматический букет и горький привкус, который после заморозки пропада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годы используются для приготовления </a:t>
            </a: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сок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наливок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настоек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вин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киселей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. Из них готовят также начинку для </a:t>
            </a: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пирогов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приправы к мясным блюд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лагодаря высокому содержанию </a:t>
            </a: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пектинов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плоды используют для приготовления </a:t>
            </a: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мармелад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 сока делают </a:t>
            </a: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уксус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ена обладают тонизирующим действием, иногда их используют как заменитель коф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Картинка 69 из 628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64000" y="189000"/>
            <a:ext cx="3495960" cy="3809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Картинка 5 из 78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140360" y="3716280"/>
            <a:ext cx="385272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2920" y="620280"/>
            <a:ext cx="40388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лина широко используется в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народной медицине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, причём не только ягоды, но и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кор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, а также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насто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цветков. Отвар коры уменьшает и останавливает внутренние кровотечения, обладает успокаивающим действ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лоды влияют на деятельность сердца, усиливают сокращение его мышцы и обладают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мочегонным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, желчегонным, противовоспалительным и ранозаживляющими свойствами. Ягоды калины входят в состав витаминных сб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Картинка 7 из 84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620640"/>
            <a:ext cx="2885760" cy="2819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Картинка 53 из 849"/>
          <p:cNvPicPr/>
          <p:nvPr/>
        </p:nvPicPr>
        <p:blipFill>
          <a:blip r:embed="rId7"/>
          <a:stretch/>
        </p:blipFill>
        <p:spPr>
          <a:xfrm>
            <a:off x="1116000" y="3213000"/>
            <a:ext cx="3708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2:59:31Z</dcterms:created>
  <dc:creator>Светлана</dc:creator>
  <dc:description/>
  <dc:language>en-US</dc:language>
  <cp:lastModifiedBy>Светлана</cp:lastModifiedBy>
  <dcterms:modified xsi:type="dcterms:W3CDTF">2012-02-20T13:30:24Z</dcterms:modified>
  <cp:revision>2</cp:revision>
  <dc:subject/>
  <dc:title>Калина </dc:title>
</cp:coreProperties>
</file>