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CC1F-D297-4747-BDF5-F93C2FED47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8AA5-969A-485D-A0DD-24369CB391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132-F73A-480C-9B49-42FEE7EB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7E8-C36A-427F-A674-6FB46E09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C05-EA30-46A6-AC33-B2DA1B9A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0C7-1CAB-4700-8848-07760E29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6692D-A6AE-458A-AFA9-8FE59758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D8F19-36C4-4E86-8C1C-9D4E3BD5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7561D-311E-4770-83D7-5A04CC2A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3C9BF-D14D-470B-B527-856F598E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E02FC-CBC2-46EE-8050-D3B826C9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BD335-82D2-4E8E-A1FF-650B6010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94E7A-1C5E-425D-A6C3-29D4A798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600-ABA7-41A3-B6FE-55635879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953F0-21B0-4ED9-A1E1-6822261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0BE40-2887-4163-A5E0-0B1D7CA6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3161A-CA6B-4166-AD6A-12ABEF0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34AE0-2ED2-4BBA-85D6-37EBCF23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237C5-B1DA-4CA8-939A-2590FC91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D35-F11E-42D0-B510-B9D1DDA1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B78-86E6-4571-A84D-2E9CF3F4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1D3-3B6D-4BDA-BF43-4FBE18EC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5B5-A69C-4A02-A9D7-D33BE147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1FD-2C83-422D-B504-2F5D4250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626-B293-48E6-8878-E2C51771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E01-67AF-4A4F-BC19-D255C577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0D80-2C5A-44C7-9C47-E7DF28DD04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EFA4-BB76-4622-B75C-FD48AE0E77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600560" y="44953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3e3ff"/>
                </a:solidFill>
                <a:latin typeface="Monotype Corsiva"/>
              </a:rPr>
              <a:t>Лошади 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9" descr="a_52e10a"/>
          <p:cNvPicPr/>
          <p:nvPr/>
        </p:nvPicPr>
        <p:blipFill>
          <a:blip r:embed="rId1"/>
          <a:stretch/>
        </p:blipFill>
        <p:spPr>
          <a:xfrm>
            <a:off x="2952720" y="0"/>
            <a:ext cx="6191280" cy="5114880"/>
          </a:xfrm>
          <a:prstGeom prst="rect">
            <a:avLst/>
          </a:prstGeom>
          <a:ln w="0">
            <a:noFill/>
          </a:ln>
        </p:spPr>
      </p:pic>
      <p:pic>
        <p:nvPicPr>
          <p:cNvPr id="131" name="13_-_Hans_Zimmer_-_The_Long_Road_Back.mp3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038480" y="5181480"/>
            <a:ext cx="48006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одготовила Сафронова Алена  3 «В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ОУ СОШ №134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Monotype Corsiva"/>
              </a:rPr>
              <a:t>Арабский скакун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4" descr="voronoy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Monotype Corsiva"/>
              </a:rPr>
              <a:t>Ахалтекинская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Picture 4" descr="Ахалтекинская - Пенджире"/>
          <p:cNvPicPr/>
          <p:nvPr/>
        </p:nvPicPr>
        <p:blipFill>
          <a:blip r:embed="rId1"/>
          <a:stretch/>
        </p:blipFill>
        <p:spPr>
          <a:xfrm>
            <a:off x="1295280" y="990720"/>
            <a:ext cx="6608880" cy="4952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Monotype Corsiva"/>
              </a:rPr>
              <a:t>Бельгийский тяжеловоз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Picture 4" descr="бельгийская теплокровная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45766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Monotype Corsiva"/>
              </a:rPr>
              <a:t>Ганноверская</a:t>
            </a: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4" descr="ганновер2"/>
          <p:cNvPicPr/>
          <p:nvPr/>
        </p:nvPicPr>
        <p:blipFill>
          <a:blip r:embed="rId1"/>
          <a:stretch/>
        </p:blipFill>
        <p:spPr>
          <a:xfrm>
            <a:off x="909720" y="1143000"/>
            <a:ext cx="7091280" cy="4724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3733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e3e3ff"/>
                </a:solidFill>
                <a:latin typeface="Monotype Corsiva"/>
              </a:rPr>
              <a:t>Американская миниатюрная лошадь (пони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7" descr="испанский жеребец"/>
          <p:cNvPicPr/>
          <p:nvPr/>
        </p:nvPicPr>
        <p:blipFill>
          <a:blip r:embed="rId1"/>
          <a:stretch/>
        </p:blipFill>
        <p:spPr>
          <a:xfrm>
            <a:off x="5410080" y="1219320"/>
            <a:ext cx="3349800" cy="5029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05520" y="2286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панский жереб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пони"/>
          <p:cNvPicPr/>
          <p:nvPr/>
        </p:nvPicPr>
        <p:blipFill>
          <a:blip r:embed="rId2"/>
          <a:stretch/>
        </p:blipFill>
        <p:spPr>
          <a:xfrm>
            <a:off x="304920" y="2057400"/>
            <a:ext cx="4495680" cy="3049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Monotype Corsiva"/>
              </a:rPr>
              <a:t>Фризская пород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6" name="Picture 5" descr="фриз 2"/>
          <p:cNvPicPr/>
          <p:nvPr/>
        </p:nvPicPr>
        <p:blipFill>
          <a:blip r:embed="rId1"/>
          <a:stretch/>
        </p:blipFill>
        <p:spPr>
          <a:xfrm>
            <a:off x="1676520" y="914400"/>
            <a:ext cx="6019560" cy="5435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4419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ПАСИБО  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НИМАНИЕ 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1267795302678"/>
          <p:cNvPicPr/>
          <p:nvPr/>
        </p:nvPicPr>
        <p:blipFill>
          <a:blip r:embed="rId1"/>
          <a:stretch/>
        </p:blipFill>
        <p:spPr>
          <a:xfrm>
            <a:off x="4876920" y="457200"/>
            <a:ext cx="4267080" cy="5524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Лошадь очень красивое животное! Она - символ свободы,  дружбы, приключений и отва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63870367_6"/>
          <p:cNvPicPr/>
          <p:nvPr/>
        </p:nvPicPr>
        <p:blipFill>
          <a:blip r:embed="rId1"/>
          <a:stretch/>
        </p:blipFill>
        <p:spPr>
          <a:xfrm>
            <a:off x="2057400" y="13716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135" name="13_-_Hans_Zimmer_-_The_Long_Road_Back.mp3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3022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3657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от уже 6000 лет лошади – спутники человека. И пони, и гордые скаковые лошади – потомки нескольких диких видов лошадей, которых, люди приручили где-то в Средней Азии или Монголии. С тех  пор лошадь стала человеку помощником в его трудах, верным другом и предметом восхищения.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5" descr="63870784_211.jpg"/>
          <p:cNvPicPr/>
          <p:nvPr/>
        </p:nvPicPr>
        <p:blipFill>
          <a:blip r:embed="rId1"/>
          <a:stretch/>
        </p:blipFill>
        <p:spPr>
          <a:xfrm>
            <a:off x="3751200" y="1066680"/>
            <a:ext cx="539280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прабабушка лошадок"/>
          <p:cNvPicPr/>
          <p:nvPr/>
        </p:nvPicPr>
        <p:blipFill>
          <a:blip r:embed="rId1"/>
          <a:stretch/>
        </p:blipFill>
        <p:spPr>
          <a:xfrm>
            <a:off x="1447920" y="533520"/>
            <a:ext cx="6019560" cy="45147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120" y="5367240"/>
            <a:ext cx="75438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а этом рисунке прабабушка современной лоша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Лошади как - будто созданы для быстрого бега. Этой цели служат и сильные ноги, и крепкие копы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араб"/>
          <p:cNvPicPr/>
          <p:nvPr/>
        </p:nvPicPr>
        <p:blipFill>
          <a:blip r:embed="rId1"/>
          <a:stretch/>
        </p:blipFill>
        <p:spPr>
          <a:xfrm>
            <a:off x="1600200" y="1371600"/>
            <a:ext cx="5791320" cy="4619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Monotype Corsiva"/>
              </a:rPr>
              <a:t>Лошадь Пржевальского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8195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з всех диких лошадей сейчас сохранились только лошади Пржевальского. Их на всей планете осталось около 700. Они содержатся в заповедниках и национальных пар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x_470ad933"/>
          <p:cNvPicPr/>
          <p:nvPr/>
        </p:nvPicPr>
        <p:blipFill>
          <a:blip r:embed="rId1"/>
          <a:stretch/>
        </p:blipFill>
        <p:spPr>
          <a:xfrm>
            <a:off x="3008160" y="1523880"/>
            <a:ext cx="6135840" cy="4040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Monotype Corsiva"/>
              </a:rPr>
              <a:t>Мустанги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5562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устанг — одичавшая домашняя лошадь. Мустанги являются потомками лошадей, которых привезли в Америку колонисты из Европы в 16 ве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огда человек начал обрабатывать земли прерий, он изгнал оттуда мустангов, истребляя их тысяч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1961971_f520"/>
          <p:cNvPicPr/>
          <p:nvPr/>
        </p:nvPicPr>
        <p:blipFill>
          <a:blip r:embed="rId1"/>
          <a:stretch/>
        </p:blipFill>
        <p:spPr>
          <a:xfrm>
            <a:off x="5562720" y="838080"/>
            <a:ext cx="3268440" cy="5762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Monotype Corsiva"/>
              </a:rPr>
              <a:t>Брамби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Брамби - маленькая дикая лошадь, обитающая в малонаселенных районах Австралии. Это потомок домашней лошади, привезённой на континент первыми поселенцами. В сложных условиях окружающей среды, выжили только самые выносливые и сильные лошад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55110729[1]"/>
          <p:cNvPicPr/>
          <p:nvPr/>
        </p:nvPicPr>
        <p:blipFill>
          <a:blip r:embed="rId1"/>
          <a:stretch/>
        </p:blipFill>
        <p:spPr>
          <a:xfrm>
            <a:off x="4648320" y="681120"/>
            <a:ext cx="4495680" cy="56833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3e3ff"/>
                </a:solidFill>
                <a:latin typeface="Monotype Corsiva"/>
              </a:rPr>
              <a:t>Андалузская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Picture 4" descr="андалуз 1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54673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XP</cp:lastModifiedBy>
  <dcterms:modified xsi:type="dcterms:W3CDTF">2012-04-24T05:55:0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