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F115-4EEA-4F1B-BB44-D89D504A4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5AE6-9B9F-4851-A136-D7DD8654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AB4D-B3B3-40A8-ABEC-3D8D4D6B5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111F-59BE-44E3-9DA9-BA82710C8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8C82A-C1D8-4F1B-9BB3-27FF2E3A4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BD1B-0422-4C7F-91C9-B75B0089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A8D9-DF73-46E5-ABBE-1CDBB43B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A3B57-4768-4E6A-AA40-C9B547E4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4097-E7D3-42D9-A9A4-BBF984D4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BB3D-6657-454B-897A-2C3DABA8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590C6-1E12-441D-A5A0-81E2EAB0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4997-B09F-414D-8F0E-8DA39212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52BC-BA83-41B8-9EE7-0370382A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EA46-731E-439F-AE01-B3A94E4E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1145A-0200-46A1-ABDF-F6BD50D7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B6A4-25A0-4BDE-B65B-ACC95EBD3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C720-9C0B-40C7-AC70-48F9A365F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1D98-9E04-4AB7-A0B9-C274A274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E238-B62D-44DD-818B-2965C665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EFB0-119E-4515-9186-B2D20B39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598C-37AC-488D-8B1B-D6BBF186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184A-4835-45FB-BCB7-EDAC218F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C8E9-330D-4F71-A36A-1E0B63C1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818D-9610-4BC6-ABF6-EDB00FE0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653F-4166-442C-BF54-115AE29C795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671A-1B67-474A-B4B5-8D45FF871B9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6;&#1083;&#1091;&#1082;&#1091;&#1089;&#1090;&#1072;&#1088;&#1085;&#1080;&#1082;" TargetMode="External"/><Relationship Id="rId2" Type="http://schemas.openxmlformats.org/officeDocument/2006/relationships/hyperlink" Target="http://ru.wikipedia.org/wiki/&#1041;&#1080;&#1086;&#1083;&#1086;&#1075;&#1080;&#1095;&#1077;&#1089;&#1082;&#1080;&#1081;_&#1074;&#1080;&#1076;" TargetMode="External"/><Relationship Id="rId3" Type="http://schemas.openxmlformats.org/officeDocument/2006/relationships/hyperlink" Target="http://ru.wikipedia.org/wiki/&#1056;&#1086;&#1076;" TargetMode="External"/><Relationship Id="rId4" Type="http://schemas.openxmlformats.org/officeDocument/2006/relationships/hyperlink" Target="http://ru.wikipedia.org/wiki/Rubus" TargetMode="External"/><Relationship Id="rId5" Type="http://schemas.openxmlformats.org/officeDocument/2006/relationships/hyperlink" Target="http://ru.wikipedia.org/wiki/&#1056;&#1086;&#1079;&#1086;&#1074;&#1099;&#1077;" TargetMode="Externa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6;&#1083;&#1091;&#1082;&#1091;&#1089;&#1090;&#1072;&#1088;&#1085;&#1080;&#1082;" TargetMode="External"/><Relationship Id="rId2" Type="http://schemas.openxmlformats.org/officeDocument/2006/relationships/hyperlink" Target="http://ru.wikipedia.org/wiki/&#1050;&#1086;&#1088;&#1085;&#1077;&#1074;&#1080;&#1097;&#1077;" TargetMode="External"/><Relationship Id="rId3" Type="http://schemas.openxmlformats.org/officeDocument/2006/relationships/hyperlink" Target="http://ru.wikipedia.org/wiki/&#1055;&#1086;&#1073;&#1077;&#1075;_(&#1073;&#1086;&#1090;&#1072;&#1085;&#1080;&#1082;&#1072;)" TargetMode="External"/><Relationship Id="rId4" Type="http://schemas.openxmlformats.org/officeDocument/2006/relationships/hyperlink" Target="http://ru.wikipedia.org/wiki/&#1050;&#1086;&#1083;&#1102;&#1095;&#1082;&#1080;" TargetMode="External"/><Relationship Id="rId5" Type="http://schemas.openxmlformats.org/officeDocument/2006/relationships/hyperlink" Target="http://ru.wikipedia.org/wiki/&#1062;&#1074;&#1077;&#1090;&#1086;&#1082;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3;&#1086;&#1076;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Малин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4214880"/>
            <a:ext cx="2695320" cy="8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боту приготовил Хайрулин Ива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Мали́на обыкнове́нна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 — </a:t>
            </a:r>
            <a:r>
              <a:rPr b="0" lang="ru-RU" sz="26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полукустарник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ru-RU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вид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род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Rubus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семейства </a:t>
            </a:r>
            <a:r>
              <a:rPr b="0" lang="ru-RU" sz="26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Розовые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Picture 9" descr="imagesCAZNTI7E"/>
          <p:cNvPicPr/>
          <p:nvPr/>
        </p:nvPicPr>
        <p:blipFill>
          <a:blip r:embed="rId6"/>
          <a:stretch/>
        </p:blipFill>
        <p:spPr>
          <a:xfrm>
            <a:off x="971640" y="2203560"/>
            <a:ext cx="3240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Малина обыкновенная — листопадный </a:t>
            </a:r>
            <a:r>
              <a:rPr b="0" lang="ru-RU" sz="17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полукустарник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с многолетним </a:t>
            </a:r>
            <a:r>
              <a:rPr b="0" lang="ru-RU" sz="17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корневищем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Побеги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покрыты тонкими  </a:t>
            </a:r>
            <a:r>
              <a:rPr b="0" lang="ru-RU" sz="17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шипами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Листья овальные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Цветки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белые. В средней полосе России малина цветёт с июня по июль, иногда до августа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9" descr="rubus_idaeus_illustration"/>
          <p:cNvPicPr/>
          <p:nvPr/>
        </p:nvPicPr>
        <p:blipFill>
          <a:blip r:embed="rId6"/>
          <a:stretch/>
        </p:blipFill>
        <p:spPr>
          <a:xfrm>
            <a:off x="806400" y="1752480"/>
            <a:ext cx="34448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Плоды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красного цвета, однако встречаются сорта желтого и даже черного цвета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7" descr="imagesCABB8DYX"/>
          <p:cNvPicPr/>
          <p:nvPr/>
        </p:nvPicPr>
        <p:blipFill>
          <a:blip r:embed="rId2"/>
          <a:stretch/>
        </p:blipFill>
        <p:spPr>
          <a:xfrm>
            <a:off x="755640" y="2505240"/>
            <a:ext cx="374508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олезная малин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ягодах малины содержится сахарА, пектины клетчатка витамины «В1», «В2», «РР»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фолиевая и аскорбиновая кислоты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аротин, соли меди и калия (до 220 мг%), йод, жирные кислоты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7" descr="untitled"/>
          <p:cNvPicPr/>
          <p:nvPr/>
        </p:nvPicPr>
        <p:blipFill>
          <a:blip r:embed="rId1"/>
          <a:stretch/>
        </p:blipFill>
        <p:spPr>
          <a:xfrm>
            <a:off x="1604880" y="2276640"/>
            <a:ext cx="230832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Малиновое варенье и чай из веток и листьев малины помогает при простуде, при высокой температур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7" descr="imagesCA4RLPZ7"/>
          <p:cNvPicPr/>
          <p:nvPr/>
        </p:nvPicPr>
        <p:blipFill>
          <a:blip r:embed="rId1"/>
          <a:stretch/>
        </p:blipFill>
        <p:spPr>
          <a:xfrm>
            <a:off x="826920" y="2419200"/>
            <a:ext cx="3168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Из малины можно приготовить много десертов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10" descr="imagesCAHNEQ2H"/>
          <p:cNvPicPr/>
          <p:nvPr/>
        </p:nvPicPr>
        <p:blipFill>
          <a:blip r:embed="rId1"/>
          <a:stretch/>
        </p:blipFill>
        <p:spPr>
          <a:xfrm>
            <a:off x="1187280" y="4179960"/>
            <a:ext cx="2448000" cy="1793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imagesCAULHI0O"/>
          <p:cNvPicPr/>
          <p:nvPr/>
        </p:nvPicPr>
        <p:blipFill>
          <a:blip r:embed="rId2"/>
          <a:stretch/>
        </p:blipFill>
        <p:spPr>
          <a:xfrm>
            <a:off x="5452920" y="1752480"/>
            <a:ext cx="1976760" cy="2468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imagesCA3628DX"/>
          <p:cNvPicPr/>
          <p:nvPr/>
        </p:nvPicPr>
        <p:blipFill>
          <a:blip r:embed="rId3"/>
          <a:stretch/>
        </p:blipFill>
        <p:spPr>
          <a:xfrm>
            <a:off x="5003640" y="4367160"/>
            <a:ext cx="2544840" cy="1684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untitled1"/>
          <p:cNvPicPr/>
          <p:nvPr/>
        </p:nvPicPr>
        <p:blipFill>
          <a:blip r:embed="rId4"/>
          <a:stretch/>
        </p:blipFill>
        <p:spPr>
          <a:xfrm>
            <a:off x="1643040" y="2119320"/>
            <a:ext cx="256860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Ольга Абих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Ягода-малин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пряталась под листиком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Ягода-малин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ж стоит под кустиком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лная корзин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двежонок прошептал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"Какая вкуснотища!"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малину лапой ста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рать с самого днищ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н испачкал носик сво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адким красным соком,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качал чуть голово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вздохнул глубоко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"Какой же я грязнуля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ужно бы умытьс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дёт меня мамуля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й никак не спится"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шагал Мишуточк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 лесной тропинке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понёс он ягоды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мочке в корзинк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пасибо за внимание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7" descr="untitled2"/>
          <p:cNvPicPr/>
          <p:nvPr/>
        </p:nvPicPr>
        <p:blipFill>
          <a:blip r:embed="rId1"/>
          <a:stretch/>
        </p:blipFill>
        <p:spPr>
          <a:xfrm>
            <a:off x="1835280" y="2205000"/>
            <a:ext cx="511164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15:23:48Z</dcterms:created>
  <dc:creator>Julia</dc:creator>
  <dc:description/>
  <dc:language>en-US</dc:language>
  <cp:lastModifiedBy>Ваня</cp:lastModifiedBy>
  <dcterms:modified xsi:type="dcterms:W3CDTF">2012-09-17T17:59:43Z</dcterms:modified>
  <cp:revision>4</cp:revision>
  <dc:subject/>
  <dc:title>Малина</dc:title>
</cp:coreProperties>
</file>