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6A9-9EA0-4682-8941-834B7F98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55E-ABB9-42FE-8A67-87B8E7A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DB4-54F2-4D05-9592-4EF436EE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8FB-BF21-42C7-9163-0E3961FA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97A-ED75-4CEC-8F08-045E9C67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CC2-FABA-4E9D-9212-8E29CB8C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99E-B17A-48A2-AAE7-5EF7E356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BD5-4B27-47A2-ABB3-AB361A4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008-6E77-4FF1-A7F6-9FFC349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EC5-1641-468A-B6AA-59EB9F2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54B-6FC1-4413-85DA-8A40D5A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3FA-B986-4B1E-8A80-3999AAD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69D-117D-4270-85E1-E34B341757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880.WAV" TargetMode="External"/><Relationship Id="rId2" Type="http://schemas.microsoft.com/office/2007/relationships/media" Target="file:///tmp/home/.config/libreoffice/4/user/gallery/~PP2880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3739.WAV" TargetMode="External"/><Relationship Id="rId3" Type="http://schemas.microsoft.com/office/2007/relationships/media" Target="file:///tmp/home/.config/libreoffice/4/user/gallery/~PP373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4005.WAV" TargetMode="External"/><Relationship Id="rId3" Type="http://schemas.microsoft.com/office/2007/relationships/media" Target="file:///tmp/home/.config/libreoffice/4/user/gallery/~PP400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1440.WAV" TargetMode="External"/><Relationship Id="rId3" Type="http://schemas.microsoft.com/office/2007/relationships/media" Target="file:///tmp/home/.config/libreoffice/4/user/gallery/~PP14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8:38:39Z</dcterms:created>
  <dc:creator>User</dc:creator>
  <dc:description/>
  <dc:language>en-US</dc:language>
  <cp:lastModifiedBy>User</cp:lastModifiedBy>
  <dcterms:modified xsi:type="dcterms:W3CDTF">2013-07-31T10:14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