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A46-C50F-4F67-9EE2-D3A4721C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465-6C20-4F45-8194-1E1C1511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406-6DA3-4FEF-AD3B-774F70A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2B0-A23F-45A9-A0C6-C65265ED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371-E3E5-420B-ABEE-A6C4877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441-BC64-48AE-8E4E-2D4676E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CF6-562C-4D12-A414-D05D40D2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47A-251C-4075-B47F-15579CA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38B-43CB-4D4B-8C50-E32EDA7F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9C1-56D6-4E89-B676-C83F9F4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27B-FEFA-4FB5-B2A3-92F3EDC7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56F-BE19-43E0-8C8F-C31613F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EE8-5099-4F94-8657-C8CBBF90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37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Courier New"/>
              </a:rPr>
              <a:t>«На мир смотрите </a:t>
            </a:r>
            <a:r>
              <a:rPr b="1" lang="en-US" sz="6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en-US" sz="6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en-US" sz="6000" spc="-1" strike="noStrike">
                <a:solidFill>
                  <a:srgbClr val="ff6600"/>
                </a:solidFill>
                <a:latin typeface="Courier New"/>
              </a:rPr>
              <a:t> добрыми глазам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Читайте сами! Читайте с ребенком! Читайте всей семь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47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«Чтение и нравствен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295280"/>
            <a:ext cx="38862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То, чему мы привыкли в детстве удивляться и сочувствовать, оставляем в нем глубокие следы, и не для одного человека любимый герой книг детства сделался потом невидимым и иногда неосознаваемым руководителем жизн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5029200" cy="335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ормируйте нравственность поступ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0104200">
            <a:off x="4045320" y="1022040"/>
            <a:ext cx="53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Формируйте нравственность       поступ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амятка для родите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 основам нравственных отношений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аши показные вежливость и чуткость ребенок легко распознает – подражая, он очень скоро вернет их в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е грубите и сквернословьте: ваши привычки станут привычками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е говорите о людях неуважительно, плохо – ребенок станет отзываться так и о ва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оступайте с другими тактично – это будет для вашего ребенка уроком доброты и человеч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роявляйте благородство при любых обстоятельствах. Помните, поведение – нравственное мерило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«Все начинается с до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676520"/>
            <a:ext cx="495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Не обязательно страстно любить их, будь то любовь слепая или разумная. И не имеет значения, отказывают детям в чем-то, во всем или ни в чем не отказывают. Но очень важно, чтобы кто-нибудь из двух родителей или из четырех дедушек и бабушек – хоть один! – любил людей. Только эта любовь к людям и передается детям: делает добрыми и отзывчивыми, только она одна обладает педагогической силой»                                                                  С. Соловей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62720" y="2895480"/>
            <a:ext cx="3429000" cy="36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20904600">
            <a:off x="416520" y="384480"/>
            <a:ext cx="815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 Black"/>
              </a:rPr>
              <a:t>Я помню нежность маминых прикоснов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 Black"/>
              </a:rPr>
              <a:t>Наш в добрый мир открытый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 Black"/>
              </a:rPr>
              <a:t>Счастливый смех и радость откров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 Black"/>
              </a:rPr>
              <a:t>Как хорошо мне было в н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Быть человеком в мире подлун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высшая должность на грешной зем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Б. Карабае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609480"/>
            <a:ext cx="87627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i="1" lang="ru-RU" sz="3200" spc="-1" strike="noStrike">
                <a:solidFill>
                  <a:srgbClr val="ffff00"/>
                </a:solidFill>
                <a:latin typeface="Impact"/>
              </a:rPr>
              <a:t>…</a:t>
            </a:r>
            <a:r>
              <a:rPr b="0" i="1" lang="ru-RU" sz="3200" spc="-1" strike="noStrike">
                <a:solidFill>
                  <a:srgbClr val="ffff00"/>
                </a:solidFill>
                <a:latin typeface="Impact"/>
              </a:rPr>
              <a:t>Быть человеком в мире подлунно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Impact"/>
              </a:rPr>
              <a:t>        </a:t>
            </a:r>
            <a:r>
              <a:rPr b="0" i="1" lang="ru-RU" sz="3200" spc="-1" strike="noStrike">
                <a:solidFill>
                  <a:srgbClr val="ffff00"/>
                </a:solidFill>
                <a:latin typeface="Impact"/>
              </a:rPr>
              <a:t>высшая должность на грешной зем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                                                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Б. Кара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езавершенный тез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еловек счастлив, ес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хорошей семье всег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ли бы я нашел клад, 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мое главное в жизни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льзя прожить бе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ли бы я все мог, 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Courier New"/>
              </a:rPr>
              <a:t>«Календарь творческой лаборатории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«Нравственность – это актуаль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44792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Сумей преодолеть прегра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И боль, и призрачный усп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Живи, не требуя награ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За свой поступок ради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Еще печалью мир простуж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Исподтишка разит 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Ты должен быть кому-то нуж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Всегда – как хлеб или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Быть добрым надо по привы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Не по расчету. Пригод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Хотя бы маленькой синичк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Пусти её из клетки ввы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(Н. Рач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опросы родител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Какое отношение к теме собрания имеет этот фраг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Какие собственные ошибки вы увидели в этом откров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Какие чувства вы пережили, прослушав тек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536200">
            <a:off x="671400" y="66312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Arial Black"/>
              </a:rPr>
              <a:t>Побойся ранить словом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Что бы выбрал 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5600" y="1942920"/>
            <a:ext cx="7039800" cy="3621240"/>
            <a:chOff x="975600" y="1942920"/>
            <a:chExt cx="7039800" cy="3621240"/>
          </a:xfrm>
        </p:grpSpPr>
        <p:sp>
          <p:nvSpPr>
            <p:cNvPr id="55" name="_s24604"/>
            <p:cNvSpPr/>
            <p:nvPr/>
          </p:nvSpPr>
          <p:spPr>
            <a:xfrm>
              <a:off x="3543120" y="2585520"/>
              <a:ext cx="1904760" cy="18392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4605"/>
            <p:cNvSpPr/>
            <p:nvPr/>
          </p:nvSpPr>
          <p:spPr>
            <a:xfrm>
              <a:off x="3543120" y="1942920"/>
              <a:ext cx="19047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Impact"/>
                </a:rPr>
                <a:t>Не навреди другом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4606"/>
            <p:cNvSpPr/>
            <p:nvPr/>
          </p:nvSpPr>
          <p:spPr>
            <a:xfrm>
              <a:off x="4169160" y="3634920"/>
              <a:ext cx="1904760" cy="1839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4607"/>
            <p:cNvSpPr/>
            <p:nvPr/>
          </p:nvSpPr>
          <p:spPr>
            <a:xfrm>
              <a:off x="6111360" y="5105520"/>
              <a:ext cx="1904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Impact"/>
                </a:rPr>
                <a:t>Помоги другом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Impact"/>
                </a:rPr>
                <a:t> </a:t>
              </a:r>
              <a:r>
                <a:rPr b="0" i="1" lang="en-US" sz="2400" spc="-1" strike="noStrike">
                  <a:solidFill>
                    <a:srgbClr val="3366ff"/>
                  </a:solidFill>
                  <a:latin typeface="Impact"/>
                </a:rPr>
                <a:t>даже в ущерб себ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4608"/>
            <p:cNvSpPr/>
            <p:nvPr/>
          </p:nvSpPr>
          <p:spPr>
            <a:xfrm>
              <a:off x="2915640" y="3633480"/>
              <a:ext cx="1904040" cy="1839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4609"/>
            <p:cNvSpPr/>
            <p:nvPr/>
          </p:nvSpPr>
          <p:spPr>
            <a:xfrm>
              <a:off x="975600" y="5105520"/>
              <a:ext cx="1904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Impact"/>
                </a:rPr>
                <a:t>Живи по сове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«Учите делать добро бескорыст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Свершая доброе дея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Не жди добра в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Сведет такое ожида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Добро твое на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4483080" cy="301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bffd"/>
            </a:gs>
            <a:gs pos="50000">
              <a:srgbClr val="acddfe"/>
            </a:gs>
            <a:gs pos="100000">
              <a:srgbClr val="35bff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Анкета для родителе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«Ваше отношение к чт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Любите ли вы чит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Что вы предпочит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Что вами прочитано в течение последней неде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Чем для вас полезно чт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0-03-17T12:35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