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BFA-2731-4B0A-B60B-DDA64823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984-BBAB-448A-A832-0A87D905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004-015C-4D8F-A79D-6EECE999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0D1-0F8B-463E-B3B0-87082654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9B4-1CF1-4A30-8674-93B238E0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AB1-AC35-4ADE-B8F9-E02E86D4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9DD-22EB-4307-9D7A-2E1301E5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245-773A-4436-8FEE-FC8C1BCA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B63-CF45-4137-ACC1-F85D9673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A2B-4BD6-44A7-B75D-5E807B2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AE6-8211-4D5A-ABD2-7488D305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06B-A836-4FC1-B809-4E96DBA2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4B7C-07E9-4564-A833-86D1293109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О КОСМО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57150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00040" y="171432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более 30 лет все космонавты готовясь к полету, к невесомости, тренируются в, так называемой, "летающей лаборатории". Это основной тренажер для отработки навыков работы в отсутствии притяжения к Зем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живут космонавты в рак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04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нет воздуха, чтобы дышать, там нет воды, тем более там нет еды. Всё это загружается в космический корабль на земле и затем расходуется в полёте. В космосе ничего нет, кроме пустоты и солнечного света. Именно свет питает космический корабль через солнечные батар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305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13840" y="100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рабле, все предметы, в том числе животные, находятся в состоянии невесомости. На земле все предметы обладают весом, они притягиваются к земной поверхности. В космосе этого нет. Внутри космического корабля все предметы закреплены на специальных держател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аче бы они все л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Admin\Рабочий стол\Новая папка (3)\m13.jpg"/>
          <p:cNvPicPr/>
          <p:nvPr/>
        </p:nvPicPr>
        <p:blipFill>
          <a:blip r:embed="rId1"/>
          <a:stretch/>
        </p:blipFill>
        <p:spPr>
          <a:xfrm>
            <a:off x="4572000" y="357120"/>
            <a:ext cx="40370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429080" y="428760"/>
            <a:ext cx="450072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56760" y="178596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ежда космонавта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фанд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осмонавты     надевают при запуске и спуске ракеты, когда выходят в открытый космо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571400" y="5571720"/>
            <a:ext cx="69721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запуске и спуске  ракеты космонавты ложатся в специальное «Лож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с давних времен люди стали думать над вопросами: «Что такое космос? Если жизнь на других планетах кроме планеты Земл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гда ученые и конструкторы создали первый космический корабль «Восток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мический корабль – это сложная техническая система. И прежде чем посадить в него человека технику надо прове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838680" cy="221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28760" y="450072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2286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"Восток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лен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готовятся космонавты к полет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тренировок космонавтов используют тренажер – центрифугу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953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760" y="521460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й огромной, 18-метровой кегле создаются перегрузки, которые космонавт испытывает во время полета. Сама она вращается по кругу, голова ее тоже вращается, внутри головы вращается кабина, а внутри кабины вращается кресло с космонав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605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3840" y="9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проводятся тренировки под водой, станцию вместе с платформой, подготавливаемыми космонавтами и водолазами опускают под воду, в гидробассей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286160" y="285840"/>
            <a:ext cx="41133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Надежда</cp:lastModifiedBy>
  <dcterms:modified xsi:type="dcterms:W3CDTF">2013-09-29T05:35:50Z</dcterms:modified>
  <cp:revision>76</cp:revision>
  <dc:subject/>
  <dc:title>Слайд 1</dc:title>
</cp:coreProperties>
</file>