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C5C-8C2D-49BD-BCB5-62B5F392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3D9-9AA1-423F-B0D2-FA02B19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F8-40B7-4D96-B333-CEA6B1F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A37-1DBF-42E2-97D9-548ED3F1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FEE3-AE6E-441B-8130-1AB4F1E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5FC9-9C59-4F3C-95B9-C171A72C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D363-30C7-41B2-B5FA-2AE6846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10A-02F4-417B-9A0B-2E9E62D1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9785-05C6-475D-8C34-20862059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48A6-F2DF-465D-8138-C2C19EDB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EDB0-C8DE-4F2A-95B0-BE4509D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756-4091-414A-A5D8-5A7AD80A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1BE-0396-43CE-B274-00124CA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55B4-FCDA-4A7F-B673-8F124D1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C91-0C53-4AAA-BA71-D5E423A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AF2B-B62A-41C6-A49F-8E3F37B6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4084-D9BA-4758-A033-4DBF47BC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BC-AFD1-48E1-AB79-9F08D6E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478-9E2A-4ED8-A03D-C07A18B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C39-C31D-4B56-BA08-C92375D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950-FCD3-4783-9686-F4A3BD25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2F5-8107-4172-8C64-E09A40B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164-B738-40C5-A6E5-D9B4D14C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160-46EC-471D-A4F2-A11F351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3DB-212E-4B84-99C0-788F5BD8A5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A9A-7BAD-4450-8E6A-6A75B63E33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Вкусовые рецепторы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полнил: ученик 4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утилин Григор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увство вку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мое примитивное из пяти чувств человека. Оно поставляет меньше информации об окружающем мире, чем любое другое чувств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5429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ль этого чувства — выбирать и оценивать пищу и напитки, при этом вкусу помогает более развитое чувство обоняния. Это чувство добавляет оттенки к четырем основным типам вкуса, которые вкусовые сосочки могут различать. Поэтому потеря чувства вкуса является меньшей проблемой, чем потеря обоня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7400" y="45720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Рецеп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0020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змещены на слизистой поверхности язы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едставляют собой хеморецепто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новляются каждые 8—10 дн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обраны в группы по 40-60 клеток (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вкусовые почк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кусовые сосоч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791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же, как и механизм обоняния, механизм вкуса приводится в действие химическими веществами, содержащимися 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ще и напитках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29040" y="2209680"/>
            <a:ext cx="4314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кусовые сосочки — центр всей системы. Поверхность языка усыпана маленькими бугорками. Внутри этих бугорков находятся вкусовые</a:t>
            </a:r>
            <a:r>
              <a:rPr b="0" lang="en-US" sz="3200" spc="-1" strike="noStrike">
                <a:solidFill>
                  <a:srgbClr val="baaada"/>
                </a:solidFill>
                <a:latin typeface="Comic Sans MS"/>
              </a:rPr>
              <a:t> сосочк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724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кусовые сосочки реагируют только н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етыре основные вкус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ад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исл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ены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2516040"/>
            <a:ext cx="5867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имические частицы собираются во рту и превращаются в нервные импульсы, передаваемые по нервам в головной мозг, где они расшифровыв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552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380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38280" y="3242880"/>
            <a:ext cx="67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сравнении с другими чувствами наше чувство вкуса не очень высоко развито. Чтобы человек ощутил вкус какого-либо вещества во рту, ему надо этого вещества в 25 тысяч раз больше, чем для того, чтобы его обонятельные рецепторы распознали запах этого ве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1</cp:lastModifiedBy>
  <dcterms:modified xsi:type="dcterms:W3CDTF">2013-02-03T08:45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