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66B0-4E9A-460A-B008-DB5A7E273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B64C-54D3-494A-835E-A021BB7D1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BA16-4C73-4001-BF5D-585A07D9B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6793-B04A-46D5-9B69-DC811219F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A3827-7154-499F-BB50-56EE5BDB2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31DCC-5AA7-49B0-A00C-D5EE6329D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E5753-B1CD-48B6-B155-D0D5184F5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8DB61-55CF-4B8A-8D9F-14EBC183E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26B75-BCF0-49A7-BE02-FF0D1C891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849D3-277C-428F-A705-67C158996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24758-285F-4C9F-AEFC-CEAAFF44C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5BBB-CF4D-4B0F-ACB4-A720832CA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9E012-CC31-4155-B1C0-A130A952C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CCE3F-00D0-48C5-BB11-A295438E9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1D54D-9A0C-45C9-844D-047361F5C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D37F0-FD39-47E6-BB53-1C65507C9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86740-B5FB-4EFD-AF86-263373C23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682C-0789-4CE7-AD9A-376EF6433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6D6B-51EA-48BC-941B-8C97486FB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B05F-10DC-42A0-B802-46DCD8605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68EB-EC02-413E-B064-40C169B60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F195-721D-4570-84D4-255AF9927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4762-7487-413E-8E76-8168DF36F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D8F2-AB44-48DA-847C-4B8478594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05B98-0E17-4D41-8FBD-1D0904731BB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233CF-B4FA-47A1-B1F8-70FAA9015CB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    </a:t>
            </a: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Осеннее дерево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332000" y="3789360"/>
            <a:ext cx="712764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755640" y="1628640"/>
            <a:ext cx="6534000" cy="47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f145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ff145"/>
                </a:solidFill>
                <a:latin typeface="Times New Roman"/>
              </a:rPr>
              <a:t>Самый лучший художник на свете — это природа. В любом времени года можно найти невероятно красивые природные объекты.  Одно из них — дерево в осеннем наряде. </a:t>
            </a: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Урок ИЗО 3.4 Осеннее дерево мастер класс искусство Интернет урок видео "/>
          <p:cNvPicPr/>
          <p:nvPr/>
        </p:nvPicPr>
        <p:blipFill>
          <a:blip r:embed="rId1"/>
          <a:stretch/>
        </p:blipFill>
        <p:spPr>
          <a:xfrm>
            <a:off x="900000" y="1557360"/>
            <a:ext cx="7775640" cy="46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f145"/>
                </a:solidFill>
                <a:latin typeface="Times New Roman"/>
              </a:rPr>
              <a:t>Сегодня на уроке мы учимся рисовать дерево. Для этого давайте понаблюдаем за деревьями в природе…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Урок ИЗО 3.4 Осеннее дерево мастер класс искусство Интернет урок видео "/>
          <p:cNvPicPr/>
          <p:nvPr/>
        </p:nvPicPr>
        <p:blipFill>
          <a:blip r:embed="rId1"/>
          <a:stretch/>
        </p:blipFill>
        <p:spPr>
          <a:xfrm>
            <a:off x="755640" y="1557360"/>
            <a:ext cx="3960720" cy="46083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Урок ИЗО 3.4 Осеннее дерево мастер класс искусство Интернет урок видео "/>
          <p:cNvPicPr/>
          <p:nvPr/>
        </p:nvPicPr>
        <p:blipFill>
          <a:blip r:embed="rId2"/>
          <a:stretch/>
        </p:blipFill>
        <p:spPr>
          <a:xfrm>
            <a:off x="4859280" y="1557360"/>
            <a:ext cx="381636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Исаак Левитан «Золотая осень»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09" name="" descr="Урок ИЗО 3.4 Осеннее дерево мастер класс искусство Интернет урок видео "/>
          <p:cNvPicPr/>
          <p:nvPr/>
        </p:nvPicPr>
        <p:blipFill>
          <a:blip r:embed="rId1"/>
          <a:stretch/>
        </p:blipFill>
        <p:spPr>
          <a:xfrm>
            <a:off x="1042920" y="1628640"/>
            <a:ext cx="7239240" cy="48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0033"/>
                </a:solidFill>
                <a:latin typeface="Times New Roman"/>
              </a:rPr>
              <a:t>Что есть у всех деревьев? Правильно, ствол и ветки. Самая толстая часть дерева — это ствол. Ветки у лиственных деревьев  направлены вверх, а вот ветки елки — вниз. Самая тонкая часть дерева — верхушка.</a:t>
            </a:r>
            <a:br>
              <a:rPr sz="1600"/>
            </a:br>
            <a:r>
              <a:rPr b="0" lang="en-US" sz="1600" spc="-1" strike="noStrike">
                <a:solidFill>
                  <a:srgbClr val="330033"/>
                </a:solidFill>
                <a:latin typeface="Times New Roman"/>
              </a:rPr>
              <a:t>Итак, все рисование можно разделить на этапы: ствол, ветки и листья.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Урок ИЗО 3.4 Осеннее дерево мастер класс искусство Интернет урок видео "/>
          <p:cNvPicPr/>
          <p:nvPr/>
        </p:nvPicPr>
        <p:blipFill>
          <a:blip r:embed="rId1"/>
          <a:stretch/>
        </p:blipFill>
        <p:spPr>
          <a:xfrm>
            <a:off x="900000" y="1557360"/>
            <a:ext cx="3456000" cy="45356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Урок ИЗО 3.4 Осеннее дерево мастер класс искусство Интернет урок видео "/>
          <p:cNvPicPr/>
          <p:nvPr/>
        </p:nvPicPr>
        <p:blipFill>
          <a:blip r:embed="rId2"/>
          <a:stretch/>
        </p:blipFill>
        <p:spPr>
          <a:xfrm>
            <a:off x="4716360" y="1557360"/>
            <a:ext cx="395928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Урок ИЗО 3.4 Осеннее дерево мастер класс искусство Интернет урок видео "/>
          <p:cNvPicPr/>
          <p:nvPr/>
        </p:nvPicPr>
        <p:blipFill>
          <a:blip r:embed="rId1"/>
          <a:stretch/>
        </p:blipFill>
        <p:spPr>
          <a:xfrm>
            <a:off x="900000" y="1557360"/>
            <a:ext cx="414360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33"/>
                </a:solidFill>
                <a:latin typeface="Times New Roman"/>
              </a:rPr>
              <a:t>Затем рисуем листья мазками. Мазки можно наносить друг на друга.  Используйте желтый, красный, оранжевый цвет.</a:t>
            </a:r>
            <a:endParaRPr b="0" lang="en-US" sz="1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16" name="" descr="Урок ИЗО 3.4 Осеннее дерево мастер класс искусство Интернет урок видео "/>
          <p:cNvPicPr/>
          <p:nvPr/>
        </p:nvPicPr>
        <p:blipFill>
          <a:blip r:embed="rId1"/>
          <a:stretch/>
        </p:blipFill>
        <p:spPr>
          <a:xfrm>
            <a:off x="1042920" y="1557360"/>
            <a:ext cx="4033800" cy="499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755640" y="1557360"/>
            <a:ext cx="5962680" cy="49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84360" y="476280"/>
            <a:ext cx="81356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1T20:48:58Z</dcterms:created>
  <dc:creator>АЛИНА</dc:creator>
  <dc:description/>
  <dc:language>en-US</dc:language>
  <cp:lastModifiedBy>АЛИНА</cp:lastModifiedBy>
  <dcterms:modified xsi:type="dcterms:W3CDTF">2013-09-21T21:16:13Z</dcterms:modified>
  <cp:revision>2</cp:revision>
  <dc:subject/>
  <dc:title>    Осеннее дерево</dc:title>
</cp:coreProperties>
</file>