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CC8-2169-4395-80E7-CB00B1C1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497-41FB-4991-8851-B5149CCA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B5B-DBE2-4D64-B134-6E39CEEC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AC2-E82C-4911-AD69-1433384D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FF2-E3C0-44DF-BAB6-F12C318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767-E964-426B-BEEF-B927A4B4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09B-4C14-4531-8683-065EE7F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504-667A-4822-9502-A6D60D49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687-79F3-4ECE-8E1E-EECC221A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A26-334E-4963-A3CA-D08292F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F6E-D860-4BA1-80FA-90D1C577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345-95FD-4CF9-BD8A-2FC90C2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2FA-7B9E-41ED-99FE-91FFB9CE43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324000" y="260280"/>
            <a:ext cx="756108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вцеводство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начение овцеводства и хозяйственно-биологические особенности  ов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981000"/>
            <a:ext cx="453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Calibri"/>
              </a:rPr>
              <a:t>Овцеводство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асль животноводства, занимающаяся разведением овец. Даёт ценные виды сырья для лёгкой промышленности (шерсть, овчины, смушки) и служит источником высокоценных продуктов питания (баранина, жир, молоко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Calibri"/>
              </a:rPr>
              <a:t>Из шкур ове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делывают шубные и меховые овчины. Большую ценность представляют шкурки ягнят смушковых пород, из которых делают караку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Calibri"/>
              </a:rPr>
              <a:t>Овечье молок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пользуют для изготовления сыров и кисломолочных проду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ясном балансе страны на долю баранины и ягнятины приходится 8-10% всего производимого в стране мя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3640" y="620640"/>
            <a:ext cx="450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побочных продуктов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Calibri"/>
              </a:rPr>
              <a:t>кровь</a:t>
            </a: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ет на приготовление кровяной муки , а субпродукты (язык, почки, печень, сердце и др.) - в пищу. Из кишок изготавливают музыкальные, теннисные, шерстобитные струны, оболочки для колбас, нити для сшивания ран; из сычуга готовят некоторые лекарства (аболин) и используют в сыроварении;  из копыт, рогов готовят костную муку, к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Calibri"/>
              </a:rPr>
              <a:t>Жиропо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ыделенный из моечных вод, идет на изготовление ценного препарата — ланолина, который используется в фармацевтической промышленности. Ткани, обработанные ланолином, защищают от ради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Calibri"/>
              </a:rPr>
              <a:t>Овечий наво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ценное удобрение, в пустынных районах используется как топли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37120" cy="517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0"/>
            <a:ext cx="51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продолжительность жизни овец 12-15 лет, продолжительность хозяйственного использования – 6-7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вец получают одного, двух ягнят за одно ягнение, а от романовских – два-четыре ягненка, живая масса при рождении от 2 до 6 к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цы обладают высокой акклиматизационной способностью к разным природно-климатическим услови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ь жирнохвостых и курдючных овец откладывать большое количество жира в области хвоста и ягодиц позволяет им существовать в условиях сухого и жаркого клим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цы характеризуются хорошим зрением, слухом и обонянием; развит инстинкт стадности, в связи с чем их содержат отар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цы пугливы и поэтому легко подвержены влиянию стрессовых факто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цы плох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нося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ыр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квозня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384360" cy="41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25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1280" y="981000"/>
            <a:ext cx="5292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ец состоит из различных типов  волоко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пух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тонких, извитых шерстинок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ямых или малоизвитых длинных волокон), разновидностью ост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ух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ло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переходного волос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реднего по тонине и длине между пухом и остью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мертвый воло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очень грубое, остевое волокн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кроющий волос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строению и тонине близок к ости, расположен на конечностях, голове, хвосте и  брюх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ff3300"/>
                </a:solidFill>
                <a:latin typeface="Calibri"/>
              </a:rPr>
              <a:t>пес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длинные, толстые, малоизвитые шерстные волокна в шерстном покрове ягнят, сохраняется до первой стри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висимости от входящих в состав шерстного покрова волокон различают шерс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днородну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тонкая и полутонкая)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еоднородную (грубая и полугруба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987640" y="189000"/>
            <a:ext cx="354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рстный покров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74508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91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6160" cy="53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624720" cy="590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977080" cy="590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6:17:03Z</dcterms:created>
  <dc:creator>Лидия</dc:creator>
  <dc:description/>
  <dc:language>en-US</dc:language>
  <cp:lastModifiedBy>хайрулин</cp:lastModifiedBy>
  <dcterms:modified xsi:type="dcterms:W3CDTF">2013-04-01T02:07:44Z</dcterms:modified>
  <cp:revision>45</cp:revision>
  <dc:subject/>
  <dc:title>Слайд 1</dc:title>
</cp:coreProperties>
</file>