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C2D-C91B-447E-B4C5-9EC27D72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EFC-9592-4782-9346-23A359E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20D-F7B5-4320-9079-6233E0DD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1B6-6169-458B-BE70-16AA671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07F-E7B9-4044-9A68-2186C02B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42F-1756-4B76-8C94-A0BCCE84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576-53BD-47F7-88DD-8807554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76A-E8A2-472B-86EC-E5CC41F8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94F-A83D-4617-A2FA-D324CB5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635-17A2-4985-8C9A-1172A92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F2D-E91D-4983-9D79-C884D3B4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665-5689-4505-961E-29A01BC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607E-D03E-4EF5-B81E-65AE4AC37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9800" y="347760"/>
            <a:ext cx="8077320" cy="34383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kniga48.jpg"/>
          <p:cNvPicPr/>
          <p:nvPr/>
        </p:nvPicPr>
        <p:blipFill>
          <a:blip r:embed="rId2"/>
          <a:stretch/>
        </p:blipFill>
        <p:spPr>
          <a:xfrm>
            <a:off x="5867280" y="3933720"/>
            <a:ext cx="254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25360" y="1125360"/>
            <a:ext cx="89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онстантин Георгиевич Пауст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58920" y="537372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Заячьи  ла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627280" y="2852640"/>
            <a:ext cx="2952720" cy="170676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гол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ну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ухо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енс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ра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Шамка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осо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но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4"/>
          <p:cNvSpPr/>
          <p:nvPr/>
        </p:nvSpPr>
        <p:spPr>
          <a:xfrm flipH="1">
            <a:off x="2556000" y="333360"/>
            <a:ext cx="71280" cy="216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 flipH="1">
            <a:off x="1835280" y="1125360"/>
            <a:ext cx="71280" cy="142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 flipH="1">
            <a:off x="2843280" y="1844640"/>
            <a:ext cx="7128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2771280" y="2565360"/>
            <a:ext cx="7164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1763280" y="3284640"/>
            <a:ext cx="71640" cy="142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1692360" y="4005360"/>
            <a:ext cx="7128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411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1476360" y="4797360"/>
            <a:ext cx="7128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2842920" y="5516640"/>
            <a:ext cx="7308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G_0001"/>
          <p:cNvPicPr/>
          <p:nvPr/>
        </p:nvPicPr>
        <p:blipFill>
          <a:blip r:embed="rId1"/>
          <a:stretch/>
        </p:blipFill>
        <p:spPr>
          <a:xfrm>
            <a:off x="1487520" y="115920"/>
            <a:ext cx="61531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G_0005"/>
          <p:cNvPicPr/>
          <p:nvPr/>
        </p:nvPicPr>
        <p:blipFill>
          <a:blip r:embed="rId1"/>
          <a:stretch/>
        </p:blipFill>
        <p:spPr>
          <a:xfrm>
            <a:off x="826920" y="291960"/>
            <a:ext cx="749016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87280" y="1413000"/>
            <a:ext cx="640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ступок героя -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его это характеризует?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19101640_100__Zayac_.jpg"/>
          <p:cNvPicPr/>
          <p:nvPr/>
        </p:nvPicPr>
        <p:blipFill>
          <a:blip r:embed="rId1"/>
          <a:stretch/>
        </p:blipFill>
        <p:spPr>
          <a:xfrm>
            <a:off x="3071880" y="4214880"/>
            <a:ext cx="25732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98" name="Группа 18"/>
          <p:cNvGrpSpPr/>
          <p:nvPr/>
        </p:nvGrpSpPr>
        <p:grpSpPr>
          <a:xfrm>
            <a:off x="1500120" y="571680"/>
            <a:ext cx="3929040" cy="3262680"/>
            <a:chOff x="1500120" y="571680"/>
            <a:chExt cx="3929040" cy="3262680"/>
          </a:xfrm>
        </p:grpSpPr>
        <p:sp>
          <p:nvSpPr>
            <p:cNvPr id="99" name="TextBox 6"/>
            <p:cNvSpPr/>
            <p:nvPr/>
          </p:nvSpPr>
          <p:spPr>
            <a:xfrm>
              <a:off x="1500120" y="571680"/>
              <a:ext cx="3357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ВЕТЕРИНА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80"/>
                  </a:solidFill>
                  <a:latin typeface="Calibri"/>
                </a:rPr>
                <a:t>Равнодуш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80"/>
                  </a:solidFill>
                  <a:latin typeface="Calibri"/>
                </a:rPr>
                <a:t>Зл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80"/>
                  </a:solidFill>
                  <a:latin typeface="Calibri"/>
                </a:rPr>
                <a:t>Невоспитан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800080"/>
                  </a:solidFill>
                  <a:latin typeface="Calibri"/>
                </a:rPr>
                <a:t>ЖЕСТО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7"/>
            <p:cNvSpPr/>
            <p:nvPr/>
          </p:nvSpPr>
          <p:spPr>
            <a:xfrm>
              <a:off x="3571920" y="26431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81bd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4f81bd"/>
                  </a:solidFill>
                  <a:latin typeface="Calibri"/>
                </a:rPr>
                <a:t>Ре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f81bd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4f81bd"/>
                  </a:solidFill>
                  <a:latin typeface="Calibri"/>
                </a:rPr>
                <a:t>Груб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f81bd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4f81bd"/>
                  </a:solidFill>
                  <a:latin typeface="Arial"/>
                </a:rPr>
                <a:t>      </a:t>
              </a:r>
              <a:r>
                <a:rPr b="1" lang="ru-RU" sz="2400" spc="-1" strike="noStrike" u="sng">
                  <a:solidFill>
                    <a:srgbClr val="4f81bd"/>
                  </a:solidFill>
                  <a:uFillTx/>
                  <a:latin typeface="Calibri"/>
                </a:rPr>
                <a:t>крич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20"/>
          <p:cNvGrpSpPr/>
          <p:nvPr/>
        </p:nvGrpSpPr>
        <p:grpSpPr>
          <a:xfrm>
            <a:off x="179280" y="3000240"/>
            <a:ext cx="2892600" cy="3334320"/>
            <a:chOff x="179280" y="3000240"/>
            <a:chExt cx="2892600" cy="3334320"/>
          </a:xfrm>
        </p:grpSpPr>
        <p:sp>
          <p:nvSpPr>
            <p:cNvPr id="102" name="TextBox 8"/>
            <p:cNvSpPr/>
            <p:nvPr/>
          </p:nvSpPr>
          <p:spPr>
            <a:xfrm>
              <a:off x="179280" y="3000240"/>
              <a:ext cx="2162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БАБКА АНИСЬ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Жалостлив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Любопы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Душе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Calibri"/>
                </a:rPr>
                <a:t>ДОБ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9"/>
            <p:cNvSpPr/>
            <p:nvPr/>
          </p:nvSpPr>
          <p:spPr>
            <a:xfrm>
              <a:off x="1500120" y="5143320"/>
              <a:ext cx="157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Ре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Напев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800080"/>
                  </a:solidFill>
                  <a:uFillTx/>
                  <a:latin typeface="Calibri"/>
                </a:rPr>
                <a:t>шам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21"/>
          <p:cNvGrpSpPr/>
          <p:nvPr/>
        </p:nvGrpSpPr>
        <p:grpSpPr>
          <a:xfrm>
            <a:off x="6143760" y="1357200"/>
            <a:ext cx="2786040" cy="4475160"/>
            <a:chOff x="6143760" y="1357200"/>
            <a:chExt cx="2786040" cy="4475160"/>
          </a:xfrm>
        </p:grpSpPr>
        <p:sp>
          <p:nvSpPr>
            <p:cNvPr id="105" name="TextBox 10"/>
            <p:cNvSpPr/>
            <p:nvPr/>
          </p:nvSpPr>
          <p:spPr>
            <a:xfrm>
              <a:off x="6143760" y="1357200"/>
              <a:ext cx="27860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ВА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Arial"/>
                </a:rPr>
                <a:t>Беспокой</a:t>
              </a: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Вынослив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Упор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Заботлив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Старатель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Calibri"/>
                </a:rPr>
                <a:t>Шустр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80"/>
                  </a:solidFill>
                  <a:latin typeface="Calibri"/>
                </a:rPr>
                <a:t>Очень ДОБР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1"/>
            <p:cNvSpPr/>
            <p:nvPr/>
          </p:nvSpPr>
          <p:spPr>
            <a:xfrm>
              <a:off x="6286320" y="4458600"/>
              <a:ext cx="2071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f81bd"/>
                  </a:solidFill>
                  <a:latin typeface="Calibri"/>
                </a:rPr>
                <a:t>Реч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f81bd"/>
                  </a:solidFill>
                  <a:latin typeface="Calibri"/>
                </a:rPr>
                <a:t>Волнуясь </a:t>
              </a:r>
              <a:r>
                <a:rPr b="1" lang="ru-RU" sz="2800" spc="-1" strike="noStrike" u="sng">
                  <a:solidFill>
                    <a:srgbClr val="4f81bd"/>
                  </a:solidFill>
                  <a:uFillTx/>
                  <a:latin typeface="Calibri"/>
                </a:rPr>
                <a:t>шепч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19"/>
          <p:cNvGrpSpPr/>
          <p:nvPr/>
        </p:nvGrpSpPr>
        <p:grpSpPr>
          <a:xfrm>
            <a:off x="108000" y="4292640"/>
            <a:ext cx="3214800" cy="399960"/>
            <a:chOff x="108000" y="4292640"/>
            <a:chExt cx="3214800" cy="399960"/>
          </a:xfrm>
        </p:grpSpPr>
        <p:sp>
          <p:nvSpPr>
            <p:cNvPr id="108" name="TextBox 12"/>
            <p:cNvSpPr/>
            <p:nvPr/>
          </p:nvSpPr>
          <p:spPr>
            <a:xfrm>
              <a:off x="108000" y="4292640"/>
              <a:ext cx="18687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3"/>
            <p:cNvSpPr/>
            <p:nvPr/>
          </p:nvSpPr>
          <p:spPr>
            <a:xfrm>
              <a:off x="1902240" y="4292640"/>
              <a:ext cx="14205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Группа 23"/>
          <p:cNvGrpSpPr/>
          <p:nvPr/>
        </p:nvGrpSpPr>
        <p:grpSpPr>
          <a:xfrm>
            <a:off x="4643280" y="404640"/>
            <a:ext cx="4500720" cy="513000"/>
            <a:chOff x="4643280" y="404640"/>
            <a:chExt cx="4500720" cy="513000"/>
          </a:xfrm>
        </p:grpSpPr>
        <p:sp>
          <p:nvSpPr>
            <p:cNvPr id="111" name="TextBox 14"/>
            <p:cNvSpPr/>
            <p:nvPr/>
          </p:nvSpPr>
          <p:spPr>
            <a:xfrm>
              <a:off x="6357960" y="404640"/>
              <a:ext cx="2786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5"/>
            <p:cNvSpPr/>
            <p:nvPr/>
          </p:nvSpPr>
          <p:spPr>
            <a:xfrm>
              <a:off x="4643280" y="547560"/>
              <a:ext cx="1785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22"/>
          <p:cNvGrpSpPr/>
          <p:nvPr/>
        </p:nvGrpSpPr>
        <p:grpSpPr>
          <a:xfrm>
            <a:off x="4356000" y="2349360"/>
            <a:ext cx="3430800" cy="644760"/>
            <a:chOff x="4356000" y="2349360"/>
            <a:chExt cx="3430800" cy="644760"/>
          </a:xfrm>
        </p:grpSpPr>
        <p:sp>
          <p:nvSpPr>
            <p:cNvPr id="114" name="TextBox 16"/>
            <p:cNvSpPr/>
            <p:nvPr/>
          </p:nvSpPr>
          <p:spPr>
            <a:xfrm>
              <a:off x="5728320" y="2349360"/>
              <a:ext cx="2058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4356000" y="2593800"/>
              <a:ext cx="14479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85840" y="121428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АПТ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ер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Серди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Стр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Раздраженный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alibri"/>
              </a:rPr>
              <a:t>ДОБ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57120" y="41432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Сердито </a:t>
            </a:r>
            <a:r>
              <a:rPr b="1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гов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19101640_100__Zayac_.jpg"/>
          <p:cNvPicPr/>
          <p:nvPr/>
        </p:nvPicPr>
        <p:blipFill>
          <a:blip r:embed="rId1"/>
          <a:stretch/>
        </p:blipFill>
        <p:spPr>
          <a:xfrm>
            <a:off x="2857680" y="4214880"/>
            <a:ext cx="3000240" cy="224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2928960" y="35712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К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КАР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Интеллиге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Образ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Стр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81bd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4f81bd"/>
                </a:solidFill>
                <a:latin typeface="Calibri"/>
              </a:rPr>
              <a:t>ДОБ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3571920" y="307188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Речь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Строг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азговарив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ае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6643800" y="264312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ЕД ЛАР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Отзывч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Роб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alibri"/>
              </a:rPr>
              <a:t>ДОБ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6429240" y="471492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Волнуясь </a:t>
            </a:r>
            <a:r>
              <a:rPr b="1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шеп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80096.jpg"/>
          <p:cNvPicPr/>
          <p:nvPr/>
        </p:nvPicPr>
        <p:blipFill>
          <a:blip r:embed="rId1"/>
          <a:stretch/>
        </p:blipFill>
        <p:spPr>
          <a:xfrm>
            <a:off x="262080" y="115920"/>
            <a:ext cx="2331720" cy="3600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329166.jpg"/>
          <p:cNvPicPr/>
          <p:nvPr/>
        </p:nvPicPr>
        <p:blipFill>
          <a:blip r:embed="rId2"/>
          <a:stretch/>
        </p:blipFill>
        <p:spPr>
          <a:xfrm>
            <a:off x="3797280" y="3257640"/>
            <a:ext cx="2656080" cy="34844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25000212101.jpg"/>
          <p:cNvPicPr/>
          <p:nvPr/>
        </p:nvPicPr>
        <p:blipFill>
          <a:blip r:embed="rId3"/>
          <a:stretch/>
        </p:blipFill>
        <p:spPr>
          <a:xfrm>
            <a:off x="6877080" y="333360"/>
            <a:ext cx="2090880" cy="2808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" descr="b40045.jpg"/>
          <p:cNvPicPr/>
          <p:nvPr/>
        </p:nvPicPr>
        <p:blipFill>
          <a:blip r:embed="rId4"/>
          <a:stretch/>
        </p:blipFill>
        <p:spPr>
          <a:xfrm>
            <a:off x="6754680" y="3429000"/>
            <a:ext cx="2262240" cy="2987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b40089.jpg"/>
          <p:cNvPicPr/>
          <p:nvPr/>
        </p:nvPicPr>
        <p:blipFill>
          <a:blip r:embed="rId5"/>
          <a:stretch/>
        </p:blipFill>
        <p:spPr>
          <a:xfrm>
            <a:off x="3868560" y="189000"/>
            <a:ext cx="200988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33000004499.jpg"/>
          <p:cNvPicPr/>
          <p:nvPr/>
        </p:nvPicPr>
        <p:blipFill>
          <a:blip r:embed="rId6"/>
          <a:stretch/>
        </p:blipFill>
        <p:spPr>
          <a:xfrm>
            <a:off x="971640" y="3645000"/>
            <a:ext cx="2338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5715000" y="5156280"/>
            <a:ext cx="3135240" cy="1701720"/>
          </a:xfrm>
          <a:prstGeom prst="wedgeEllipseCallout">
            <a:avLst>
              <a:gd name="adj1" fmla="val -55476"/>
              <a:gd name="adj2" fmla="val 4324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ношение автора к геро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227640" y="1000080"/>
            <a:ext cx="2916360" cy="1857600"/>
          </a:xfrm>
          <a:prstGeom prst="wedgeEllipseCallout">
            <a:avLst>
              <a:gd name="adj1" fmla="val -55476"/>
              <a:gd name="adj2" fmla="val 4324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Главные гер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3286080" y="3789360"/>
            <a:ext cx="1500120" cy="782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786800" y="3789360"/>
            <a:ext cx="1357200" cy="853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1785960" y="3571920"/>
            <a:ext cx="33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Black"/>
              </a:rPr>
              <a:t>Что общ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5214960" y="35719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76092"/>
                </a:solidFill>
                <a:latin typeface="Arial Black"/>
              </a:rPr>
              <a:t>Чем от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3143160" y="1643040"/>
            <a:ext cx="2786040" cy="1928880"/>
          </a:xfrm>
          <a:prstGeom prst="wedgeEllipseCallout">
            <a:avLst>
              <a:gd name="adj1" fmla="val -55476"/>
              <a:gd name="adj2" fmla="val 4324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Тема произ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3571920" y="464328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целый</a:t>
            </a: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7667640" y="4581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разные ра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0"/>
          <p:cNvSpPr/>
          <p:nvPr/>
        </p:nvSpPr>
        <p:spPr>
          <a:xfrm>
            <a:off x="285840" y="4286160"/>
            <a:ext cx="3214440" cy="2071800"/>
          </a:xfrm>
          <a:prstGeom prst="wedgeEllipseCallout">
            <a:avLst>
              <a:gd name="adj1" fmla="val 60819"/>
              <a:gd name="adj2" fmla="val 1784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ше отношение к геро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2"/>
          <p:cNvSpPr/>
          <p:nvPr/>
        </p:nvSpPr>
        <p:spPr>
          <a:xfrm>
            <a:off x="0" y="1357200"/>
            <a:ext cx="3143160" cy="1497240"/>
          </a:xfrm>
          <a:prstGeom prst="wedgeEllipseCallout">
            <a:avLst>
              <a:gd name="adj1" fmla="val 42634"/>
              <a:gd name="adj2" fmla="val 7336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дея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 flipV="1">
            <a:off x="5508720" y="2143080"/>
            <a:ext cx="920520" cy="5652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7"/>
          <p:cNvSpPr/>
          <p:nvPr/>
        </p:nvSpPr>
        <p:spPr>
          <a:xfrm flipH="1">
            <a:off x="4785840" y="2714760"/>
            <a:ext cx="2000520" cy="1214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8"/>
          <p:cNvSpPr/>
          <p:nvPr/>
        </p:nvSpPr>
        <p:spPr>
          <a:xfrm>
            <a:off x="7000920" y="2643120"/>
            <a:ext cx="1285920" cy="1143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 flipH="1">
            <a:off x="7286760" y="4429080"/>
            <a:ext cx="714240" cy="7146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1"/>
          <p:cNvSpPr/>
          <p:nvPr/>
        </p:nvSpPr>
        <p:spPr>
          <a:xfrm flipH="1" flipV="1">
            <a:off x="3785760" y="5500440"/>
            <a:ext cx="2089080" cy="73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2"/>
          <p:cNvSpPr/>
          <p:nvPr/>
        </p:nvSpPr>
        <p:spPr>
          <a:xfrm flipH="1" flipV="1">
            <a:off x="1500120" y="2642760"/>
            <a:ext cx="93600" cy="17859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4788000" y="4292640"/>
            <a:ext cx="1355760" cy="9936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5"/>
          <p:cNvSpPr/>
          <p:nvPr/>
        </p:nvSpPr>
        <p:spPr>
          <a:xfrm>
            <a:off x="4786200" y="4214880"/>
            <a:ext cx="2951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6"/>
          <p:cNvSpPr/>
          <p:nvPr/>
        </p:nvSpPr>
        <p:spPr>
          <a:xfrm>
            <a:off x="4214880" y="1143000"/>
            <a:ext cx="71280" cy="7858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7"/>
          <p:cNvSpPr/>
          <p:nvPr/>
        </p:nvSpPr>
        <p:spPr>
          <a:xfrm>
            <a:off x="2643120" y="2428920"/>
            <a:ext cx="1071720" cy="142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ages.yandex.ru/yand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сканированные иллюстрации из книги «Заячьи лапы»  К.Г.  Пауст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.А. Ефросинина  Учебник литературного чтения  для 3 клас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.А. Ефросинина  Рабочая  тетрадь для 3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.А. Ефросинина  Методическое пособие для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.А. Ефросинина   Книгочей  словарь - справочник  по литературному чтению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642960" y="11520"/>
            <a:ext cx="807228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kniga48.jpg"/>
          <p:cNvPicPr/>
          <p:nvPr/>
        </p:nvPicPr>
        <p:blipFill>
          <a:blip r:embed="rId1"/>
          <a:stretch/>
        </p:blipFill>
        <p:spPr>
          <a:xfrm>
            <a:off x="6516720" y="3500280"/>
            <a:ext cx="25398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writer_rus144.jpg"/>
          <p:cNvPicPr/>
          <p:nvPr/>
        </p:nvPicPr>
        <p:blipFill>
          <a:blip r:embed="rId2"/>
          <a:stretch/>
        </p:blipFill>
        <p:spPr>
          <a:xfrm>
            <a:off x="468360" y="1916280"/>
            <a:ext cx="2697120" cy="3816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900000" y="57340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Рассказ «Заячьи лап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32000" y="62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К.Г. Паусто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Segoe Script"/>
                <a:ea typeface="Times New Roman"/>
              </a:rPr>
              <a:t>Презентацию приготови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Segoe Script"/>
                <a:ea typeface="Times New Roman"/>
              </a:rPr>
              <a:t>Учитель начальной школы Козлова Вера Кузьминич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Segoe Script"/>
                <a:ea typeface="Times New Roman"/>
              </a:rPr>
              <a:t>МБОУ Средняя школа № 13 г. Балак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MG"/>
          <p:cNvPicPr/>
          <p:nvPr/>
        </p:nvPicPr>
        <p:blipFill>
          <a:blip r:embed="rId1"/>
          <a:stretch/>
        </p:blipFill>
        <p:spPr>
          <a:xfrm>
            <a:off x="2076480" y="115920"/>
            <a:ext cx="50799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IMG"/>
          <p:cNvPicPr/>
          <p:nvPr/>
        </p:nvPicPr>
        <p:blipFill>
          <a:blip r:embed="rId1"/>
          <a:stretch/>
        </p:blipFill>
        <p:spPr>
          <a:xfrm>
            <a:off x="1116000" y="216000"/>
            <a:ext cx="70610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MG_0003"/>
          <p:cNvPicPr/>
          <p:nvPr/>
        </p:nvPicPr>
        <p:blipFill>
          <a:blip r:embed="rId1"/>
          <a:stretch/>
        </p:blipFill>
        <p:spPr>
          <a:xfrm>
            <a:off x="1692360" y="115920"/>
            <a:ext cx="61992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IMG_0002"/>
          <p:cNvPicPr/>
          <p:nvPr/>
        </p:nvPicPr>
        <p:blipFill>
          <a:blip r:embed="rId1"/>
          <a:stretch/>
        </p:blipFill>
        <p:spPr>
          <a:xfrm>
            <a:off x="1817640" y="0"/>
            <a:ext cx="61405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IMG_0004"/>
          <p:cNvPicPr/>
          <p:nvPr/>
        </p:nvPicPr>
        <p:blipFill>
          <a:blip r:embed="rId1"/>
          <a:stretch/>
        </p:blipFill>
        <p:spPr>
          <a:xfrm>
            <a:off x="900000" y="235080"/>
            <a:ext cx="727236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1116000" y="4221000"/>
            <a:ext cx="1368360" cy="107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16000" y="2781360"/>
            <a:ext cx="136692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187280" y="1125360"/>
            <a:ext cx="1224000" cy="1152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916360" y="1413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-СКАЗ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916360" y="2781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-РАССК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627280" y="450864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СТИХО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627280" y="765000"/>
            <a:ext cx="453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5000" spc="-1" strike="noStrike">
                <a:solidFill>
                  <a:srgbClr val="0000ff"/>
                </a:solidFill>
                <a:latin typeface="Arial"/>
              </a:rPr>
              <a:t>О Родин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627280" y="2060640"/>
            <a:ext cx="4249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Arial"/>
              </a:rPr>
              <a:t>- О детях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556000" y="3500280"/>
            <a:ext cx="475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Arial"/>
              </a:rPr>
              <a:t>- О животных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360" y="5084640"/>
            <a:ext cx="51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Arial"/>
              </a:rPr>
              <a:t>- О природ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71640" y="765000"/>
            <a:ext cx="1296720" cy="935280"/>
          </a:xfrm>
          <a:prstGeom prst="rect">
            <a:avLst/>
          </a:prstGeom>
          <a:solidFill>
            <a:srgbClr val="f54819"/>
          </a:solidFill>
          <a:ln w="9360">
            <a:solidFill>
              <a:srgbClr val="f548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71640" y="2060640"/>
            <a:ext cx="1296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971640" y="3500280"/>
            <a:ext cx="1296720" cy="91440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971640" y="5157720"/>
            <a:ext cx="1296720" cy="863640"/>
          </a:xfrm>
          <a:prstGeom prst="rect">
            <a:avLst/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7:16Z</dcterms:created>
  <dc:creator>Admin</dc:creator>
  <dc:description/>
  <dc:language>en-US</dc:language>
  <cp:lastModifiedBy>Олег</cp:lastModifiedBy>
  <dcterms:modified xsi:type="dcterms:W3CDTF">2013-09-29T10:25:51Z</dcterms:modified>
  <cp:revision>39</cp:revision>
  <dc:subject/>
  <dc:title>Слайд 1</dc:title>
</cp:coreProperties>
</file>