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8C4B-B336-4671-BF1A-AD50803B9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2ED3-D177-45D2-9668-A5D9776A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643E-EAD2-49AC-9D76-2CA2D4B3E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E5F9-7387-4D97-BFAA-A3B37D4E0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8CA0-5440-42EF-BBDC-BD7343B1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37AF-4637-4EC8-97F7-4453D272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071C-0B75-467B-ABC1-5A3D5AFB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2A4F-A203-4CB0-81A6-AEE75170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0314-BFCD-445B-9788-324AFC40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0872-C6E5-41D3-BC8F-AA46C879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EB55-6461-41AB-9B76-CBC6EA21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A26C-9B9E-4500-8B3C-3B283E30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1EC4-5AB6-4A11-8179-466E2D180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Пожа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ила пожарной безопасности.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кл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4952880"/>
            <a:ext cx="6172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ыполни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итель ОБЖ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КОУ «Нарышкинская СОШ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ёпло-Огарёвского райо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ульской обла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зырь Юрий Дмитриеви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012160" y="5410080"/>
            <a:ext cx="839880" cy="1219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1606680" cy="2133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943600" y="22860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52280" y="312408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Основное правило тушения огн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заключается в следующе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накройте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 горящий предмет плотной тканью или одеяло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немедленно выходите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 из помещени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плотно закрыв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 за собой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дверь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00040" y="-1798920"/>
            <a:ext cx="2286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657240" y="4571640"/>
            <a:ext cx="1522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1760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Если на вас надвигается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огненный вал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е мешкая </a:t>
            </a:r>
            <a:r>
              <a:rPr b="1" i="1" lang="en-US" sz="4000" spc="-1" strike="noStrike" u="sng">
                <a:solidFill>
                  <a:srgbClr val="333399"/>
                </a:solidFill>
                <a:uFillTx/>
                <a:latin typeface="Arial"/>
              </a:rPr>
              <a:t>падайте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333399"/>
                </a:solidFill>
                <a:uFillTx/>
                <a:latin typeface="Arial"/>
              </a:rPr>
              <a:t>закрыв голов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влажной тканью (руками или одеждой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этот момент </a:t>
            </a:r>
            <a:r>
              <a:rPr b="1" i="1" lang="en-US" sz="4000" spc="-1" strike="noStrike" u="sng">
                <a:solidFill>
                  <a:srgbClr val="333399"/>
                </a:solidFill>
                <a:uFillTx/>
                <a:latin typeface="Arial"/>
              </a:rPr>
              <a:t>не дышит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чтобы не получить ожог внутренних орган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0920" y="411120"/>
            <a:ext cx="45720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80720" y="335232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94040" y="0"/>
            <a:ext cx="523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Основные признаки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возгора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телевизо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тельная работа включенного телевизора без присмо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адание различных предметов в отверстие задней панели (как правило, по вине дет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ка телевизора у батареи отопления, в мебельной стенке, в результате чего оноплохо охлаждается (может произойти разрыв оболочки электро-лучевой трубки и после потрескивания появиться синеватый ды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553080" y="5429160"/>
            <a:ext cx="19335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8640" y="-2827080"/>
            <a:ext cx="2286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723920" y="3809520"/>
            <a:ext cx="228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663300"/>
                </a:solidFill>
                <a:uFillTx/>
                <a:latin typeface="Arial"/>
              </a:rPr>
              <a:t>Огнестойкост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зда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Возможность возникновения пожар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 зданиях и особенно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масштабы распространения огн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 н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завися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т тог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из каких строительных конструкций  и материалов они сделан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каковы размеры з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их планиров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205740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8000"/>
                </a:solidFill>
                <a:uFillTx/>
                <a:latin typeface="Arial"/>
              </a:rPr>
              <a:t>Строительные конструкции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 бываю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аль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Железобетон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мен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еревян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ластмассов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743200" y="1371600"/>
            <a:ext cx="1676520" cy="1257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038480" y="18288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410080" y="2971800"/>
            <a:ext cx="1600200" cy="1500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781680" y="3124080"/>
            <a:ext cx="1320840" cy="1962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7543800" y="5105520"/>
            <a:ext cx="1401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Средства пожаротушения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нутренние пожарные кр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гнетушит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жарные щи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019920" y="2209680"/>
            <a:ext cx="28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809880" y="3429000"/>
            <a:ext cx="2286000" cy="1606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91120" y="542916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6410160" y="5429160"/>
            <a:ext cx="2733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14240" y="1058400"/>
            <a:ext cx="12193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76360" y="41907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ысячи лет назад люди научились добывать огонь. Он был и остаётся одним из первых помощников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з огня невозможна жизнь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н нужен всюду: в домах и школах, на заводах и фабриках. Огонь костра, огонь в печи, огонь газовой горелки человек использует и сего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848720" y="55627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544920" y="1447920"/>
            <a:ext cx="1436760" cy="1752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5562720"/>
            <a:ext cx="17524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660066"/>
                </a:solidFill>
                <a:uFillTx/>
                <a:latin typeface="Arial"/>
              </a:rPr>
              <a:t>Виды</a:t>
            </a:r>
            <a:r>
              <a:rPr b="1" i="1" lang="en-US" sz="4000" spc="-1" strike="noStrike" u="sng">
                <a:solidFill>
                  <a:srgbClr val="008000"/>
                </a:solidFill>
                <a:uFillTx/>
                <a:latin typeface="Arial"/>
              </a:rPr>
              <a:t> огнетушител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3029040" cy="2046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048120" y="2565360"/>
            <a:ext cx="3276360" cy="2184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562720" y="4807080"/>
            <a:ext cx="358128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Правила пользования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ОХП-10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Поднести огнетушитель к очаг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жа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Прочистить спрыск (шпилько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голко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Поднять рукоятку и перекину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 отказа на 180 граду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Направить струю на очаг загор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277040" y="1676520"/>
            <a:ext cx="186696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Правила пользования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углекислотным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 огнетушител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рвать плом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дернуть че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править раструб на пла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жать на рыча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502320" y="2895480"/>
            <a:ext cx="26416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тушении пожара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углекислотным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гнетушителем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не допускаетс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ржать огнетушитель в горизонтальном положении или переворачивать головкой вни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касаться оголёнными частями тела к раструбу, так как температура на его поверхности может понижаться до минус 60-70 граду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тушении электроустановок, находящихся под напряжением, подводить раструб ближе чем на 1 метр к электроустановке и пла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924680" y="1371600"/>
            <a:ext cx="9651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Огнетушител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приводят в действ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использую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 соответствии с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инструкцие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завода-изготовителя, размещённой на корпусе устрой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3124080" cy="2342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809880" y="3200400"/>
            <a:ext cx="2800440" cy="2800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345440" y="2895480"/>
            <a:ext cx="13032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В.Поляков, М.И.Кузнецов, В.В.Марков, В.Н.Латчук «Основы безопасности жизнедеятельности». 5 класс. Дрофа. Москва 201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mages.yandex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410080" y="2133720"/>
            <a:ext cx="3394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 если дать огню волю, не соблюдать правила пожарной безопасности, то добро превращается в з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России ежегодно возникает более 300 тысяч пожаров, при которых погибает более 18-19 тысяч человек. Свыше 80% пожаров возникает в жилых домах, дачных и садовых домиках. При этом примерно каждый шестой пожар в жилых домах происходит по вине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86200" y="5640480"/>
            <a:ext cx="1600200" cy="1217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00400" y="1219320"/>
            <a:ext cx="2152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Опасные факторы пожар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воздействующие на люде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крытый огон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пература сред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ксичные продукты гор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теря видимости вследствие задымл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нижение концентрации кислор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581280" y="1390680"/>
            <a:ext cx="1371600" cy="1028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800600" y="2190600"/>
            <a:ext cx="1981080" cy="1238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477120" y="2876400"/>
            <a:ext cx="1676160" cy="1427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229520" y="4800600"/>
            <a:ext cx="1914480" cy="1276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2743200" y="5781600"/>
            <a:ext cx="175248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Причин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пожар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осторожное обращение с огн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ушение правил безопасности при пользовании электробытовыми и электронагревательными прибо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ушение правил хранения и использования горючих и легковоспламеняющихся жидк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течка г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спечность, небрежность и просто недисциплинированность при обращении с огн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осторожное обращение с пиротехническими издел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934320" y="11160"/>
            <a:ext cx="1981080" cy="1593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276720" y="2214720"/>
            <a:ext cx="914400" cy="852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620120" y="2724120"/>
            <a:ext cx="1523880" cy="955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895480" y="3581280"/>
            <a:ext cx="1676520" cy="1138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6248520" y="3754440"/>
            <a:ext cx="1676160" cy="1251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7696080" y="5772240"/>
            <a:ext cx="144792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Что делат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если в квартире начался пожа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бояться позвать на помощь взросл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возможно, покинуть помещение, проверив, не остались ли в квартире те, кто не может выбраться сам (маленькие дети, больные, старик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нет взрослых, позвонить в пожарную охрану по телефону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1, сообщив точный адрес, что и где горит, свою фамилию и номер телефо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343400" y="3733920"/>
            <a:ext cx="406440" cy="609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334120" y="3733920"/>
            <a:ext cx="406440" cy="609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7859880" y="5943600"/>
            <a:ext cx="652320" cy="914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80880" y="914400"/>
            <a:ext cx="106704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Чего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нельзя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делать при возгорании в кварти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начинайте тушить огонь до вызова пожарных (за это время может разгореться большой пожар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пытайтесь выйти через задымлённую лестничную клетку (горячий воздух обжигает лёгкие, а дым очень токсиче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пользуйтесь лиф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спускайтесь по водосточным трубам и стоякам либо при помощи простыней и верёвок, если в этом нет острой необходимости (падение при отсутствии особых навыков почти всегда неизбеж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96080" y="3200400"/>
            <a:ext cx="1114560" cy="838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324480" y="3200400"/>
            <a:ext cx="706680" cy="990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924680" y="6045120"/>
            <a:ext cx="121932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го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нельз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делать при возгорании в кварти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открывайте окна и двери (это увеличит приток кислород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выпрыгивайте из окон (статистика показывает, что каждый второй прыжок с 4 этажа и выше смертелен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гасите водой включённые в сеть электроприборы (может произойти замыкани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238880" y="1314360"/>
            <a:ext cx="1676520" cy="1257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934320" y="342900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809880" y="542916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жно ли самим потушить огон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Иног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ожно.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Вызвав пожарны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загоревшуюся занавеску можно просто сорвать и бросить на пол,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набросить сверху плотную ткан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а потом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залить водо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Огонь не может гореть без доступа воздуха – на этом основано большинство способов тушения пожа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Но не надо переоценивать свои силы: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нельзя долго бороться с огнём, так как можно надышаться дымом и потерять созн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8T05:46:45Z</dcterms:created>
  <dc:creator>гкгк74</dc:creator>
  <dc:description/>
  <dc:language>en-US</dc:language>
  <cp:lastModifiedBy>а</cp:lastModifiedBy>
  <dcterms:modified xsi:type="dcterms:W3CDTF">2013-09-29T14:49:18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