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A5A-0F10-45B1-9842-6488F232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009-88BB-40E3-9FF7-850CD607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36A-FA15-475D-A344-90B044F2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FA6-F137-4FA1-8BEF-102B17DB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747-9601-4F54-B1A8-9EFDCAB2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A41-8ACD-4D1D-835C-6C858A5F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FD5E-0639-467F-BF44-DB285892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1DA6-0C64-4133-B46F-5DB8AA6F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16F-F45B-4454-9A54-5AD44197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CE5-3AB8-4766-A551-8D64AA0A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A7A-FBF9-4057-8FAD-94E09611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EE0-8987-498E-BDFF-752EE905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1154-5EDC-44B7-A61F-F543F619A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3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50000">
              <a:srgbClr val="eaeaea"/>
            </a:gs>
            <a:gs pos="100000">
              <a:srgbClr val="6b6b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6960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2f00"/>
                </a:solidFill>
                <a:latin typeface="Arial Black"/>
              </a:rPr>
              <a:t>ПРАВИЛА </a:t>
            </a:r>
            <a:br>
              <a:rPr sz="4000"/>
            </a:br>
            <a:r>
              <a:rPr b="0" lang="en-US" sz="4000" spc="-1" strike="noStrike">
                <a:solidFill>
                  <a:srgbClr val="f62f00"/>
                </a:solidFill>
                <a:latin typeface="Arial Black"/>
              </a:rPr>
              <a:t>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8680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914400" y="3352680"/>
            <a:ext cx="2011320" cy="2981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6248520" y="3049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елтый сигнал светофора говорит нам о том, что нужно приготов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860640" y="6172200"/>
            <a:ext cx="82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5678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зеленый сигнал светофора можно переходить до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733560" y="5943600"/>
            <a:ext cx="82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4800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еходи дорогу только на зеленый сигнал свето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6684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267080" y="0"/>
            <a:ext cx="763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839080" y="0"/>
            <a:ext cx="5335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924680" y="152280"/>
            <a:ext cx="685800" cy="2667240"/>
            <a:chOff x="7924680" y="152280"/>
            <a:chExt cx="685800" cy="2667240"/>
          </a:xfrm>
        </p:grpSpPr>
        <p:grpSp>
          <p:nvGrpSpPr>
            <p:cNvPr id="330" name=""/>
            <p:cNvGrpSpPr/>
            <p:nvPr/>
          </p:nvGrpSpPr>
          <p:grpSpPr>
            <a:xfrm>
              <a:off x="7924680" y="152280"/>
              <a:ext cx="685800" cy="2667240"/>
              <a:chOff x="7924680" y="152280"/>
              <a:chExt cx="685800" cy="266724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7924680" y="152280"/>
                <a:ext cx="685800" cy="1725840"/>
                <a:chOff x="7924680" y="152280"/>
                <a:chExt cx="685800" cy="17258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924680" y="152280"/>
                  <a:ext cx="685800" cy="17258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8073720" y="271800"/>
                  <a:ext cx="387360" cy="36288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073720" y="756000"/>
                  <a:ext cx="387360" cy="3628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073720" y="1270800"/>
                  <a:ext cx="387360" cy="36288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 flipH="1">
                <a:off x="8000640" y="2819520"/>
                <a:ext cx="495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153280" y="1878120"/>
                <a:ext cx="228600" cy="9414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061480" y="270720"/>
              <a:ext cx="411120" cy="355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61480" y="744840"/>
              <a:ext cx="411120" cy="355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344" name=""/>
          <p:cNvGrpSpPr/>
          <p:nvPr/>
        </p:nvGrpSpPr>
        <p:grpSpPr>
          <a:xfrm>
            <a:off x="7776000" y="2982240"/>
            <a:ext cx="1124640" cy="2883960"/>
            <a:chOff x="7776000" y="2982240"/>
            <a:chExt cx="1124640" cy="2883960"/>
          </a:xfrm>
        </p:grpSpPr>
        <p:sp>
          <p:nvSpPr>
            <p:cNvPr id="345" name=""/>
            <p:cNvSpPr/>
            <p:nvPr/>
          </p:nvSpPr>
          <p:spPr>
            <a:xfrm rot="481800">
              <a:off x="7845480" y="3047760"/>
              <a:ext cx="1001520" cy="8362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7776000" y="3352680"/>
              <a:ext cx="986400" cy="2513520"/>
              <a:chOff x="7776000" y="3352680"/>
              <a:chExt cx="986400" cy="251352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7776000" y="3352680"/>
                <a:ext cx="978480" cy="2513520"/>
                <a:chOff x="7776000" y="3352680"/>
                <a:chExt cx="978480" cy="25135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8061120" y="3352680"/>
                  <a:ext cx="467640" cy="4003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178480" y="3810240"/>
                  <a:ext cx="232920" cy="5709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19934400">
                  <a:off x="7772400" y="3936600"/>
                  <a:ext cx="525240" cy="114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2035200">
                  <a:off x="8295480" y="3922920"/>
                  <a:ext cx="466560" cy="11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03880" y="4323960"/>
                  <a:ext cx="583920" cy="154224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178480" y="34675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353080" y="34675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178480" y="3637800"/>
                  <a:ext cx="174240" cy="5724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7848360" y="4974480"/>
                <a:ext cx="30420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457840" y="4974480"/>
                <a:ext cx="30456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4000"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5678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3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светофора нет, начиная переход, надо посмотреть налево, дойти до середины дорог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952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267080" y="0"/>
            <a:ext cx="763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0" y="0"/>
            <a:ext cx="457200" cy="7010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87600" y="2682720"/>
            <a:ext cx="1040760" cy="2802600"/>
            <a:chOff x="687600" y="2682720"/>
            <a:chExt cx="1040760" cy="2802600"/>
          </a:xfrm>
        </p:grpSpPr>
        <p:sp>
          <p:nvSpPr>
            <p:cNvPr id="369" name=""/>
            <p:cNvSpPr/>
            <p:nvPr/>
          </p:nvSpPr>
          <p:spPr>
            <a:xfrm rot="481800">
              <a:off x="752760" y="2743200"/>
              <a:ext cx="923040" cy="8139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687600" y="3039840"/>
              <a:ext cx="910800" cy="2445480"/>
              <a:chOff x="687600" y="3039840"/>
              <a:chExt cx="910800" cy="244548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687600" y="3039840"/>
                <a:ext cx="905400" cy="2445480"/>
                <a:chOff x="687600" y="3039840"/>
                <a:chExt cx="905400" cy="24454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951840" y="3039840"/>
                  <a:ext cx="431280" cy="3891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060200" y="3485160"/>
                  <a:ext cx="214920" cy="55548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rot="19934400">
                  <a:off x="685440" y="3607920"/>
                  <a:ext cx="484200" cy="11160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2035200">
                  <a:off x="1167840" y="3594960"/>
                  <a:ext cx="430200" cy="11160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99280" y="3984840"/>
                  <a:ext cx="538200" cy="150048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060200" y="3151440"/>
                  <a:ext cx="54000" cy="54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221120" y="3151440"/>
                  <a:ext cx="54000" cy="54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060200" y="3317400"/>
                  <a:ext cx="160560" cy="5580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>
                <a:off x="756000" y="4617720"/>
                <a:ext cx="280440" cy="15768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317600" y="4617720"/>
                <a:ext cx="280800" cy="15768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2" name=""/>
          <p:cNvSpPr/>
          <p:nvPr/>
        </p:nvSpPr>
        <p:spPr>
          <a:xfrm>
            <a:off x="2209680" y="1295280"/>
            <a:ext cx="533520" cy="1219320"/>
          </a:xfrm>
          <a:prstGeom prst="upArrow">
            <a:avLst>
              <a:gd name="adj1" fmla="val 50000"/>
              <a:gd name="adj2" fmla="val 571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972640" y="0"/>
            <a:ext cx="171360" cy="701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-3808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8242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242"/>
                            </p:stCondLst>
                            <p:childTnLst>
                              <p:par>
                                <p:cTn id="1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022E-016 L 0.32916 1.11022E-016 E">
                                      <p:cBhvr>
                                        <p:cTn id="159" dur="3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том посмотреть направо и переходить дорогу дал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2895480"/>
            <a:ext cx="8763120" cy="358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66840" y="2895480"/>
            <a:ext cx="73008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873520" y="2895480"/>
            <a:ext cx="73008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52920" y="2895480"/>
            <a:ext cx="7304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32680" y="2895480"/>
            <a:ext cx="73008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912080" y="2895480"/>
            <a:ext cx="7304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267080" y="0"/>
            <a:ext cx="763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0" y="0"/>
            <a:ext cx="457200" cy="7010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15000" y="571500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813480" y="3439440"/>
            <a:ext cx="1124640" cy="2883960"/>
            <a:chOff x="3813480" y="3439440"/>
            <a:chExt cx="1124640" cy="2883960"/>
          </a:xfrm>
        </p:grpSpPr>
        <p:sp>
          <p:nvSpPr>
            <p:cNvPr id="398" name=""/>
            <p:cNvSpPr/>
            <p:nvPr/>
          </p:nvSpPr>
          <p:spPr>
            <a:xfrm rot="481800">
              <a:off x="3882960" y="3504960"/>
              <a:ext cx="1001520" cy="8362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813480" y="3809880"/>
              <a:ext cx="986400" cy="2513520"/>
              <a:chOff x="3813480" y="3809880"/>
              <a:chExt cx="986400" cy="251352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3813480" y="3809880"/>
                <a:ext cx="978480" cy="2513520"/>
                <a:chOff x="3813480" y="3809880"/>
                <a:chExt cx="978480" cy="25135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098600" y="3809880"/>
                  <a:ext cx="467640" cy="4003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215960" y="4267440"/>
                  <a:ext cx="232920" cy="5709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19934400">
                  <a:off x="3809880" y="4393800"/>
                  <a:ext cx="525240" cy="114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rot="2035200">
                  <a:off x="4332960" y="4380120"/>
                  <a:ext cx="466560" cy="11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041360" y="4781160"/>
                  <a:ext cx="583920" cy="154224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215960" y="39247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390560" y="39247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215960" y="4095000"/>
                  <a:ext cx="174240" cy="5724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3885840" y="5431680"/>
                <a:ext cx="30420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95320" y="5431680"/>
                <a:ext cx="30456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991720" y="0"/>
            <a:ext cx="152280" cy="701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6306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.49167 1.11111E-006 E">
                                      <p:cBhvr>
                                        <p:cTn id="170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не успел перейти дорогу – остановись и подожди зеленый сигнал светофора на центральной линии или островке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581280" y="1676520"/>
            <a:ext cx="1600200" cy="5181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1972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058320" y="0"/>
            <a:ext cx="856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889800" y="2601000"/>
            <a:ext cx="1124640" cy="2884680"/>
            <a:chOff x="3889800" y="2601000"/>
            <a:chExt cx="1124640" cy="2884680"/>
          </a:xfrm>
        </p:grpSpPr>
        <p:sp>
          <p:nvSpPr>
            <p:cNvPr id="420" name=""/>
            <p:cNvSpPr/>
            <p:nvPr/>
          </p:nvSpPr>
          <p:spPr>
            <a:xfrm rot="481800">
              <a:off x="3959280" y="2666520"/>
              <a:ext cx="1001520" cy="83664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3889800" y="2971800"/>
              <a:ext cx="986400" cy="2513880"/>
              <a:chOff x="3889800" y="2971800"/>
              <a:chExt cx="986400" cy="251388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3889800" y="2971800"/>
                <a:ext cx="978480" cy="2513880"/>
                <a:chOff x="3889800" y="2971800"/>
                <a:chExt cx="978480" cy="25138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4174920" y="2971800"/>
                  <a:ext cx="467640" cy="4003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292280" y="3429360"/>
                  <a:ext cx="232920" cy="5709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rot="19934400">
                  <a:off x="3886200" y="3556080"/>
                  <a:ext cx="525240" cy="114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2035200">
                  <a:off x="4409280" y="3542040"/>
                  <a:ext cx="466560" cy="11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117680" y="3943440"/>
                  <a:ext cx="583920" cy="154224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292280" y="308664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466880" y="308664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292280" y="3256920"/>
                  <a:ext cx="174240" cy="5724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3962160" y="4593960"/>
                <a:ext cx="30420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71640" y="4593960"/>
                <a:ext cx="30456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8001000" y="609480"/>
            <a:ext cx="952560" cy="19414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52280" y="5105520"/>
            <a:ext cx="860400" cy="17524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534520" y="-3808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57200" y="274320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28800" y="274320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43000" y="274320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90920" y="2743200"/>
            <a:ext cx="3045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10080" y="281952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48520" y="2819520"/>
            <a:ext cx="3045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281952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620120" y="2819520"/>
            <a:ext cx="3045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81880" y="281952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6"/>
          <a:stretch/>
        </p:blipFill>
        <p:spPr>
          <a:xfrm>
            <a:off x="6781680" y="5715000"/>
            <a:ext cx="171288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7"/>
          <a:stretch/>
        </p:blipFill>
        <p:spPr>
          <a:xfrm rot="21478200">
            <a:off x="837720" y="-1611360"/>
            <a:ext cx="2819520" cy="1611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1065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30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30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нет светофора, движение на дороге регулирует постовой - милицио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562720" y="914400"/>
            <a:ext cx="2935080" cy="3790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0" y="0"/>
            <a:ext cx="8839080" cy="6858000"/>
          </a:xfrm>
          <a:prstGeom prst="rtTriangl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04920"/>
            <a:ext cx="8381880" cy="6553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4114800"/>
            <a:ext cx="3276720" cy="274320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532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5"/>
          <a:stretch/>
        </p:blipFill>
        <p:spPr>
          <a:xfrm>
            <a:off x="3505320" y="4724280"/>
            <a:ext cx="4120920" cy="2903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7214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3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льзя играть на проезжей ча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1066680"/>
            <a:ext cx="0" cy="579132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300680" y="3291480"/>
            <a:ext cx="1029240" cy="2422800"/>
            <a:chOff x="1300680" y="3291480"/>
            <a:chExt cx="1029240" cy="2422800"/>
          </a:xfrm>
        </p:grpSpPr>
        <p:sp>
          <p:nvSpPr>
            <p:cNvPr id="458" name=""/>
            <p:cNvSpPr/>
            <p:nvPr/>
          </p:nvSpPr>
          <p:spPr>
            <a:xfrm rot="481800">
              <a:off x="1362240" y="3352320"/>
              <a:ext cx="923040" cy="70092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300680" y="3607920"/>
              <a:ext cx="907200" cy="2106360"/>
              <a:chOff x="1300680" y="3607920"/>
              <a:chExt cx="907200" cy="210636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1300680" y="3607920"/>
                <a:ext cx="897480" cy="2106360"/>
                <a:chOff x="1300680" y="3607920"/>
                <a:chExt cx="897480" cy="210636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1561320" y="3607920"/>
                  <a:ext cx="431280" cy="3351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669680" y="3991320"/>
                  <a:ext cx="214920" cy="4784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rot="19934400">
                  <a:off x="1294920" y="4097160"/>
                  <a:ext cx="484200" cy="9612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rot="2035200">
                  <a:off x="1777320" y="4085640"/>
                  <a:ext cx="430200" cy="9612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508760" y="4421880"/>
                  <a:ext cx="538200" cy="129240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669680" y="3704040"/>
                  <a:ext cx="5400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830600" y="3704040"/>
                  <a:ext cx="5400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669680" y="3846960"/>
                  <a:ext cx="160560" cy="47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>
                <a:off x="1365480" y="4966920"/>
                <a:ext cx="28044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927080" y="4966920"/>
                <a:ext cx="28080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7090200" y="3144240"/>
            <a:ext cx="955440" cy="2417760"/>
            <a:chOff x="7090200" y="3144240"/>
            <a:chExt cx="955440" cy="2417760"/>
          </a:xfrm>
        </p:grpSpPr>
        <p:sp>
          <p:nvSpPr>
            <p:cNvPr id="472" name=""/>
            <p:cNvSpPr/>
            <p:nvPr/>
          </p:nvSpPr>
          <p:spPr>
            <a:xfrm rot="481800">
              <a:off x="7148520" y="3200040"/>
              <a:ext cx="852120" cy="70092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7090200" y="3455640"/>
              <a:ext cx="838800" cy="2106360"/>
              <a:chOff x="7090200" y="3455640"/>
              <a:chExt cx="838800" cy="210636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7090200" y="3455640"/>
                <a:ext cx="831600" cy="2106360"/>
                <a:chOff x="7090200" y="3455640"/>
                <a:chExt cx="831600" cy="21063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7332480" y="3455640"/>
                  <a:ext cx="397800" cy="3351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432200" y="3839040"/>
                  <a:ext cx="198360" cy="4784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19934400">
                  <a:off x="7086600" y="3945240"/>
                  <a:ext cx="447120" cy="9612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2035200">
                  <a:off x="7531560" y="3933720"/>
                  <a:ext cx="397080" cy="9612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283520" y="4269600"/>
                  <a:ext cx="496800" cy="129240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432200" y="3551760"/>
                  <a:ext cx="4968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580880" y="3551760"/>
                  <a:ext cx="4968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432200" y="3694680"/>
                  <a:ext cx="148320" cy="47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7151400" y="4814640"/>
                <a:ext cx="25884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669800" y="4814640"/>
                <a:ext cx="25920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"/>
          <p:cNvSpPr/>
          <p:nvPr/>
        </p:nvSpPr>
        <p:spPr>
          <a:xfrm>
            <a:off x="2514600" y="3581280"/>
            <a:ext cx="609480" cy="609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-60948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228600" y="838080"/>
            <a:ext cx="15228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839080" y="838080"/>
            <a:ext cx="15264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3672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 repeatCount="1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3941 -0.07977 C 0.04601 -0.10035 0.05747 -0.10566 0.06893 -0.11653 C 0.08091 -0.1274 0.09202 -0.14035 0.10556 -0.1452 C 0.1441 -0.1778 0.21476 -0.16439 0.24549 -0.16485 C 0.25608 -0.16948 0.27795 -0.16023 0.27795 -0.15977 C 0.27986 -0.15838 0.28195 -0.15653 0.28386 -0.15514 C 0.28577 -0.15399 0.28785 -0.15399 0.28993 -0.15283 C 0.29427 -0.14959 0.29861 -0.14428 0.30313 -0.14058 C 0.31198 -0.13364 0.32309 -0.1304 0.33264 -0.12832 C 0.34045 -0.12185 0.34723 -0.10983 0.3533 -0.09896 C 0.35834 -0.07861 0.36771 -0.07561 0.3783 -0.06289 C 0.38473 -0.04647 0.39098 -0.03098 0.39896 -0.01665 C 0.40157 -0.01156 0.40764 -0.00208 0.40764 -0.00162 C 0.40938 0.00578 0.41511 0.01989 0.41511 0.02012 C 0.41667 0.04254 0.41667 0.03422 0.41667 0.04439 E">
                                      <p:cBhvr>
                                        <p:cTn id="202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ccec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ходи дорогу только тогда, когда общественный транспорт отойдет от остан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3962520"/>
            <a:ext cx="91440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971800" y="2133720"/>
            <a:ext cx="304812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19520" y="1752480"/>
            <a:ext cx="3429000" cy="3812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76720" y="3276720"/>
            <a:ext cx="243828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3505320"/>
            <a:ext cx="228600" cy="4572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3505320"/>
            <a:ext cx="228600" cy="4572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2743200"/>
            <a:ext cx="15264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5715000"/>
            <a:ext cx="9144000" cy="7632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4724280" cy="24084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845820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6400800" y="4648320"/>
            <a:ext cx="2438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00800" y="525780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0800" y="586728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400800" y="655308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7090200" y="2458440"/>
            <a:ext cx="955440" cy="2417760"/>
            <a:chOff x="7090200" y="2458440"/>
            <a:chExt cx="955440" cy="2417760"/>
          </a:xfrm>
        </p:grpSpPr>
        <p:sp>
          <p:nvSpPr>
            <p:cNvPr id="506" name=""/>
            <p:cNvSpPr/>
            <p:nvPr/>
          </p:nvSpPr>
          <p:spPr>
            <a:xfrm rot="481800">
              <a:off x="7148520" y="2514240"/>
              <a:ext cx="852120" cy="70092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7090200" y="2769840"/>
              <a:ext cx="838800" cy="2106360"/>
              <a:chOff x="7090200" y="2769840"/>
              <a:chExt cx="838800" cy="2106360"/>
            </a:xfrm>
          </p:grpSpPr>
          <p:grpSp>
            <p:nvGrpSpPr>
              <p:cNvPr id="508" name=""/>
              <p:cNvGrpSpPr/>
              <p:nvPr/>
            </p:nvGrpSpPr>
            <p:grpSpPr>
              <a:xfrm>
                <a:off x="7090200" y="2769840"/>
                <a:ext cx="831600" cy="2106360"/>
                <a:chOff x="7090200" y="2769840"/>
                <a:chExt cx="831600" cy="21063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7332480" y="2769840"/>
                  <a:ext cx="397800" cy="3351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432200" y="3153240"/>
                  <a:ext cx="198360" cy="4784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9934400">
                  <a:off x="7086600" y="3259440"/>
                  <a:ext cx="447120" cy="9612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2035200">
                  <a:off x="7531560" y="3247920"/>
                  <a:ext cx="397080" cy="9612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283520" y="3583800"/>
                  <a:ext cx="496800" cy="129240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432200" y="2865960"/>
                  <a:ext cx="4968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580880" y="2865960"/>
                  <a:ext cx="4968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432200" y="3008880"/>
                  <a:ext cx="148320" cy="47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"/>
              <p:cNvSpPr/>
              <p:nvPr/>
            </p:nvSpPr>
            <p:spPr>
              <a:xfrm>
                <a:off x="7151400" y="4128840"/>
                <a:ext cx="25884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69800" y="4128840"/>
                <a:ext cx="25920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"/>
          <p:cNvSpPr/>
          <p:nvPr/>
        </p:nvSpPr>
        <p:spPr>
          <a:xfrm>
            <a:off x="838080" y="2057400"/>
            <a:ext cx="1143000" cy="762120"/>
          </a:xfrm>
          <a:prstGeom prst="bevel">
            <a:avLst>
              <a:gd name="adj" fmla="val 7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14400" y="2286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6855" fill="hold"/>
                                        <p:tgtEl>
                                          <p:spTgt spid="5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30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855"/>
                            </p:stCondLst>
                            <p:childTnLst>
                              <p:par>
                                <p:cTn id="2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3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438280" y="1752480"/>
            <a:ext cx="419112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6477120" y="441972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856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3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т  проезжая часть, по ней едут маш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0" y="1676520"/>
            <a:ext cx="2287440" cy="1436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-2666880" y="4876920"/>
            <a:ext cx="2666880" cy="1433520"/>
            <a:chOff x="-2666880" y="4876920"/>
            <a:chExt cx="2666880" cy="1433520"/>
          </a:xfrm>
        </p:grpSpPr>
        <p:grpSp>
          <p:nvGrpSpPr>
            <p:cNvPr id="50" name=""/>
            <p:cNvGrpSpPr/>
            <p:nvPr/>
          </p:nvGrpSpPr>
          <p:grpSpPr>
            <a:xfrm>
              <a:off x="-2666880" y="4876920"/>
              <a:ext cx="2666880" cy="1433520"/>
              <a:chOff x="-2666880" y="4876920"/>
              <a:chExt cx="2666880" cy="1433520"/>
            </a:xfrm>
          </p:grpSpPr>
          <p:sp>
            <p:nvSpPr>
              <p:cNvPr id="51" name=""/>
              <p:cNvSpPr/>
              <p:nvPr/>
            </p:nvSpPr>
            <p:spPr>
              <a:xfrm>
                <a:off x="-2666880" y="4876920"/>
                <a:ext cx="2666880" cy="1194480"/>
              </a:xfrm>
              <a:custGeom>
                <a:avLst/>
                <a:gdLst/>
                <a:ahLst/>
                <a:rect l="l" t="t" r="r" b="b"/>
                <a:pathLst>
                  <a:path w="441" h="202">
                    <a:moveTo>
                      <a:pt x="21" y="98"/>
                    </a:moveTo>
                    <a:cubicBezTo>
                      <a:pt x="46" y="89"/>
                      <a:pt x="67" y="86"/>
                      <a:pt x="96" y="86"/>
                    </a:cubicBezTo>
                    <a:cubicBezTo>
                      <a:pt x="100" y="55"/>
                      <a:pt x="114" y="27"/>
                      <a:pt x="137" y="5"/>
                    </a:cubicBezTo>
                    <a:cubicBezTo>
                      <a:pt x="175" y="1"/>
                      <a:pt x="212" y="0"/>
                      <a:pt x="250" y="5"/>
                    </a:cubicBezTo>
                    <a:cubicBezTo>
                      <a:pt x="279" y="29"/>
                      <a:pt x="311" y="56"/>
                      <a:pt x="322" y="86"/>
                    </a:cubicBezTo>
                    <a:cubicBezTo>
                      <a:pt x="368" y="92"/>
                      <a:pt x="397" y="107"/>
                      <a:pt x="421" y="119"/>
                    </a:cubicBezTo>
                    <a:cubicBezTo>
                      <a:pt x="441" y="157"/>
                      <a:pt x="436" y="166"/>
                      <a:pt x="416" y="202"/>
                    </a:cubicBezTo>
                    <a:lnTo>
                      <a:pt x="16" y="202"/>
                    </a:lnTo>
                    <a:cubicBezTo>
                      <a:pt x="8" y="168"/>
                      <a:pt x="0" y="129"/>
                      <a:pt x="21" y="98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-801360" y="5854320"/>
                <a:ext cx="470520" cy="45612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-2157120" y="5854320"/>
                <a:ext cx="470880" cy="45612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1958760" y="4971240"/>
                <a:ext cx="1190520" cy="409680"/>
              </a:xfrm>
              <a:custGeom>
                <a:avLst/>
                <a:gdLst/>
                <a:ahLst/>
                <a:rect l="l" t="t" r="r" b="b"/>
                <a:pathLst>
                  <a:path w="183" h="68">
                    <a:moveTo>
                      <a:pt x="81" y="68"/>
                    </a:moveTo>
                    <a:lnTo>
                      <a:pt x="82" y="0"/>
                    </a:lnTo>
                    <a:cubicBezTo>
                      <a:pt x="51" y="1"/>
                      <a:pt x="42" y="2"/>
                      <a:pt x="28" y="8"/>
                    </a:cubicBezTo>
                    <a:cubicBezTo>
                      <a:pt x="13" y="22"/>
                      <a:pt x="1" y="43"/>
                      <a:pt x="0" y="68"/>
                    </a:cubicBezTo>
                    <a:lnTo>
                      <a:pt x="81" y="68"/>
                    </a:lnTo>
                    <a:close/>
                    <a:moveTo>
                      <a:pt x="98" y="1"/>
                    </a:moveTo>
                    <a:lnTo>
                      <a:pt x="98" y="68"/>
                    </a:lnTo>
                    <a:lnTo>
                      <a:pt x="183" y="67"/>
                    </a:lnTo>
                    <a:cubicBezTo>
                      <a:pt x="169" y="43"/>
                      <a:pt x="149" y="23"/>
                      <a:pt x="123" y="5"/>
                    </a:cubicBez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-1262520" y="5487120"/>
                <a:ext cx="499680" cy="45108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1" y="1"/>
                    </a:moveTo>
                    <a:lnTo>
                      <a:pt x="2" y="81"/>
                    </a:lnTo>
                    <a:lnTo>
                      <a:pt x="1" y="8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  <a:moveTo>
                      <a:pt x="1" y="81"/>
                    </a:moveTo>
                    <a:lnTo>
                      <a:pt x="1" y="81"/>
                    </a:lnTo>
                    <a:lnTo>
                      <a:pt x="1" y="81"/>
                    </a:lnTo>
                    <a:lnTo>
                      <a:pt x="1" y="81"/>
                    </a:lnTo>
                    <a:close/>
                    <a:moveTo>
                      <a:pt x="1" y="80"/>
                    </a:moveTo>
                    <a:lnTo>
                      <a:pt x="86" y="80"/>
                    </a:lnTo>
                    <a:lnTo>
                      <a:pt x="86" y="81"/>
                    </a:lnTo>
                    <a:lnTo>
                      <a:pt x="1" y="81"/>
                    </a:lnTo>
                    <a:lnTo>
                      <a:pt x="1" y="80"/>
                    </a:lnTo>
                    <a:close/>
                    <a:moveTo>
                      <a:pt x="87" y="81"/>
                    </a:moveTo>
                    <a:lnTo>
                      <a:pt x="87" y="81"/>
                    </a:lnTo>
                    <a:lnTo>
                      <a:pt x="86" y="81"/>
                    </a:lnTo>
                    <a:lnTo>
                      <a:pt x="86" y="81"/>
                    </a:lnTo>
                    <a:lnTo>
                      <a:pt x="87" y="81"/>
                    </a:lnTo>
                    <a:close/>
                    <a:moveTo>
                      <a:pt x="86" y="81"/>
                    </a:moveTo>
                    <a:lnTo>
                      <a:pt x="86" y="1"/>
                    </a:lnTo>
                    <a:lnTo>
                      <a:pt x="87" y="1"/>
                    </a:lnTo>
                    <a:lnTo>
                      <a:pt x="87" y="81"/>
                    </a:lnTo>
                    <a:lnTo>
                      <a:pt x="86" y="81"/>
                    </a:lnTo>
                    <a:close/>
                    <a:moveTo>
                      <a:pt x="87" y="1"/>
                    </a:moveTo>
                    <a:lnTo>
                      <a:pt x="87" y="1"/>
                    </a:lnTo>
                    <a:lnTo>
                      <a:pt x="87" y="1"/>
                    </a:lnTo>
                    <a:lnTo>
                      <a:pt x="87" y="1"/>
                    </a:lnTo>
                    <a:close/>
                    <a:moveTo>
                      <a:pt x="87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7" y="1"/>
                    </a:lnTo>
                    <a:lnTo>
                      <a:pt x="87" y="2"/>
                    </a:lnTo>
                    <a:close/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-1796040" y="5492880"/>
                <a:ext cx="465480" cy="445320"/>
              </a:xfrm>
              <a:custGeom>
                <a:avLst/>
                <a:gdLst/>
                <a:ahLst/>
                <a:rect l="l" t="t" r="r" b="b"/>
                <a:pathLst>
                  <a:path w="81" h="80">
                    <a:moveTo>
                      <a:pt x="80" y="80"/>
                    </a:moveTo>
                    <a:lnTo>
                      <a:pt x="8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80" y="80"/>
                    </a:lnTo>
                    <a:close/>
                    <a:moveTo>
                      <a:pt x="80" y="0"/>
                    </a:moveTo>
                    <a:lnTo>
                      <a:pt x="81" y="0"/>
                    </a:lnTo>
                    <a:lnTo>
                      <a:pt x="81" y="0"/>
                    </a:lnTo>
                    <a:lnTo>
                      <a:pt x="80" y="0"/>
                    </a:lnTo>
                    <a:close/>
                    <a:moveTo>
                      <a:pt x="8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0" y="0"/>
                    </a:lnTo>
                    <a:lnTo>
                      <a:pt x="80" y="1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  <a:moveTo>
                      <a:pt x="1" y="0"/>
                    </a:moveTo>
                    <a:lnTo>
                      <a:pt x="1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  <a:moveTo>
                      <a:pt x="1" y="49"/>
                    </a:moveTo>
                    <a:lnTo>
                      <a:pt x="0" y="48"/>
                    </a:lnTo>
                    <a:lnTo>
                      <a:pt x="0" y="48"/>
                    </a:lnTo>
                    <a:lnTo>
                      <a:pt x="1" y="48"/>
                    </a:lnTo>
                    <a:lnTo>
                      <a:pt x="1" y="49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8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cubicBezTo>
                      <a:pt x="4" y="48"/>
                      <a:pt x="7" y="48"/>
                      <a:pt x="10" y="49"/>
                    </a:cubicBezTo>
                    <a:lnTo>
                      <a:pt x="9" y="50"/>
                    </a:lnTo>
                    <a:cubicBezTo>
                      <a:pt x="7" y="49"/>
                      <a:pt x="4" y="49"/>
                      <a:pt x="1" y="49"/>
                    </a:cubicBezTo>
                    <a:lnTo>
                      <a:pt x="1" y="47"/>
                    </a:lnTo>
                    <a:close/>
                    <a:moveTo>
                      <a:pt x="10" y="49"/>
                    </a:moveTo>
                    <a:cubicBezTo>
                      <a:pt x="12" y="49"/>
                      <a:pt x="15" y="50"/>
                      <a:pt x="18" y="51"/>
                    </a:cubicBezTo>
                    <a:lnTo>
                      <a:pt x="17" y="52"/>
                    </a:lnTo>
                    <a:cubicBezTo>
                      <a:pt x="15" y="51"/>
                      <a:pt x="12" y="51"/>
                      <a:pt x="9" y="50"/>
                    </a:cubicBezTo>
                    <a:lnTo>
                      <a:pt x="10" y="49"/>
                    </a:lnTo>
                    <a:close/>
                    <a:moveTo>
                      <a:pt x="18" y="51"/>
                    </a:moveTo>
                    <a:cubicBezTo>
                      <a:pt x="31" y="56"/>
                      <a:pt x="42" y="66"/>
                      <a:pt x="48" y="80"/>
                    </a:cubicBezTo>
                    <a:lnTo>
                      <a:pt x="47" y="80"/>
                    </a:lnTo>
                    <a:cubicBezTo>
                      <a:pt x="41" y="66"/>
                      <a:pt x="31" y="57"/>
                      <a:pt x="17" y="52"/>
                    </a:cubicBezTo>
                    <a:lnTo>
                      <a:pt x="18" y="51"/>
                    </a:lnTo>
                    <a:close/>
                    <a:moveTo>
                      <a:pt x="47" y="80"/>
                    </a:moveTo>
                    <a:lnTo>
                      <a:pt x="47" y="80"/>
                    </a:lnTo>
                    <a:lnTo>
                      <a:pt x="47" y="80"/>
                    </a:lnTo>
                    <a:lnTo>
                      <a:pt x="47" y="80"/>
                    </a:lnTo>
                    <a:close/>
                    <a:moveTo>
                      <a:pt x="47" y="79"/>
                    </a:moveTo>
                    <a:lnTo>
                      <a:pt x="81" y="79"/>
                    </a:lnTo>
                    <a:lnTo>
                      <a:pt x="81" y="80"/>
                    </a:lnTo>
                    <a:lnTo>
                      <a:pt x="47" y="80"/>
                    </a:lnTo>
                    <a:lnTo>
                      <a:pt x="47" y="79"/>
                    </a:lnTo>
                    <a:close/>
                    <a:moveTo>
                      <a:pt x="81" y="80"/>
                    </a:moveTo>
                    <a:lnTo>
                      <a:pt x="81" y="80"/>
                    </a:lnTo>
                    <a:lnTo>
                      <a:pt x="81" y="80"/>
                    </a:lnTo>
                    <a:lnTo>
                      <a:pt x="81" y="80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160560" y="557064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5" y="10"/>
                    </a:moveTo>
                    <a:lnTo>
                      <a:pt x="0" y="0"/>
                    </a:lnTo>
                    <a:cubicBezTo>
                      <a:pt x="6" y="2"/>
                      <a:pt x="10" y="7"/>
                      <a:pt x="10" y="13"/>
                    </a:cubicBezTo>
                    <a:cubicBezTo>
                      <a:pt x="10" y="15"/>
                      <a:pt x="10" y="17"/>
                      <a:pt x="9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-2583720" y="5444280"/>
                <a:ext cx="64800" cy="12600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5" y="10"/>
                    </a:moveTo>
                    <a:lnTo>
                      <a:pt x="10" y="0"/>
                    </a:lnTo>
                    <a:cubicBezTo>
                      <a:pt x="4" y="2"/>
                      <a:pt x="0" y="7"/>
                      <a:pt x="0" y="13"/>
                    </a:cubicBezTo>
                    <a:cubicBezTo>
                      <a:pt x="0" y="15"/>
                      <a:pt x="1" y="17"/>
                      <a:pt x="2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-2176560" y="5538960"/>
                <a:ext cx="74520" cy="446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-474480" y="5538960"/>
                <a:ext cx="80640" cy="446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-2057400" y="5949000"/>
              <a:ext cx="292680" cy="28368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-701640" y="5949000"/>
              <a:ext cx="292680" cy="28368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114800" y="1981080"/>
            <a:ext cx="4648320" cy="1067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629400"/>
            <a:ext cx="91440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43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430"/>
                            </p:stCondLst>
                            <p:childTnLst>
                              <p:par>
                                <p:cTn id="3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743200"/>
            <a:ext cx="9144000" cy="1981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4648320"/>
            <a:ext cx="2133720" cy="22096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808080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0"/>
            <a:ext cx="2133720" cy="2743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281952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320040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396252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3581280"/>
            <a:ext cx="10670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434340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81952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3124080" y="5714640"/>
            <a:ext cx="10666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3885840" y="571500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4267080" y="5714640"/>
            <a:ext cx="10666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4647960" y="571500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3504960" y="571500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320040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3581280"/>
            <a:ext cx="10666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4038480"/>
            <a:ext cx="10666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441972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49860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49824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49860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562720" y="4724280"/>
            <a:ext cx="498240" cy="68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rot="5400000">
            <a:off x="3124080" y="1523880"/>
            <a:ext cx="10670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504600" y="152388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961800" y="152388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4342680" y="152388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4724280" y="1523880"/>
            <a:ext cx="10670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7339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4648320"/>
            <a:ext cx="0" cy="220968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181480"/>
            <a:ext cx="2819520" cy="1676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2819520" cy="2209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0"/>
            <a:ext cx="2895480" cy="21337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5257800"/>
            <a:ext cx="2971800" cy="16002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37339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0"/>
            <a:ext cx="0" cy="274320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52280" y="152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перекре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86800" y="7238880"/>
            <a:ext cx="233280" cy="23364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304920" y="3886200"/>
            <a:ext cx="1218960" cy="672840"/>
            <a:chOff x="304920" y="3886200"/>
            <a:chExt cx="1218960" cy="672840"/>
          </a:xfrm>
        </p:grpSpPr>
        <p:grpSp>
          <p:nvGrpSpPr>
            <p:cNvPr id="105" name=""/>
            <p:cNvGrpSpPr/>
            <p:nvPr/>
          </p:nvGrpSpPr>
          <p:grpSpPr>
            <a:xfrm>
              <a:off x="304920" y="3886200"/>
              <a:ext cx="1218960" cy="672840"/>
              <a:chOff x="304920" y="3886200"/>
              <a:chExt cx="1218960" cy="672840"/>
            </a:xfrm>
          </p:grpSpPr>
          <p:sp>
            <p:nvSpPr>
              <p:cNvPr id="106" name=""/>
              <p:cNvSpPr/>
              <p:nvPr/>
            </p:nvSpPr>
            <p:spPr>
              <a:xfrm>
                <a:off x="304920" y="3886200"/>
                <a:ext cx="1218960" cy="560520"/>
              </a:xfrm>
              <a:custGeom>
                <a:avLst/>
                <a:gdLst/>
                <a:ahLst/>
                <a:rect l="l" t="t" r="r" b="b"/>
                <a:pathLst>
                  <a:path w="441" h="202">
                    <a:moveTo>
                      <a:pt x="21" y="98"/>
                    </a:moveTo>
                    <a:cubicBezTo>
                      <a:pt x="46" y="89"/>
                      <a:pt x="67" y="86"/>
                      <a:pt x="96" y="86"/>
                    </a:cubicBezTo>
                    <a:cubicBezTo>
                      <a:pt x="100" y="55"/>
                      <a:pt x="114" y="27"/>
                      <a:pt x="137" y="5"/>
                    </a:cubicBezTo>
                    <a:cubicBezTo>
                      <a:pt x="175" y="1"/>
                      <a:pt x="212" y="0"/>
                      <a:pt x="250" y="5"/>
                    </a:cubicBezTo>
                    <a:cubicBezTo>
                      <a:pt x="279" y="29"/>
                      <a:pt x="311" y="56"/>
                      <a:pt x="322" y="86"/>
                    </a:cubicBezTo>
                    <a:cubicBezTo>
                      <a:pt x="368" y="92"/>
                      <a:pt x="397" y="107"/>
                      <a:pt x="421" y="119"/>
                    </a:cubicBezTo>
                    <a:cubicBezTo>
                      <a:pt x="441" y="157"/>
                      <a:pt x="436" y="166"/>
                      <a:pt x="416" y="202"/>
                    </a:cubicBezTo>
                    <a:lnTo>
                      <a:pt x="16" y="202"/>
                    </a:lnTo>
                    <a:cubicBezTo>
                      <a:pt x="8" y="168"/>
                      <a:pt x="0" y="129"/>
                      <a:pt x="21" y="98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157400" y="4344840"/>
                <a:ext cx="214920" cy="21420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37840" y="4344840"/>
                <a:ext cx="215280" cy="21420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8560" y="3930480"/>
                <a:ext cx="544320" cy="192240"/>
              </a:xfrm>
              <a:custGeom>
                <a:avLst/>
                <a:gdLst/>
                <a:ahLst/>
                <a:rect l="l" t="t" r="r" b="b"/>
                <a:pathLst>
                  <a:path w="183" h="68">
                    <a:moveTo>
                      <a:pt x="81" y="68"/>
                    </a:moveTo>
                    <a:lnTo>
                      <a:pt x="82" y="0"/>
                    </a:lnTo>
                    <a:cubicBezTo>
                      <a:pt x="51" y="1"/>
                      <a:pt x="42" y="2"/>
                      <a:pt x="28" y="8"/>
                    </a:cubicBezTo>
                    <a:cubicBezTo>
                      <a:pt x="13" y="22"/>
                      <a:pt x="1" y="43"/>
                      <a:pt x="0" y="68"/>
                    </a:cubicBezTo>
                    <a:lnTo>
                      <a:pt x="81" y="68"/>
                    </a:lnTo>
                    <a:close/>
                    <a:moveTo>
                      <a:pt x="98" y="1"/>
                    </a:moveTo>
                    <a:lnTo>
                      <a:pt x="98" y="68"/>
                    </a:lnTo>
                    <a:lnTo>
                      <a:pt x="183" y="67"/>
                    </a:lnTo>
                    <a:cubicBezTo>
                      <a:pt x="169" y="43"/>
                      <a:pt x="149" y="23"/>
                      <a:pt x="123" y="5"/>
                    </a:cubicBez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46800" y="4172400"/>
                <a:ext cx="228240" cy="21168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1" y="1"/>
                    </a:moveTo>
                    <a:lnTo>
                      <a:pt x="2" y="81"/>
                    </a:lnTo>
                    <a:lnTo>
                      <a:pt x="1" y="8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  <a:moveTo>
                      <a:pt x="1" y="81"/>
                    </a:moveTo>
                    <a:lnTo>
                      <a:pt x="1" y="81"/>
                    </a:lnTo>
                    <a:lnTo>
                      <a:pt x="1" y="81"/>
                    </a:lnTo>
                    <a:lnTo>
                      <a:pt x="1" y="81"/>
                    </a:lnTo>
                    <a:close/>
                    <a:moveTo>
                      <a:pt x="1" y="80"/>
                    </a:moveTo>
                    <a:lnTo>
                      <a:pt x="86" y="80"/>
                    </a:lnTo>
                    <a:lnTo>
                      <a:pt x="86" y="81"/>
                    </a:lnTo>
                    <a:lnTo>
                      <a:pt x="1" y="81"/>
                    </a:lnTo>
                    <a:lnTo>
                      <a:pt x="1" y="80"/>
                    </a:lnTo>
                    <a:close/>
                    <a:moveTo>
                      <a:pt x="87" y="81"/>
                    </a:moveTo>
                    <a:lnTo>
                      <a:pt x="87" y="81"/>
                    </a:lnTo>
                    <a:lnTo>
                      <a:pt x="86" y="81"/>
                    </a:lnTo>
                    <a:lnTo>
                      <a:pt x="86" y="81"/>
                    </a:lnTo>
                    <a:lnTo>
                      <a:pt x="87" y="81"/>
                    </a:lnTo>
                    <a:close/>
                    <a:moveTo>
                      <a:pt x="86" y="81"/>
                    </a:moveTo>
                    <a:lnTo>
                      <a:pt x="86" y="1"/>
                    </a:lnTo>
                    <a:lnTo>
                      <a:pt x="87" y="1"/>
                    </a:lnTo>
                    <a:lnTo>
                      <a:pt x="87" y="81"/>
                    </a:lnTo>
                    <a:lnTo>
                      <a:pt x="86" y="81"/>
                    </a:lnTo>
                    <a:close/>
                    <a:moveTo>
                      <a:pt x="87" y="1"/>
                    </a:moveTo>
                    <a:lnTo>
                      <a:pt x="87" y="1"/>
                    </a:lnTo>
                    <a:lnTo>
                      <a:pt x="87" y="1"/>
                    </a:lnTo>
                    <a:lnTo>
                      <a:pt x="87" y="1"/>
                    </a:lnTo>
                    <a:close/>
                    <a:moveTo>
                      <a:pt x="87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7" y="1"/>
                    </a:lnTo>
                    <a:lnTo>
                      <a:pt x="87" y="2"/>
                    </a:lnTo>
                    <a:close/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2720" y="4175280"/>
                <a:ext cx="212760" cy="208800"/>
              </a:xfrm>
              <a:custGeom>
                <a:avLst/>
                <a:gdLst/>
                <a:ahLst/>
                <a:rect l="l" t="t" r="r" b="b"/>
                <a:pathLst>
                  <a:path w="81" h="80">
                    <a:moveTo>
                      <a:pt x="80" y="80"/>
                    </a:moveTo>
                    <a:lnTo>
                      <a:pt x="8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80" y="80"/>
                    </a:lnTo>
                    <a:close/>
                    <a:moveTo>
                      <a:pt x="80" y="0"/>
                    </a:moveTo>
                    <a:lnTo>
                      <a:pt x="81" y="0"/>
                    </a:lnTo>
                    <a:lnTo>
                      <a:pt x="81" y="0"/>
                    </a:lnTo>
                    <a:lnTo>
                      <a:pt x="80" y="0"/>
                    </a:lnTo>
                    <a:close/>
                    <a:moveTo>
                      <a:pt x="8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0" y="0"/>
                    </a:lnTo>
                    <a:lnTo>
                      <a:pt x="80" y="1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  <a:moveTo>
                      <a:pt x="1" y="0"/>
                    </a:moveTo>
                    <a:lnTo>
                      <a:pt x="1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  <a:moveTo>
                      <a:pt x="1" y="49"/>
                    </a:moveTo>
                    <a:lnTo>
                      <a:pt x="0" y="48"/>
                    </a:lnTo>
                    <a:lnTo>
                      <a:pt x="0" y="48"/>
                    </a:lnTo>
                    <a:lnTo>
                      <a:pt x="1" y="48"/>
                    </a:lnTo>
                    <a:lnTo>
                      <a:pt x="1" y="49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8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cubicBezTo>
                      <a:pt x="4" y="48"/>
                      <a:pt x="7" y="48"/>
                      <a:pt x="10" y="49"/>
                    </a:cubicBezTo>
                    <a:lnTo>
                      <a:pt x="9" y="50"/>
                    </a:lnTo>
                    <a:cubicBezTo>
                      <a:pt x="7" y="49"/>
                      <a:pt x="4" y="49"/>
                      <a:pt x="1" y="49"/>
                    </a:cubicBezTo>
                    <a:lnTo>
                      <a:pt x="1" y="47"/>
                    </a:lnTo>
                    <a:close/>
                    <a:moveTo>
                      <a:pt x="10" y="49"/>
                    </a:moveTo>
                    <a:cubicBezTo>
                      <a:pt x="12" y="49"/>
                      <a:pt x="15" y="50"/>
                      <a:pt x="18" y="51"/>
                    </a:cubicBezTo>
                    <a:lnTo>
                      <a:pt x="17" y="52"/>
                    </a:lnTo>
                    <a:cubicBezTo>
                      <a:pt x="15" y="51"/>
                      <a:pt x="12" y="51"/>
                      <a:pt x="9" y="50"/>
                    </a:cubicBezTo>
                    <a:lnTo>
                      <a:pt x="10" y="49"/>
                    </a:lnTo>
                    <a:close/>
                    <a:moveTo>
                      <a:pt x="18" y="51"/>
                    </a:moveTo>
                    <a:cubicBezTo>
                      <a:pt x="31" y="56"/>
                      <a:pt x="42" y="66"/>
                      <a:pt x="48" y="80"/>
                    </a:cubicBezTo>
                    <a:lnTo>
                      <a:pt x="47" y="80"/>
                    </a:lnTo>
                    <a:cubicBezTo>
                      <a:pt x="41" y="66"/>
                      <a:pt x="31" y="57"/>
                      <a:pt x="17" y="52"/>
                    </a:cubicBezTo>
                    <a:lnTo>
                      <a:pt x="18" y="51"/>
                    </a:lnTo>
                    <a:close/>
                    <a:moveTo>
                      <a:pt x="47" y="80"/>
                    </a:moveTo>
                    <a:lnTo>
                      <a:pt x="47" y="80"/>
                    </a:lnTo>
                    <a:lnTo>
                      <a:pt x="47" y="80"/>
                    </a:lnTo>
                    <a:lnTo>
                      <a:pt x="47" y="80"/>
                    </a:lnTo>
                    <a:close/>
                    <a:moveTo>
                      <a:pt x="47" y="79"/>
                    </a:moveTo>
                    <a:lnTo>
                      <a:pt x="81" y="79"/>
                    </a:lnTo>
                    <a:lnTo>
                      <a:pt x="81" y="80"/>
                    </a:lnTo>
                    <a:lnTo>
                      <a:pt x="47" y="80"/>
                    </a:lnTo>
                    <a:lnTo>
                      <a:pt x="47" y="79"/>
                    </a:lnTo>
                    <a:close/>
                    <a:moveTo>
                      <a:pt x="81" y="80"/>
                    </a:moveTo>
                    <a:lnTo>
                      <a:pt x="81" y="80"/>
                    </a:lnTo>
                    <a:lnTo>
                      <a:pt x="81" y="80"/>
                    </a:lnTo>
                    <a:lnTo>
                      <a:pt x="81" y="80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50440" y="4211640"/>
                <a:ext cx="62280" cy="10332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5" y="10"/>
                    </a:moveTo>
                    <a:lnTo>
                      <a:pt x="0" y="0"/>
                    </a:lnTo>
                    <a:cubicBezTo>
                      <a:pt x="6" y="2"/>
                      <a:pt x="10" y="7"/>
                      <a:pt x="10" y="13"/>
                    </a:cubicBezTo>
                    <a:cubicBezTo>
                      <a:pt x="10" y="15"/>
                      <a:pt x="10" y="17"/>
                      <a:pt x="9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2720" y="4152600"/>
                <a:ext cx="29520" cy="5904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5" y="10"/>
                    </a:moveTo>
                    <a:lnTo>
                      <a:pt x="10" y="0"/>
                    </a:lnTo>
                    <a:cubicBezTo>
                      <a:pt x="4" y="2"/>
                      <a:pt x="0" y="7"/>
                      <a:pt x="0" y="13"/>
                    </a:cubicBezTo>
                    <a:cubicBezTo>
                      <a:pt x="0" y="15"/>
                      <a:pt x="1" y="17"/>
                      <a:pt x="2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28840" y="4196880"/>
                <a:ext cx="33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06800" y="4196880"/>
                <a:ext cx="367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83200" y="4389120"/>
              <a:ext cx="133920" cy="1332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03120" y="4389120"/>
              <a:ext cx="133920" cy="1332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3581280" y="228600"/>
            <a:ext cx="838440" cy="558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4724280" y="3809880"/>
            <a:ext cx="1368720" cy="596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7162920" y="2895480"/>
            <a:ext cx="1753920" cy="511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4572000"/>
            <a:ext cx="3505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95480"/>
            <a:ext cx="3505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2819520"/>
            <a:ext cx="3733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0"/>
            <a:ext cx="0" cy="2819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05320" y="-360"/>
            <a:ext cx="0" cy="289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572000"/>
            <a:ext cx="3733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05320" y="4572000"/>
            <a:ext cx="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410080" y="4572000"/>
            <a:ext cx="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01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3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для пешеходов есть тротуар и пешеходная дорож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809880"/>
            <a:ext cx="9144000" cy="3048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x0008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895480"/>
            <a:ext cx="91440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85800"/>
            <a:ext cx="9144000" cy="22096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1600200"/>
            <a:ext cx="533160" cy="4572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465000">
            <a:off x="1523880" y="1980720"/>
            <a:ext cx="914400" cy="60984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685800"/>
            <a:ext cx="761760" cy="53352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377600">
            <a:off x="8146800" y="2009880"/>
            <a:ext cx="990360" cy="609480"/>
          </a:xfrm>
          <a:prstGeom prst="irregularSeal2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1447920"/>
            <a:ext cx="38088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149000">
            <a:off x="5796720" y="1903320"/>
            <a:ext cx="685800" cy="533520"/>
          </a:xfrm>
          <a:prstGeom prst="lightningBol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248520" y="1981080"/>
            <a:ext cx="609480" cy="457200"/>
          </a:xfrm>
          <a:prstGeom prst="lightningBol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1905120"/>
            <a:ext cx="0" cy="3045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2286000"/>
            <a:ext cx="152640" cy="228600"/>
          </a:xfrm>
          <a:custGeom>
            <a:avLst/>
            <a:gdLst>
              <a:gd name="textAreaLeft" fmla="*/ 47880 w 152640"/>
              <a:gd name="textAreaRight" fmla="*/ 104760 w 152640"/>
              <a:gd name="textAreaTop" fmla="*/ 71640 h 228600"/>
              <a:gd name="textAreaBottom" fmla="*/ 156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763" y="6763"/>
                </a:lnTo>
                <a:lnTo>
                  <a:pt x="10800" y="0"/>
                </a:lnTo>
                <a:lnTo>
                  <a:pt x="14837" y="6763"/>
                </a:lnTo>
                <a:lnTo>
                  <a:pt x="21600" y="10800"/>
                </a:lnTo>
                <a:lnTo>
                  <a:pt x="14837" y="14837"/>
                </a:lnTo>
                <a:lnTo>
                  <a:pt x="10800" y="21600"/>
                </a:lnTo>
                <a:lnTo>
                  <a:pt x="6763" y="1483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11430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523880"/>
            <a:ext cx="304560" cy="38124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2057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9907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19810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914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39080" y="1523880"/>
            <a:ext cx="304920" cy="38124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62120"/>
            <a:ext cx="609480" cy="533160"/>
          </a:xfrm>
          <a:prstGeom prst="irregularSeal1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347000" y="1382040"/>
            <a:ext cx="1124640" cy="2883960"/>
            <a:chOff x="4347000" y="1382040"/>
            <a:chExt cx="1124640" cy="2883960"/>
          </a:xfrm>
        </p:grpSpPr>
        <p:sp>
          <p:nvSpPr>
            <p:cNvPr id="152" name=""/>
            <p:cNvSpPr/>
            <p:nvPr/>
          </p:nvSpPr>
          <p:spPr>
            <a:xfrm rot="481800">
              <a:off x="4416480" y="1447560"/>
              <a:ext cx="1001520" cy="8362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347000" y="1752480"/>
              <a:ext cx="986400" cy="2513520"/>
              <a:chOff x="4347000" y="1752480"/>
              <a:chExt cx="986400" cy="251352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4347000" y="1752480"/>
                <a:ext cx="978480" cy="2513520"/>
                <a:chOff x="4347000" y="1752480"/>
                <a:chExt cx="978480" cy="2513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632120" y="1752480"/>
                  <a:ext cx="467640" cy="4003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749480" y="2210040"/>
                  <a:ext cx="232920" cy="5709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rot="19934400">
                  <a:off x="4343400" y="2336400"/>
                  <a:ext cx="525240" cy="114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2035200">
                  <a:off x="4866480" y="2322720"/>
                  <a:ext cx="466560" cy="11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574880" y="2723760"/>
                  <a:ext cx="583920" cy="154224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749480" y="18673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924080" y="18673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749480" y="2037600"/>
                  <a:ext cx="174240" cy="5724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4419360" y="3374280"/>
                <a:ext cx="30420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028840" y="3374280"/>
                <a:ext cx="30456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7620120" y="3962520"/>
            <a:ext cx="1523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648320"/>
            <a:ext cx="1523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5867280"/>
            <a:ext cx="1523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0120" y="5257800"/>
            <a:ext cx="1523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-45720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80880" y="1981080"/>
            <a:ext cx="106704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7432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860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295280" y="5334120"/>
            <a:ext cx="1752840" cy="1207080"/>
            <a:chOff x="1295280" y="5334120"/>
            <a:chExt cx="1752840" cy="1207080"/>
          </a:xfrm>
        </p:grpSpPr>
        <p:grpSp>
          <p:nvGrpSpPr>
            <p:cNvPr id="175" name=""/>
            <p:cNvGrpSpPr/>
            <p:nvPr/>
          </p:nvGrpSpPr>
          <p:grpSpPr>
            <a:xfrm>
              <a:off x="1295280" y="5334120"/>
              <a:ext cx="1752840" cy="1207080"/>
              <a:chOff x="1295280" y="5334120"/>
              <a:chExt cx="1752840" cy="1207080"/>
            </a:xfrm>
          </p:grpSpPr>
          <p:sp>
            <p:nvSpPr>
              <p:cNvPr id="176" name=""/>
              <p:cNvSpPr/>
              <p:nvPr/>
            </p:nvSpPr>
            <p:spPr>
              <a:xfrm>
                <a:off x="1295280" y="5334120"/>
                <a:ext cx="1752840" cy="1005840"/>
              </a:xfrm>
              <a:custGeom>
                <a:avLst/>
                <a:gdLst/>
                <a:ahLst/>
                <a:rect l="l" t="t" r="r" b="b"/>
                <a:pathLst>
                  <a:path w="441" h="202">
                    <a:moveTo>
                      <a:pt x="21" y="98"/>
                    </a:moveTo>
                    <a:cubicBezTo>
                      <a:pt x="46" y="89"/>
                      <a:pt x="67" y="86"/>
                      <a:pt x="96" y="86"/>
                    </a:cubicBezTo>
                    <a:cubicBezTo>
                      <a:pt x="100" y="55"/>
                      <a:pt x="114" y="27"/>
                      <a:pt x="137" y="5"/>
                    </a:cubicBezTo>
                    <a:cubicBezTo>
                      <a:pt x="175" y="1"/>
                      <a:pt x="212" y="0"/>
                      <a:pt x="250" y="5"/>
                    </a:cubicBezTo>
                    <a:cubicBezTo>
                      <a:pt x="279" y="29"/>
                      <a:pt x="311" y="56"/>
                      <a:pt x="322" y="86"/>
                    </a:cubicBezTo>
                    <a:cubicBezTo>
                      <a:pt x="368" y="92"/>
                      <a:pt x="397" y="107"/>
                      <a:pt x="421" y="119"/>
                    </a:cubicBezTo>
                    <a:cubicBezTo>
                      <a:pt x="441" y="157"/>
                      <a:pt x="436" y="166"/>
                      <a:pt x="416" y="202"/>
                    </a:cubicBezTo>
                    <a:lnTo>
                      <a:pt x="16" y="202"/>
                    </a:lnTo>
                    <a:cubicBezTo>
                      <a:pt x="8" y="168"/>
                      <a:pt x="0" y="129"/>
                      <a:pt x="21" y="98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21080" y="6157080"/>
                <a:ext cx="309240" cy="38412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30080" y="6157080"/>
                <a:ext cx="309240" cy="38412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60400" y="5413680"/>
                <a:ext cx="782640" cy="344880"/>
              </a:xfrm>
              <a:custGeom>
                <a:avLst/>
                <a:gdLst/>
                <a:ahLst/>
                <a:rect l="l" t="t" r="r" b="b"/>
                <a:pathLst>
                  <a:path w="183" h="68">
                    <a:moveTo>
                      <a:pt x="81" y="68"/>
                    </a:moveTo>
                    <a:lnTo>
                      <a:pt x="82" y="0"/>
                    </a:lnTo>
                    <a:cubicBezTo>
                      <a:pt x="51" y="1"/>
                      <a:pt x="42" y="2"/>
                      <a:pt x="28" y="8"/>
                    </a:cubicBezTo>
                    <a:cubicBezTo>
                      <a:pt x="13" y="22"/>
                      <a:pt x="1" y="43"/>
                      <a:pt x="0" y="68"/>
                    </a:cubicBezTo>
                    <a:lnTo>
                      <a:pt x="81" y="68"/>
                    </a:lnTo>
                    <a:close/>
                    <a:moveTo>
                      <a:pt x="98" y="1"/>
                    </a:moveTo>
                    <a:lnTo>
                      <a:pt x="98" y="68"/>
                    </a:lnTo>
                    <a:lnTo>
                      <a:pt x="183" y="67"/>
                    </a:lnTo>
                    <a:cubicBezTo>
                      <a:pt x="169" y="43"/>
                      <a:pt x="149" y="23"/>
                      <a:pt x="123" y="5"/>
                    </a:cubicBez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17960" y="5847840"/>
                <a:ext cx="328320" cy="37980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1" y="1"/>
                    </a:moveTo>
                    <a:lnTo>
                      <a:pt x="2" y="81"/>
                    </a:lnTo>
                    <a:lnTo>
                      <a:pt x="1" y="8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  <a:moveTo>
                      <a:pt x="1" y="81"/>
                    </a:moveTo>
                    <a:lnTo>
                      <a:pt x="1" y="81"/>
                    </a:lnTo>
                    <a:lnTo>
                      <a:pt x="1" y="81"/>
                    </a:lnTo>
                    <a:lnTo>
                      <a:pt x="1" y="81"/>
                    </a:lnTo>
                    <a:close/>
                    <a:moveTo>
                      <a:pt x="1" y="80"/>
                    </a:moveTo>
                    <a:lnTo>
                      <a:pt x="86" y="80"/>
                    </a:lnTo>
                    <a:lnTo>
                      <a:pt x="86" y="81"/>
                    </a:lnTo>
                    <a:lnTo>
                      <a:pt x="1" y="81"/>
                    </a:lnTo>
                    <a:lnTo>
                      <a:pt x="1" y="80"/>
                    </a:lnTo>
                    <a:close/>
                    <a:moveTo>
                      <a:pt x="87" y="81"/>
                    </a:moveTo>
                    <a:lnTo>
                      <a:pt x="87" y="81"/>
                    </a:lnTo>
                    <a:lnTo>
                      <a:pt x="86" y="81"/>
                    </a:lnTo>
                    <a:lnTo>
                      <a:pt x="86" y="81"/>
                    </a:lnTo>
                    <a:lnTo>
                      <a:pt x="87" y="81"/>
                    </a:lnTo>
                    <a:close/>
                    <a:moveTo>
                      <a:pt x="86" y="81"/>
                    </a:moveTo>
                    <a:lnTo>
                      <a:pt x="86" y="1"/>
                    </a:lnTo>
                    <a:lnTo>
                      <a:pt x="87" y="1"/>
                    </a:lnTo>
                    <a:lnTo>
                      <a:pt x="87" y="81"/>
                    </a:lnTo>
                    <a:lnTo>
                      <a:pt x="86" y="81"/>
                    </a:lnTo>
                    <a:close/>
                    <a:moveTo>
                      <a:pt x="87" y="1"/>
                    </a:moveTo>
                    <a:lnTo>
                      <a:pt x="87" y="1"/>
                    </a:lnTo>
                    <a:lnTo>
                      <a:pt x="87" y="1"/>
                    </a:lnTo>
                    <a:lnTo>
                      <a:pt x="87" y="1"/>
                    </a:lnTo>
                    <a:close/>
                    <a:moveTo>
                      <a:pt x="87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7" y="1"/>
                    </a:lnTo>
                    <a:lnTo>
                      <a:pt x="87" y="2"/>
                    </a:lnTo>
                    <a:close/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867320" y="5852880"/>
                <a:ext cx="306000" cy="374760"/>
              </a:xfrm>
              <a:custGeom>
                <a:avLst/>
                <a:gdLst/>
                <a:ahLst/>
                <a:rect l="l" t="t" r="r" b="b"/>
                <a:pathLst>
                  <a:path w="81" h="80">
                    <a:moveTo>
                      <a:pt x="80" y="80"/>
                    </a:moveTo>
                    <a:lnTo>
                      <a:pt x="8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80" y="80"/>
                    </a:lnTo>
                    <a:close/>
                    <a:moveTo>
                      <a:pt x="80" y="0"/>
                    </a:moveTo>
                    <a:lnTo>
                      <a:pt x="81" y="0"/>
                    </a:lnTo>
                    <a:lnTo>
                      <a:pt x="81" y="0"/>
                    </a:lnTo>
                    <a:lnTo>
                      <a:pt x="80" y="0"/>
                    </a:lnTo>
                    <a:close/>
                    <a:moveTo>
                      <a:pt x="8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0" y="0"/>
                    </a:lnTo>
                    <a:lnTo>
                      <a:pt x="80" y="1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  <a:moveTo>
                      <a:pt x="1" y="0"/>
                    </a:moveTo>
                    <a:lnTo>
                      <a:pt x="1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  <a:moveTo>
                      <a:pt x="1" y="49"/>
                    </a:moveTo>
                    <a:lnTo>
                      <a:pt x="0" y="48"/>
                    </a:lnTo>
                    <a:lnTo>
                      <a:pt x="0" y="48"/>
                    </a:lnTo>
                    <a:lnTo>
                      <a:pt x="1" y="48"/>
                    </a:lnTo>
                    <a:lnTo>
                      <a:pt x="1" y="49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8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cubicBezTo>
                      <a:pt x="4" y="48"/>
                      <a:pt x="7" y="48"/>
                      <a:pt x="10" y="49"/>
                    </a:cubicBezTo>
                    <a:lnTo>
                      <a:pt x="9" y="50"/>
                    </a:lnTo>
                    <a:cubicBezTo>
                      <a:pt x="7" y="49"/>
                      <a:pt x="4" y="49"/>
                      <a:pt x="1" y="49"/>
                    </a:cubicBezTo>
                    <a:lnTo>
                      <a:pt x="1" y="47"/>
                    </a:lnTo>
                    <a:close/>
                    <a:moveTo>
                      <a:pt x="10" y="49"/>
                    </a:moveTo>
                    <a:cubicBezTo>
                      <a:pt x="12" y="49"/>
                      <a:pt x="15" y="50"/>
                      <a:pt x="18" y="51"/>
                    </a:cubicBezTo>
                    <a:lnTo>
                      <a:pt x="17" y="52"/>
                    </a:lnTo>
                    <a:cubicBezTo>
                      <a:pt x="15" y="51"/>
                      <a:pt x="12" y="51"/>
                      <a:pt x="9" y="50"/>
                    </a:cubicBezTo>
                    <a:lnTo>
                      <a:pt x="10" y="49"/>
                    </a:lnTo>
                    <a:close/>
                    <a:moveTo>
                      <a:pt x="18" y="51"/>
                    </a:moveTo>
                    <a:cubicBezTo>
                      <a:pt x="31" y="56"/>
                      <a:pt x="42" y="66"/>
                      <a:pt x="48" y="80"/>
                    </a:cubicBezTo>
                    <a:lnTo>
                      <a:pt x="47" y="80"/>
                    </a:lnTo>
                    <a:cubicBezTo>
                      <a:pt x="41" y="66"/>
                      <a:pt x="31" y="57"/>
                      <a:pt x="17" y="52"/>
                    </a:cubicBezTo>
                    <a:lnTo>
                      <a:pt x="18" y="51"/>
                    </a:lnTo>
                    <a:close/>
                    <a:moveTo>
                      <a:pt x="47" y="80"/>
                    </a:moveTo>
                    <a:lnTo>
                      <a:pt x="47" y="80"/>
                    </a:lnTo>
                    <a:lnTo>
                      <a:pt x="47" y="80"/>
                    </a:lnTo>
                    <a:lnTo>
                      <a:pt x="47" y="80"/>
                    </a:lnTo>
                    <a:close/>
                    <a:moveTo>
                      <a:pt x="47" y="79"/>
                    </a:moveTo>
                    <a:lnTo>
                      <a:pt x="81" y="79"/>
                    </a:lnTo>
                    <a:lnTo>
                      <a:pt x="81" y="80"/>
                    </a:lnTo>
                    <a:lnTo>
                      <a:pt x="47" y="80"/>
                    </a:lnTo>
                    <a:lnTo>
                      <a:pt x="47" y="79"/>
                    </a:lnTo>
                    <a:close/>
                    <a:moveTo>
                      <a:pt x="81" y="80"/>
                    </a:moveTo>
                    <a:lnTo>
                      <a:pt x="81" y="80"/>
                    </a:lnTo>
                    <a:lnTo>
                      <a:pt x="81" y="80"/>
                    </a:lnTo>
                    <a:lnTo>
                      <a:pt x="81" y="80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42640" y="5918040"/>
                <a:ext cx="89640" cy="18576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5" y="10"/>
                    </a:moveTo>
                    <a:lnTo>
                      <a:pt x="0" y="0"/>
                    </a:lnTo>
                    <a:cubicBezTo>
                      <a:pt x="6" y="2"/>
                      <a:pt x="10" y="7"/>
                      <a:pt x="10" y="13"/>
                    </a:cubicBezTo>
                    <a:cubicBezTo>
                      <a:pt x="10" y="15"/>
                      <a:pt x="10" y="17"/>
                      <a:pt x="9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349640" y="5811840"/>
                <a:ext cx="42480" cy="10620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5" y="10"/>
                    </a:moveTo>
                    <a:lnTo>
                      <a:pt x="10" y="0"/>
                    </a:lnTo>
                    <a:cubicBezTo>
                      <a:pt x="4" y="2"/>
                      <a:pt x="0" y="7"/>
                      <a:pt x="0" y="13"/>
                    </a:cubicBezTo>
                    <a:cubicBezTo>
                      <a:pt x="0" y="15"/>
                      <a:pt x="1" y="17"/>
                      <a:pt x="2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617120" y="5891400"/>
                <a:ext cx="48960" cy="374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736000" y="5891400"/>
                <a:ext cx="52920" cy="374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1695600" y="6236640"/>
              <a:ext cx="192240" cy="23868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86600" y="6236640"/>
              <a:ext cx="192240" cy="23868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0" y="3962520"/>
            <a:ext cx="91440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 flipH="1" rot="21553200">
            <a:off x="990000" y="2284200"/>
            <a:ext cx="3430440" cy="2133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558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33333E-006 L 0.34965 0.00555 E">
                                      <p:cBhvr>
                                        <p:cTn id="68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перебегай дорогу перед движущейся машин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866880"/>
            <a:ext cx="9144000" cy="5991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600" y="3972600"/>
            <a:ext cx="1124640" cy="2884680"/>
            <a:chOff x="3600" y="3972600"/>
            <a:chExt cx="1124640" cy="2884680"/>
          </a:xfrm>
        </p:grpSpPr>
        <p:sp>
          <p:nvSpPr>
            <p:cNvPr id="193" name=""/>
            <p:cNvSpPr/>
            <p:nvPr/>
          </p:nvSpPr>
          <p:spPr>
            <a:xfrm rot="481800">
              <a:off x="73080" y="4038120"/>
              <a:ext cx="1001520" cy="83664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600" y="4343400"/>
              <a:ext cx="986400" cy="2513880"/>
              <a:chOff x="3600" y="4343400"/>
              <a:chExt cx="986400" cy="251388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3600" y="4343400"/>
                <a:ext cx="978480" cy="2513880"/>
                <a:chOff x="3600" y="4343400"/>
                <a:chExt cx="978480" cy="25138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88720" y="4343400"/>
                  <a:ext cx="467640" cy="4003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06080" y="4800960"/>
                  <a:ext cx="232920" cy="5709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19934400">
                  <a:off x="0" y="4927680"/>
                  <a:ext cx="525240" cy="114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035200">
                  <a:off x="523080" y="4913640"/>
                  <a:ext cx="466560" cy="11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1480" y="5315040"/>
                  <a:ext cx="583920" cy="154224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6080" y="445824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80680" y="445824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06080" y="4628520"/>
                  <a:ext cx="174240" cy="5724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>
                <a:off x="75960" y="5965560"/>
                <a:ext cx="30420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5440" y="5965560"/>
                <a:ext cx="30456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657600" y="2819520"/>
            <a:ext cx="1523880" cy="1015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30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ходить дорогу надо только по пешеходному пешеходу  - «зебр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1143000"/>
            <a:ext cx="9144000" cy="5714640"/>
            <a:chOff x="0" y="1143000"/>
            <a:chExt cx="9144000" cy="5714640"/>
          </a:xfrm>
        </p:grpSpPr>
        <p:sp>
          <p:nvSpPr>
            <p:cNvPr id="210" name=""/>
            <p:cNvSpPr/>
            <p:nvPr/>
          </p:nvSpPr>
          <p:spPr>
            <a:xfrm>
              <a:off x="0" y="1143000"/>
              <a:ext cx="9144000" cy="5714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" y="1143000"/>
              <a:ext cx="76212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62320" y="1143000"/>
              <a:ext cx="76176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14800" y="1143000"/>
              <a:ext cx="76212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1143000"/>
              <a:ext cx="76212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20120" y="1143000"/>
              <a:ext cx="76176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6120" y="1711080"/>
            <a:ext cx="1972800" cy="4459320"/>
            <a:chOff x="546120" y="1711080"/>
            <a:chExt cx="1972800" cy="4459320"/>
          </a:xfrm>
        </p:grpSpPr>
        <p:sp>
          <p:nvSpPr>
            <p:cNvPr id="217" name=""/>
            <p:cNvSpPr/>
            <p:nvPr/>
          </p:nvSpPr>
          <p:spPr>
            <a:xfrm rot="481800">
              <a:off x="662400" y="1828440"/>
              <a:ext cx="1774800" cy="128844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546120" y="2298240"/>
              <a:ext cx="1742040" cy="3872160"/>
              <a:chOff x="546120" y="2298240"/>
              <a:chExt cx="1742040" cy="387216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546120" y="2298240"/>
                <a:ext cx="1720080" cy="3872160"/>
                <a:chOff x="546120" y="2298240"/>
                <a:chExt cx="1720080" cy="3872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045080" y="2298240"/>
                  <a:ext cx="828720" cy="6166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253160" y="3003480"/>
                  <a:ext cx="412920" cy="879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9934400">
                  <a:off x="533520" y="3198240"/>
                  <a:ext cx="930600" cy="1767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2035200">
                  <a:off x="1460520" y="3177000"/>
                  <a:ext cx="826560" cy="1767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943920" y="3794760"/>
                  <a:ext cx="1034640" cy="237564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253160" y="2475000"/>
                  <a:ext cx="103680" cy="853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562400" y="2475000"/>
                  <a:ext cx="103680" cy="853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53160" y="2737800"/>
                  <a:ext cx="308880" cy="8820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668520" y="4797000"/>
                <a:ext cx="539280" cy="24948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748160" y="4797000"/>
                <a:ext cx="540000" cy="24948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47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cc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 подземному пер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379520" y="2986200"/>
            <a:ext cx="1029960" cy="2194560"/>
            <a:chOff x="1379520" y="2986200"/>
            <a:chExt cx="1029960" cy="2194560"/>
          </a:xfrm>
        </p:grpSpPr>
        <p:sp>
          <p:nvSpPr>
            <p:cNvPr id="233" name=""/>
            <p:cNvSpPr/>
            <p:nvPr/>
          </p:nvSpPr>
          <p:spPr>
            <a:xfrm rot="481800">
              <a:off x="1438920" y="3047760"/>
              <a:ext cx="930600" cy="6328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1379520" y="3278520"/>
              <a:ext cx="911880" cy="1902240"/>
              <a:chOff x="1379520" y="3278520"/>
              <a:chExt cx="911880" cy="19022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1379520" y="3278520"/>
                <a:ext cx="898920" cy="1902240"/>
                <a:chOff x="1379520" y="3278520"/>
                <a:chExt cx="898920" cy="19022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639800" y="3278520"/>
                  <a:ext cx="434520" cy="3027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748880" y="3624840"/>
                  <a:ext cx="216360" cy="43200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19934400">
                  <a:off x="1371600" y="3720960"/>
                  <a:ext cx="488160" cy="867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2035200">
                  <a:off x="1857600" y="3710160"/>
                  <a:ext cx="433440" cy="867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586880" y="4013640"/>
                  <a:ext cx="542520" cy="116712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748880" y="3365280"/>
                  <a:ext cx="54360" cy="417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911240" y="3365280"/>
                  <a:ext cx="54360" cy="417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748880" y="3494520"/>
                  <a:ext cx="162000" cy="4320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1442160" y="4505760"/>
                <a:ext cx="282600" cy="1224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008440" y="4505760"/>
                <a:ext cx="282960" cy="1224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"/>
          <p:cNvSpPr/>
          <p:nvPr/>
        </p:nvSpPr>
        <p:spPr>
          <a:xfrm>
            <a:off x="2743200" y="0"/>
            <a:ext cx="4343400" cy="6858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0"/>
            <a:ext cx="76320" cy="685800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5105520"/>
            <a:ext cx="1600200" cy="17524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1676520"/>
            <a:ext cx="1600200" cy="1676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5105520"/>
            <a:ext cx="1600200" cy="838080"/>
          </a:xfrm>
          <a:custGeom>
            <a:avLst/>
            <a:gdLst>
              <a:gd name="textAreaLeft" fmla="*/ 351720 w 1600200"/>
              <a:gd name="textAreaRight" fmla="*/ 1248480 w 1600200"/>
              <a:gd name="textAreaTop" fmla="*/ 184320 h 838080"/>
              <a:gd name="textAreaBottom" fmla="*/ 653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5410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5562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5715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5867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0800000">
            <a:off x="7086240" y="2438280"/>
            <a:ext cx="1600200" cy="914400"/>
          </a:xfrm>
          <a:custGeom>
            <a:avLst/>
            <a:gdLst>
              <a:gd name="textAreaLeft" fmla="*/ 351720 w 1600200"/>
              <a:gd name="textAreaRight" fmla="*/ 1248480 w 16002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62920" y="32004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38880" y="3048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2895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91520" y="2743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391520" y="2590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305920" y="16765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765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143000" y="5943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5943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10280" y="0"/>
            <a:ext cx="0" cy="685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 rot="21361200">
            <a:off x="3123720" y="2057040"/>
            <a:ext cx="1447920" cy="826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5486400" y="4419720"/>
            <a:ext cx="1119240" cy="149364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7399440" y="1766880"/>
            <a:ext cx="1029600" cy="2195280"/>
            <a:chOff x="7399440" y="1766880"/>
            <a:chExt cx="1029600" cy="2195280"/>
          </a:xfrm>
        </p:grpSpPr>
        <p:sp>
          <p:nvSpPr>
            <p:cNvPr id="272" name=""/>
            <p:cNvSpPr/>
            <p:nvPr/>
          </p:nvSpPr>
          <p:spPr>
            <a:xfrm rot="481800">
              <a:off x="7458840" y="1828440"/>
              <a:ext cx="930240" cy="6328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7399440" y="2059560"/>
              <a:ext cx="911520" cy="1902600"/>
              <a:chOff x="7399440" y="2059560"/>
              <a:chExt cx="911520" cy="190260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7399440" y="2059560"/>
                <a:ext cx="898560" cy="1902600"/>
                <a:chOff x="7399440" y="2059560"/>
                <a:chExt cx="898560" cy="19026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7659720" y="2059560"/>
                  <a:ext cx="434160" cy="3027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768800" y="2405880"/>
                  <a:ext cx="216360" cy="4323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9934400">
                  <a:off x="7391520" y="2501640"/>
                  <a:ext cx="487800" cy="867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2035200">
                  <a:off x="7877160" y="2491200"/>
                  <a:ext cx="433440" cy="867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606440" y="2794680"/>
                  <a:ext cx="542160" cy="1167480"/>
                </a:xfrm>
                <a:prstGeom prst="blockArc">
                  <a:avLst>
                    <a:gd name="adj1" fmla="val 10790918"/>
                    <a:gd name="adj2" fmla="val 9082"/>
                    <a:gd name="adj3" fmla="val 20208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768800" y="2146320"/>
                  <a:ext cx="54360" cy="417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0800" y="2146320"/>
                  <a:ext cx="54360" cy="417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768800" y="2275560"/>
                  <a:ext cx="162000" cy="4320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7462080" y="3287160"/>
                <a:ext cx="282600" cy="1224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028000" y="3287160"/>
                <a:ext cx="282960" cy="1224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4000"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555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55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2f00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светофор – он регулирует движение транспорта и пешеходов на дор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962520" y="1371600"/>
            <a:ext cx="1371600" cy="5181480"/>
            <a:chOff x="3962520" y="1371600"/>
            <a:chExt cx="1371600" cy="5181480"/>
          </a:xfrm>
        </p:grpSpPr>
        <p:grpSp>
          <p:nvGrpSpPr>
            <p:cNvPr id="287" name=""/>
            <p:cNvGrpSpPr/>
            <p:nvPr/>
          </p:nvGrpSpPr>
          <p:grpSpPr>
            <a:xfrm>
              <a:off x="3962520" y="1371600"/>
              <a:ext cx="1371600" cy="3352680"/>
              <a:chOff x="3962520" y="1371600"/>
              <a:chExt cx="1371600" cy="3352680"/>
            </a:xfrm>
          </p:grpSpPr>
          <p:sp>
            <p:nvSpPr>
              <p:cNvPr id="288" name=""/>
              <p:cNvSpPr/>
              <p:nvPr/>
            </p:nvSpPr>
            <p:spPr>
              <a:xfrm>
                <a:off x="3962520" y="1371600"/>
                <a:ext cx="1371600" cy="33526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0600" y="1603800"/>
                <a:ext cx="774720" cy="7052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260600" y="2544840"/>
                <a:ext cx="774720" cy="705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260600" y="3544200"/>
                <a:ext cx="774720" cy="7052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 flipH="1">
              <a:off x="4114800" y="6553080"/>
              <a:ext cx="99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19720" y="4724280"/>
              <a:ext cx="457200" cy="1828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054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гда горит красный сигнал светофора, надо останов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005360" y="6172200"/>
            <a:ext cx="76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5049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07</cp:lastModifiedBy>
  <dcterms:modified xsi:type="dcterms:W3CDTF">2012-10-31T16:17:0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