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A3A-3643-44F7-A632-FDB52A67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A2E-E038-478A-B78F-3F95D1D3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7F1-FF97-49AA-84CB-906069F2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45E-1497-4B24-936A-61244D8C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72A-C5BB-4BCF-B810-F3C186AD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92F-FE15-49EE-8C1A-9BE0A9E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583-7711-4915-9AE4-0A88F37A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C23-843A-45AB-A278-F600A050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F9C-53F0-45AE-8E02-CD902CBF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1C2-A90E-4D07-8A64-C9F7A00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70D-1149-4583-A566-1D2B59F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D0E-8C9A-4B9F-95EA-63F3C6D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4DD4-C969-48C7-A677-58AB298D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50000">
              <a:srgbClr val="eaeaea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2f00"/>
                </a:solidFill>
                <a:latin typeface="Arial Black"/>
              </a:rPr>
              <a:t>ПРАВИЛА </a:t>
            </a:r>
            <a:br>
              <a:rPr sz="4000"/>
            </a:br>
            <a:r>
              <a:rPr b="0" lang="en-US" sz="4000" spc="-1" strike="noStrike">
                <a:solidFill>
                  <a:srgbClr val="f62f00"/>
                </a:solidFill>
                <a:latin typeface="Arial Black"/>
              </a:rPr>
              <a:t>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914400" y="3352680"/>
            <a:ext cx="2011320" cy="298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248520" y="304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678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800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4680" y="152280"/>
            <a:ext cx="685800" cy="2667240"/>
            <a:chOff x="7924680" y="152280"/>
            <a:chExt cx="685800" cy="2667240"/>
          </a:xfrm>
        </p:grpSpPr>
        <p:grpSp>
          <p:nvGrpSpPr>
            <p:cNvPr id="330" name=""/>
            <p:cNvGrpSpPr/>
            <p:nvPr/>
          </p:nvGrpSpPr>
          <p:grpSpPr>
            <a:xfrm>
              <a:off x="7924680" y="152280"/>
              <a:ext cx="685800" cy="2667240"/>
              <a:chOff x="7924680" y="152280"/>
              <a:chExt cx="685800" cy="266724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7924680" y="152280"/>
                <a:ext cx="685800" cy="1725840"/>
                <a:chOff x="7924680" y="152280"/>
                <a:chExt cx="685800" cy="1725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924680" y="152280"/>
                  <a:ext cx="685800" cy="1725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073720" y="271800"/>
                  <a:ext cx="387360" cy="36288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073720" y="756000"/>
                  <a:ext cx="387360" cy="362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073720" y="1270800"/>
                  <a:ext cx="387360" cy="3628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 flipH="1">
                <a:off x="8000640" y="2819520"/>
                <a:ext cx="495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153280" y="1878120"/>
                <a:ext cx="228600" cy="941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61480" y="270720"/>
              <a:ext cx="411120" cy="35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61480" y="744840"/>
              <a:ext cx="411120" cy="35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7776000" y="2982240"/>
            <a:ext cx="1124640" cy="2883960"/>
            <a:chOff x="7776000" y="2982240"/>
            <a:chExt cx="1124640" cy="2883960"/>
          </a:xfrm>
        </p:grpSpPr>
        <p:sp>
          <p:nvSpPr>
            <p:cNvPr id="345" name=""/>
            <p:cNvSpPr/>
            <p:nvPr/>
          </p:nvSpPr>
          <p:spPr>
            <a:xfrm rot="481800">
              <a:off x="7845480" y="30477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776000" y="3352680"/>
              <a:ext cx="986400" cy="2513520"/>
              <a:chOff x="7776000" y="3352680"/>
              <a:chExt cx="986400" cy="251352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7776000" y="3352680"/>
                <a:ext cx="978480" cy="2513520"/>
                <a:chOff x="7776000" y="3352680"/>
                <a:chExt cx="978480" cy="25135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061120" y="33526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78480" y="38102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9934400">
                  <a:off x="7772400" y="39366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2035200">
                  <a:off x="8295480" y="39229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03880" y="43239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78480" y="34675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353080" y="34675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178480" y="36378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848360" y="49744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57840" y="49744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4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56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светофора нет, начиная переход, надо посмотреть налево, дойти до середины дорог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87600" y="2682720"/>
            <a:ext cx="1040760" cy="2802600"/>
            <a:chOff x="687600" y="2682720"/>
            <a:chExt cx="1040760" cy="2802600"/>
          </a:xfrm>
        </p:grpSpPr>
        <p:sp>
          <p:nvSpPr>
            <p:cNvPr id="369" name=""/>
            <p:cNvSpPr/>
            <p:nvPr/>
          </p:nvSpPr>
          <p:spPr>
            <a:xfrm rot="481800">
              <a:off x="752760" y="2743200"/>
              <a:ext cx="923040" cy="813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87600" y="3039840"/>
              <a:ext cx="910800" cy="2445480"/>
              <a:chOff x="687600" y="3039840"/>
              <a:chExt cx="910800" cy="244548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87600" y="3039840"/>
                <a:ext cx="905400" cy="2445480"/>
                <a:chOff x="687600" y="3039840"/>
                <a:chExt cx="905400" cy="2445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951840" y="3039840"/>
                  <a:ext cx="431280" cy="389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060200" y="3485160"/>
                  <a:ext cx="214920" cy="5554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19934400">
                  <a:off x="685440" y="3607920"/>
                  <a:ext cx="484200" cy="1116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2035200">
                  <a:off x="1167840" y="3594960"/>
                  <a:ext cx="430200" cy="11160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99280" y="3984840"/>
                  <a:ext cx="538200" cy="150048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6020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2112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60200" y="3317400"/>
                  <a:ext cx="160560" cy="558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756000" y="4617720"/>
                <a:ext cx="28044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17600" y="4617720"/>
                <a:ext cx="28080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2209680" y="1295280"/>
            <a:ext cx="533520" cy="1219320"/>
          </a:xfrm>
          <a:prstGeom prst="upArrow">
            <a:avLst>
              <a:gd name="adj1" fmla="val 50000"/>
              <a:gd name="adj2" fmla="val 571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972640" y="0"/>
            <a:ext cx="17136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8242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242"/>
                            </p:stCondLst>
                            <p:childTnLst>
                              <p:par>
                                <p:cTn id="1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0.32916 1.11022E-016 E">
                                      <p:cBhvr>
                                        <p:cTn id="159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 посмотреть направо и переходить дорогу да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2895480"/>
            <a:ext cx="8763120" cy="358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6684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7352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5292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3268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91208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57150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13480" y="3439440"/>
            <a:ext cx="1124640" cy="2883960"/>
            <a:chOff x="3813480" y="3439440"/>
            <a:chExt cx="1124640" cy="2883960"/>
          </a:xfrm>
        </p:grpSpPr>
        <p:sp>
          <p:nvSpPr>
            <p:cNvPr id="398" name=""/>
            <p:cNvSpPr/>
            <p:nvPr/>
          </p:nvSpPr>
          <p:spPr>
            <a:xfrm rot="481800">
              <a:off x="3882960" y="35049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813480" y="3809880"/>
              <a:ext cx="986400" cy="2513520"/>
              <a:chOff x="3813480" y="3809880"/>
              <a:chExt cx="986400" cy="251352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3813480" y="3809880"/>
                <a:ext cx="978480" cy="2513520"/>
                <a:chOff x="3813480" y="3809880"/>
                <a:chExt cx="978480" cy="25135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98600" y="38098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215960" y="42674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9934400">
                  <a:off x="3809880" y="43938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2035200">
                  <a:off x="4332960" y="43801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041360" y="47811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2159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3905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215960" y="40950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3885840" y="54316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320" y="54316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991720" y="0"/>
            <a:ext cx="15228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6306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49167 1.11111E-006 E">
                                      <p:cBhvr>
                                        <p:cTn id="170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не успел перейти дорогу – остановись и подожди зеленый сигнал светофора на центральной линии или островке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1676520"/>
            <a:ext cx="1600200" cy="5181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889800" y="2601000"/>
            <a:ext cx="1124640" cy="2884680"/>
            <a:chOff x="3889800" y="2601000"/>
            <a:chExt cx="1124640" cy="2884680"/>
          </a:xfrm>
        </p:grpSpPr>
        <p:sp>
          <p:nvSpPr>
            <p:cNvPr id="420" name=""/>
            <p:cNvSpPr/>
            <p:nvPr/>
          </p:nvSpPr>
          <p:spPr>
            <a:xfrm rot="481800">
              <a:off x="3959280" y="2666520"/>
              <a:ext cx="1001520" cy="8366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3889800" y="2971800"/>
              <a:ext cx="986400" cy="2513880"/>
              <a:chOff x="3889800" y="2971800"/>
              <a:chExt cx="986400" cy="25138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3889800" y="2971800"/>
                <a:ext cx="978480" cy="2513880"/>
                <a:chOff x="3889800" y="2971800"/>
                <a:chExt cx="978480" cy="25138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174920" y="297180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292280" y="342936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19934400">
                  <a:off x="3886200" y="355608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2035200">
                  <a:off x="4409280" y="354204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117680" y="394344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292280" y="30866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66880" y="30866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292280" y="325692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3962160" y="459396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71640" y="459396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8001000" y="609480"/>
            <a:ext cx="952560" cy="19414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2280" y="5105520"/>
            <a:ext cx="860400" cy="1752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572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430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274320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48520" y="28195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20120" y="28195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8188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6"/>
          <a:stretch/>
        </p:blipFill>
        <p:spPr>
          <a:xfrm>
            <a:off x="6781680" y="5715000"/>
            <a:ext cx="171288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 rot="21478200">
            <a:off x="837720" y="-1611360"/>
            <a:ext cx="2819520" cy="161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06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3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ет светофора, движение на дороге регулирует постовой - милицио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2935080" cy="3790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4120920" cy="2903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214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играть на проезжей ч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066680"/>
            <a:ext cx="0" cy="579132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300680" y="3291480"/>
            <a:ext cx="1029240" cy="2422800"/>
            <a:chOff x="1300680" y="3291480"/>
            <a:chExt cx="1029240" cy="2422800"/>
          </a:xfrm>
        </p:grpSpPr>
        <p:sp>
          <p:nvSpPr>
            <p:cNvPr id="458" name=""/>
            <p:cNvSpPr/>
            <p:nvPr/>
          </p:nvSpPr>
          <p:spPr>
            <a:xfrm rot="481800">
              <a:off x="1362240" y="3352320"/>
              <a:ext cx="92304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300680" y="3607920"/>
              <a:ext cx="907200" cy="2106360"/>
              <a:chOff x="1300680" y="3607920"/>
              <a:chExt cx="907200" cy="21063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300680" y="3607920"/>
                <a:ext cx="897480" cy="2106360"/>
                <a:chOff x="1300680" y="3607920"/>
                <a:chExt cx="897480" cy="21063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561320" y="3607920"/>
                  <a:ext cx="43128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669680" y="3991320"/>
                  <a:ext cx="21492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9934400">
                  <a:off x="1294920" y="4097160"/>
                  <a:ext cx="48420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2035200">
                  <a:off x="1777320" y="4085640"/>
                  <a:ext cx="43020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508760" y="4421880"/>
                  <a:ext cx="5382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66968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83060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669680" y="3846960"/>
                  <a:ext cx="16056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1365480" y="4966920"/>
                <a:ext cx="2804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27080" y="4966920"/>
                <a:ext cx="2808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7090200" y="3144240"/>
            <a:ext cx="955440" cy="2417760"/>
            <a:chOff x="7090200" y="3144240"/>
            <a:chExt cx="955440" cy="2417760"/>
          </a:xfrm>
        </p:grpSpPr>
        <p:sp>
          <p:nvSpPr>
            <p:cNvPr id="472" name=""/>
            <p:cNvSpPr/>
            <p:nvPr/>
          </p:nvSpPr>
          <p:spPr>
            <a:xfrm rot="481800">
              <a:off x="7148520" y="32000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090200" y="3455640"/>
              <a:ext cx="838800" cy="2106360"/>
              <a:chOff x="7090200" y="3455640"/>
              <a:chExt cx="838800" cy="210636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7090200" y="3455640"/>
                <a:ext cx="831600" cy="2106360"/>
                <a:chOff x="7090200" y="3455640"/>
                <a:chExt cx="831600" cy="21063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7332480" y="34556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432200" y="38390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9934400">
                  <a:off x="7086600" y="39452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35200">
                  <a:off x="7531560" y="39337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83520" y="4269600"/>
                  <a:ext cx="4968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43220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58088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432200" y="36946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7151400" y="48146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69800" y="48146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2514600" y="35812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28600" y="838080"/>
            <a:ext cx="1522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839080" y="838080"/>
            <a:ext cx="1526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672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 repeatCount="1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941 -0.07977 C 0.04601 -0.10035 0.05747 -0.10566 0.06893 -0.11653 C 0.08091 -0.1274 0.09202 -0.14035 0.10556 -0.1452 C 0.1441 -0.1778 0.21476 -0.16439 0.24549 -0.16485 C 0.25608 -0.16948 0.27795 -0.16023 0.27795 -0.15977 C 0.27986 -0.15838 0.28195 -0.15653 0.28386 -0.15514 C 0.28577 -0.15399 0.28785 -0.15399 0.28993 -0.15283 C 0.29427 -0.14959 0.29861 -0.14428 0.30313 -0.14058 C 0.31198 -0.13364 0.32309 -0.1304 0.33264 -0.12832 C 0.34045 -0.12185 0.34723 -0.10983 0.3533 -0.09896 C 0.35834 -0.07861 0.36771 -0.07561 0.3783 -0.06289 C 0.38473 -0.04647 0.39098 -0.03098 0.39896 -0.01665 C 0.40157 -0.01156 0.40764 -0.00208 0.40764 -0.00162 C 0.40938 0.00578 0.41511 0.01989 0.41511 0.02012 C 0.41667 0.04254 0.41667 0.03422 0.41667 0.04439 E">
                                      <p:cBhvr>
                                        <p:cTn id="202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и дорогу только тогда, когда общественный транспорт отойдет от о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962520"/>
            <a:ext cx="91440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71800" y="2133720"/>
            <a:ext cx="304812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1752480"/>
            <a:ext cx="342900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3276720"/>
            <a:ext cx="24382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743200"/>
            <a:ext cx="15264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715000"/>
            <a:ext cx="9144000" cy="7632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4724280" cy="24084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84582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400800" y="46483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5257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0800" y="58672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65530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090200" y="2458440"/>
            <a:ext cx="955440" cy="2417760"/>
            <a:chOff x="7090200" y="2458440"/>
            <a:chExt cx="955440" cy="2417760"/>
          </a:xfrm>
        </p:grpSpPr>
        <p:sp>
          <p:nvSpPr>
            <p:cNvPr id="506" name=""/>
            <p:cNvSpPr/>
            <p:nvPr/>
          </p:nvSpPr>
          <p:spPr>
            <a:xfrm rot="481800">
              <a:off x="7148520" y="25142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7090200" y="2769840"/>
              <a:ext cx="838800" cy="2106360"/>
              <a:chOff x="7090200" y="2769840"/>
              <a:chExt cx="838800" cy="210636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7090200" y="2769840"/>
                <a:ext cx="831600" cy="2106360"/>
                <a:chOff x="7090200" y="2769840"/>
                <a:chExt cx="831600" cy="21063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7332480" y="27698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32200" y="31532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9934400">
                  <a:off x="7086600" y="32594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2035200">
                  <a:off x="7531560" y="32479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83520" y="3583800"/>
                  <a:ext cx="4968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43220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58088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432200" y="30088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7151400" y="41288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69800" y="41288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838080" y="2057400"/>
            <a:ext cx="1143000" cy="762120"/>
          </a:xfrm>
          <a:prstGeom prst="bevel">
            <a:avLst>
              <a:gd name="adj" fmla="val 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6855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3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855"/>
                            </p:stCondLst>
                            <p:childTnLst>
                              <p:par>
                                <p:cTn id="2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8280" y="1752480"/>
            <a:ext cx="41911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856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3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  проезжая часть, по ней едут ма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0" y="1676520"/>
            <a:ext cx="2287440" cy="1436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-2666880" y="4876920"/>
            <a:ext cx="2666880" cy="1433520"/>
            <a:chOff x="-2666880" y="4876920"/>
            <a:chExt cx="2666880" cy="1433520"/>
          </a:xfrm>
        </p:grpSpPr>
        <p:grpSp>
          <p:nvGrpSpPr>
            <p:cNvPr id="50" name=""/>
            <p:cNvGrpSpPr/>
            <p:nvPr/>
          </p:nvGrpSpPr>
          <p:grpSpPr>
            <a:xfrm>
              <a:off x="-2666880" y="4876920"/>
              <a:ext cx="2666880" cy="1433520"/>
              <a:chOff x="-2666880" y="4876920"/>
              <a:chExt cx="2666880" cy="1433520"/>
            </a:xfrm>
          </p:grpSpPr>
          <p:sp>
            <p:nvSpPr>
              <p:cNvPr id="51" name=""/>
              <p:cNvSpPr/>
              <p:nvPr/>
            </p:nvSpPr>
            <p:spPr>
              <a:xfrm>
                <a:off x="-2666880" y="4876920"/>
                <a:ext cx="2666880" cy="1194480"/>
              </a:xfrm>
              <a:custGeom>
                <a:avLst/>
                <a:gdLst/>
                <a:ahLst/>
                <a:rect l="l" t="t" r="r" b="b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801360" y="5854320"/>
                <a:ext cx="470520" cy="45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157120" y="5854320"/>
                <a:ext cx="470880" cy="45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1958760" y="4971240"/>
                <a:ext cx="1190520" cy="409680"/>
              </a:xfrm>
              <a:custGeom>
                <a:avLst/>
                <a:gdLst/>
                <a:ahLst/>
                <a:rect l="l" t="t" r="r" b="b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1262520" y="5487120"/>
                <a:ext cx="499680" cy="4510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lnTo>
                      <a:pt x="87" y="1"/>
                    </a:ln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1796040" y="5492880"/>
                <a:ext cx="465480" cy="44532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lnTo>
                      <a:pt x="47" y="80"/>
                    </a:ln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160560" y="557064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-2583720" y="5444280"/>
                <a:ext cx="64800" cy="12600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2176560" y="5538960"/>
                <a:ext cx="74520" cy="44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-474480" y="5538960"/>
                <a:ext cx="80640" cy="44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-2057400" y="5949000"/>
              <a:ext cx="292680" cy="283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-701640" y="5949000"/>
              <a:ext cx="292680" cy="283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114800" y="1981080"/>
            <a:ext cx="4648320" cy="106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43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430"/>
                            </p:stCondLst>
                            <p:childTnLst>
                              <p:par>
                                <p:cTn id="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743200"/>
            <a:ext cx="9144000" cy="1981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2133720" cy="2209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0"/>
            <a:ext cx="2133720" cy="2743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81952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20040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96252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35812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34340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81952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3124080" y="571464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88584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267080" y="571464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464796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50496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32004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358128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03848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441972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986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49824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4986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562720" y="4724280"/>
            <a:ext cx="49824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5400000">
            <a:off x="3124080" y="15238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50460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96180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34268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724280" y="15238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648320"/>
            <a:ext cx="0" cy="220968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81480"/>
            <a:ext cx="2819520" cy="1676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819520" cy="2209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0"/>
            <a:ext cx="2895480" cy="2133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257800"/>
            <a:ext cx="2971800" cy="16002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7339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0"/>
            <a:ext cx="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52280" y="152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перекре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86800" y="7238880"/>
            <a:ext cx="233280" cy="23364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04920" y="3886200"/>
            <a:ext cx="1218960" cy="672840"/>
            <a:chOff x="304920" y="3886200"/>
            <a:chExt cx="1218960" cy="672840"/>
          </a:xfrm>
        </p:grpSpPr>
        <p:grpSp>
          <p:nvGrpSpPr>
            <p:cNvPr id="105" name=""/>
            <p:cNvGrpSpPr/>
            <p:nvPr/>
          </p:nvGrpSpPr>
          <p:grpSpPr>
            <a:xfrm>
              <a:off x="304920" y="3886200"/>
              <a:ext cx="1218960" cy="672840"/>
              <a:chOff x="304920" y="3886200"/>
              <a:chExt cx="1218960" cy="672840"/>
            </a:xfrm>
          </p:grpSpPr>
          <p:sp>
            <p:nvSpPr>
              <p:cNvPr id="106" name=""/>
              <p:cNvSpPr/>
              <p:nvPr/>
            </p:nvSpPr>
            <p:spPr>
              <a:xfrm>
                <a:off x="304920" y="3886200"/>
                <a:ext cx="1218960" cy="560520"/>
              </a:xfrm>
              <a:custGeom>
                <a:avLst/>
                <a:gdLst/>
                <a:ahLst/>
                <a:rect l="l" t="t" r="r" b="b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57400" y="4344840"/>
                <a:ext cx="214920" cy="2142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7840" y="4344840"/>
                <a:ext cx="215280" cy="2142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8560" y="3930480"/>
                <a:ext cx="544320" cy="192240"/>
              </a:xfrm>
              <a:custGeom>
                <a:avLst/>
                <a:gdLst/>
                <a:ahLst/>
                <a:rect l="l" t="t" r="r" b="b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46800" y="4172400"/>
                <a:ext cx="228240" cy="2116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lnTo>
                      <a:pt x="87" y="1"/>
                    </a:ln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2720" y="4175280"/>
                <a:ext cx="212760" cy="20880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lnTo>
                      <a:pt x="47" y="80"/>
                    </a:ln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50440" y="4211640"/>
                <a:ext cx="62280" cy="1033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2720" y="4152600"/>
                <a:ext cx="29520" cy="590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8840" y="4196880"/>
                <a:ext cx="33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06800" y="4196880"/>
                <a:ext cx="367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3200" y="4389120"/>
              <a:ext cx="133920" cy="1332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03120" y="4389120"/>
              <a:ext cx="133920" cy="1332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3581280" y="228600"/>
            <a:ext cx="838440" cy="55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4724280" y="3809880"/>
            <a:ext cx="1368720" cy="59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7162920" y="2895480"/>
            <a:ext cx="1753920" cy="511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572000"/>
            <a:ext cx="350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95480"/>
            <a:ext cx="350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819520"/>
            <a:ext cx="3733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0"/>
            <a:ext cx="0" cy="2819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-360"/>
            <a:ext cx="0" cy="289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572000"/>
            <a:ext cx="3733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4572000"/>
            <a:ext cx="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10080" y="4572000"/>
            <a:ext cx="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1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для пешеходов есть тротуар и пешеходная дорож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0008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89548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2209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600200"/>
            <a:ext cx="533160" cy="4572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465000">
            <a:off x="1523880" y="1980720"/>
            <a:ext cx="914400" cy="60984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685800"/>
            <a:ext cx="761760" cy="53352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377600">
            <a:off x="8146800" y="2009880"/>
            <a:ext cx="990360" cy="609480"/>
          </a:xfrm>
          <a:prstGeom prst="irregularSeal2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1447920"/>
            <a:ext cx="3808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149000">
            <a:off x="5796720" y="1903320"/>
            <a:ext cx="685800" cy="5335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248520" y="1981080"/>
            <a:ext cx="609480" cy="45720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286000"/>
            <a:ext cx="152640" cy="228600"/>
          </a:xfrm>
          <a:custGeom>
            <a:avLst/>
            <a:gdLst>
              <a:gd name="textAreaLeft" fmla="*/ 47880 w 152640"/>
              <a:gd name="textAreaRight" fmla="*/ 104760 w 152640"/>
              <a:gd name="textAreaTop" fmla="*/ 71640 h 228600"/>
              <a:gd name="textAreaBottom" fmla="*/ 156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763" y="6763"/>
                </a:lnTo>
                <a:lnTo>
                  <a:pt x="10800" y="0"/>
                </a:lnTo>
                <a:lnTo>
                  <a:pt x="14837" y="6763"/>
                </a:lnTo>
                <a:lnTo>
                  <a:pt x="21600" y="10800"/>
                </a:lnTo>
                <a:lnTo>
                  <a:pt x="14837" y="14837"/>
                </a:lnTo>
                <a:lnTo>
                  <a:pt x="10800" y="21600"/>
                </a:lnTo>
                <a:lnTo>
                  <a:pt x="6763" y="1483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1430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3880"/>
            <a:ext cx="304560" cy="38124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057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9907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9810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914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39080" y="15238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609480" cy="5331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47000" y="1382040"/>
            <a:ext cx="1124640" cy="2883960"/>
            <a:chOff x="4347000" y="1382040"/>
            <a:chExt cx="1124640" cy="2883960"/>
          </a:xfrm>
        </p:grpSpPr>
        <p:sp>
          <p:nvSpPr>
            <p:cNvPr id="152" name=""/>
            <p:cNvSpPr/>
            <p:nvPr/>
          </p:nvSpPr>
          <p:spPr>
            <a:xfrm rot="481800">
              <a:off x="4416480" y="14475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347000" y="1752480"/>
              <a:ext cx="986400" cy="2513520"/>
              <a:chOff x="4347000" y="1752480"/>
              <a:chExt cx="986400" cy="25135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347000" y="1752480"/>
                <a:ext cx="978480" cy="2513520"/>
                <a:chOff x="4347000" y="1752480"/>
                <a:chExt cx="978480" cy="251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632120" y="17524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49480" y="22100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9934400">
                  <a:off x="4343400" y="23364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035200">
                  <a:off x="4866480" y="23227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74880" y="27237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9480" y="18673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24080" y="18673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749480" y="20376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4419360" y="33742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28840" y="33742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7620120" y="396252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64832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8672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525780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0880" y="1981080"/>
            <a:ext cx="10670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7432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95280" y="5334120"/>
            <a:ext cx="1752840" cy="1207080"/>
            <a:chOff x="1295280" y="5334120"/>
            <a:chExt cx="1752840" cy="1207080"/>
          </a:xfrm>
        </p:grpSpPr>
        <p:grpSp>
          <p:nvGrpSpPr>
            <p:cNvPr id="175" name=""/>
            <p:cNvGrpSpPr/>
            <p:nvPr/>
          </p:nvGrpSpPr>
          <p:grpSpPr>
            <a:xfrm>
              <a:off x="1295280" y="5334120"/>
              <a:ext cx="1752840" cy="1207080"/>
              <a:chOff x="1295280" y="5334120"/>
              <a:chExt cx="1752840" cy="1207080"/>
            </a:xfrm>
          </p:grpSpPr>
          <p:sp>
            <p:nvSpPr>
              <p:cNvPr id="176" name=""/>
              <p:cNvSpPr/>
              <p:nvPr/>
            </p:nvSpPr>
            <p:spPr>
              <a:xfrm>
                <a:off x="1295280" y="5334120"/>
                <a:ext cx="1752840" cy="1005840"/>
              </a:xfrm>
              <a:custGeom>
                <a:avLst/>
                <a:gdLst/>
                <a:ahLst/>
                <a:rect l="l" t="t" r="r" b="b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21080" y="6157080"/>
                <a:ext cx="309240" cy="384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30080" y="6157080"/>
                <a:ext cx="309240" cy="384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60400" y="5413680"/>
                <a:ext cx="782640" cy="344880"/>
              </a:xfrm>
              <a:custGeom>
                <a:avLst/>
                <a:gdLst/>
                <a:ahLst/>
                <a:rect l="l" t="t" r="r" b="b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17960" y="5847840"/>
                <a:ext cx="328320" cy="37980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lnTo>
                      <a:pt x="87" y="1"/>
                    </a:ln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67320" y="5852880"/>
                <a:ext cx="306000" cy="37476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lnTo>
                      <a:pt x="47" y="80"/>
                    </a:ln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2640" y="5918040"/>
                <a:ext cx="89640" cy="1857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49640" y="5811840"/>
                <a:ext cx="42480" cy="10620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17120" y="5891400"/>
                <a:ext cx="4896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36000" y="5891400"/>
                <a:ext cx="5292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695600" y="6236640"/>
              <a:ext cx="192240" cy="238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86600" y="6236640"/>
              <a:ext cx="192240" cy="238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39625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 flipH="1" rot="21553200">
            <a:off x="990000" y="2284200"/>
            <a:ext cx="343044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55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0.34965 0.00555 E">
                                      <p:cBhvr>
                                        <p:cTn id="68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еребегай дорогу перед движущейся маши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866880"/>
            <a:ext cx="9144000" cy="5991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600" y="3972600"/>
            <a:ext cx="1124640" cy="2884680"/>
            <a:chOff x="3600" y="3972600"/>
            <a:chExt cx="1124640" cy="2884680"/>
          </a:xfrm>
        </p:grpSpPr>
        <p:sp>
          <p:nvSpPr>
            <p:cNvPr id="193" name=""/>
            <p:cNvSpPr/>
            <p:nvPr/>
          </p:nvSpPr>
          <p:spPr>
            <a:xfrm rot="481800">
              <a:off x="73080" y="4038120"/>
              <a:ext cx="1001520" cy="8366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00" y="4343400"/>
              <a:ext cx="986400" cy="2513880"/>
              <a:chOff x="3600" y="4343400"/>
              <a:chExt cx="986400" cy="25138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3600" y="4343400"/>
                <a:ext cx="978480" cy="2513880"/>
                <a:chOff x="3600" y="4343400"/>
                <a:chExt cx="978480" cy="2513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88720" y="434340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06080" y="480096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9934400">
                  <a:off x="0" y="492768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35200">
                  <a:off x="523080" y="491364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1480" y="531504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6080" y="44582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80680" y="44582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6080" y="462852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75960" y="596556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440" y="596556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657600" y="28195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3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ить дорогу надо только по пешеходному пешеходу  - «зебр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1143000"/>
            <a:ext cx="9144000" cy="5714640"/>
            <a:chOff x="0" y="1143000"/>
            <a:chExt cx="9144000" cy="5714640"/>
          </a:xfrm>
        </p:grpSpPr>
        <p:sp>
          <p:nvSpPr>
            <p:cNvPr id="210" name=""/>
            <p:cNvSpPr/>
            <p:nvPr/>
          </p:nvSpPr>
          <p:spPr>
            <a:xfrm>
              <a:off x="0" y="1143000"/>
              <a:ext cx="9144000" cy="571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1143000"/>
              <a:ext cx="76176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0120" y="1143000"/>
              <a:ext cx="76176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6120" y="1711080"/>
            <a:ext cx="1972800" cy="4459320"/>
            <a:chOff x="546120" y="1711080"/>
            <a:chExt cx="1972800" cy="4459320"/>
          </a:xfrm>
        </p:grpSpPr>
        <p:sp>
          <p:nvSpPr>
            <p:cNvPr id="217" name=""/>
            <p:cNvSpPr/>
            <p:nvPr/>
          </p:nvSpPr>
          <p:spPr>
            <a:xfrm rot="481800">
              <a:off x="662400" y="1828440"/>
              <a:ext cx="1774800" cy="12884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546120" y="2298240"/>
              <a:ext cx="1742040" cy="3872160"/>
              <a:chOff x="546120" y="2298240"/>
              <a:chExt cx="1742040" cy="3872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46120" y="2298240"/>
                <a:ext cx="1720080" cy="3872160"/>
                <a:chOff x="546120" y="2298240"/>
                <a:chExt cx="1720080" cy="387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045080" y="2298240"/>
                  <a:ext cx="828720" cy="6166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53160" y="3003480"/>
                  <a:ext cx="412920" cy="879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9934400">
                  <a:off x="533520" y="3198240"/>
                  <a:ext cx="930600" cy="17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2035200">
                  <a:off x="1460520" y="3177000"/>
                  <a:ext cx="826560" cy="17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43920" y="3794760"/>
                  <a:ext cx="1034640" cy="23756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253160" y="2475000"/>
                  <a:ext cx="103680" cy="85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562400" y="2475000"/>
                  <a:ext cx="103680" cy="85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53160" y="2737800"/>
                  <a:ext cx="308880" cy="88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68520" y="4797000"/>
                <a:ext cx="539280" cy="2494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48160" y="4797000"/>
                <a:ext cx="540000" cy="2494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47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подземному пер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79520" y="2986200"/>
            <a:ext cx="1029960" cy="2194560"/>
            <a:chOff x="1379520" y="2986200"/>
            <a:chExt cx="1029960" cy="2194560"/>
          </a:xfrm>
        </p:grpSpPr>
        <p:sp>
          <p:nvSpPr>
            <p:cNvPr id="233" name=""/>
            <p:cNvSpPr/>
            <p:nvPr/>
          </p:nvSpPr>
          <p:spPr>
            <a:xfrm rot="481800">
              <a:off x="1438920" y="3047760"/>
              <a:ext cx="930600" cy="63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379520" y="3278520"/>
              <a:ext cx="911880" cy="1902240"/>
              <a:chOff x="1379520" y="3278520"/>
              <a:chExt cx="911880" cy="19022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379520" y="3278520"/>
                <a:ext cx="898920" cy="1902240"/>
                <a:chOff x="1379520" y="3278520"/>
                <a:chExt cx="898920" cy="1902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39800" y="3278520"/>
                  <a:ext cx="434520" cy="3027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748880" y="3624840"/>
                  <a:ext cx="216360" cy="4320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9934400">
                  <a:off x="1371600" y="3720960"/>
                  <a:ext cx="488160" cy="8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35200">
                  <a:off x="1857600" y="3710160"/>
                  <a:ext cx="433440" cy="8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86880" y="4013640"/>
                  <a:ext cx="542520" cy="116712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748880" y="336528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911240" y="336528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48880" y="3494520"/>
                  <a:ext cx="162000" cy="43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1442160" y="4505760"/>
                <a:ext cx="28260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08440" y="4505760"/>
                <a:ext cx="28296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274320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0"/>
            <a:ext cx="76320" cy="68580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5105520"/>
            <a:ext cx="1600200" cy="1752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1676520"/>
            <a:ext cx="1600200" cy="1676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105520"/>
            <a:ext cx="1600200" cy="838080"/>
          </a:xfrm>
          <a:custGeom>
            <a:avLst/>
            <a:gdLst>
              <a:gd name="textAreaLeft" fmla="*/ 351720 w 1600200"/>
              <a:gd name="textAreaRight" fmla="*/ 1248480 w 160020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5715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5867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086240" y="2438280"/>
            <a:ext cx="1600200" cy="914400"/>
          </a:xfrm>
          <a:custGeom>
            <a:avLst/>
            <a:gdLst>
              <a:gd name="textAreaLeft" fmla="*/ 351720 w 1600200"/>
              <a:gd name="textAreaRight" fmla="*/ 1248480 w 16002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3200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305920" y="1676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76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143000" y="5943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5943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0"/>
            <a:ext cx="0" cy="685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 rot="21361200">
            <a:off x="3123720" y="2057040"/>
            <a:ext cx="1447920" cy="82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486400" y="4419720"/>
            <a:ext cx="1119240" cy="14936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7399440" y="1766880"/>
            <a:ext cx="1029600" cy="2195280"/>
            <a:chOff x="7399440" y="1766880"/>
            <a:chExt cx="1029600" cy="2195280"/>
          </a:xfrm>
        </p:grpSpPr>
        <p:sp>
          <p:nvSpPr>
            <p:cNvPr id="272" name=""/>
            <p:cNvSpPr/>
            <p:nvPr/>
          </p:nvSpPr>
          <p:spPr>
            <a:xfrm rot="481800">
              <a:off x="7458840" y="1828440"/>
              <a:ext cx="930240" cy="63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399440" y="2059560"/>
              <a:ext cx="911520" cy="1902600"/>
              <a:chOff x="7399440" y="2059560"/>
              <a:chExt cx="911520" cy="190260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7399440" y="2059560"/>
                <a:ext cx="898560" cy="1902600"/>
                <a:chOff x="7399440" y="2059560"/>
                <a:chExt cx="898560" cy="19026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659720" y="2059560"/>
                  <a:ext cx="434160" cy="3027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768800" y="2405880"/>
                  <a:ext cx="216360" cy="4323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9934400">
                  <a:off x="7391520" y="2501640"/>
                  <a:ext cx="487800" cy="8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035200">
                  <a:off x="7877160" y="2491200"/>
                  <a:ext cx="433440" cy="8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606440" y="2794680"/>
                  <a:ext cx="542160" cy="116748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68800" y="214632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0800" y="214632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768800" y="2275560"/>
                  <a:ext cx="162000" cy="43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7462080" y="3287160"/>
                <a:ext cx="28260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28000" y="3287160"/>
                <a:ext cx="28296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4000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555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55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ветофор – он регулирует движение транспорта и пешеходов на до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62520" y="1371600"/>
            <a:ext cx="1371600" cy="5181480"/>
            <a:chOff x="3962520" y="1371600"/>
            <a:chExt cx="1371600" cy="5181480"/>
          </a:xfrm>
        </p:grpSpPr>
        <p:grpSp>
          <p:nvGrpSpPr>
            <p:cNvPr id="287" name=""/>
            <p:cNvGrpSpPr/>
            <p:nvPr/>
          </p:nvGrpSpPr>
          <p:grpSpPr>
            <a:xfrm>
              <a:off x="3962520" y="1371600"/>
              <a:ext cx="1371600" cy="3352680"/>
              <a:chOff x="3962520" y="1371600"/>
              <a:chExt cx="1371600" cy="3352680"/>
            </a:xfrm>
          </p:grpSpPr>
          <p:sp>
            <p:nvSpPr>
              <p:cNvPr id="288" name=""/>
              <p:cNvSpPr/>
              <p:nvPr/>
            </p:nvSpPr>
            <p:spPr>
              <a:xfrm>
                <a:off x="3962520" y="1371600"/>
                <a:ext cx="1371600" cy="3352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0600" y="1603800"/>
                <a:ext cx="774720" cy="705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60600" y="2544840"/>
                <a:ext cx="774720" cy="705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60600" y="3544200"/>
                <a:ext cx="774720" cy="7052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H="1">
              <a:off x="4114800" y="655308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4724280"/>
              <a:ext cx="457200" cy="1828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49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7</cp:lastModifiedBy>
  <dcterms:modified xsi:type="dcterms:W3CDTF">2012-10-31T16:1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