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0FD-51FD-4269-BE3B-51B3C3E2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EC0-33B2-444A-BD29-3CE40B78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C52-3718-4F1F-A501-91C9FA21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763-15D3-4060-9922-BDC6809E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D05E-6F49-436C-AA4E-1C8C6DB3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1A71-7567-4D80-8231-83B96F08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FAC9-05FC-44CD-82ED-C7C18A71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0D62-6840-4E38-A09B-DEEC07B7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F0B9-8F3A-48B6-9D04-0D7FE03E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3100-438A-477A-9524-1658D3C9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F408-7B7F-402A-BB1E-AAAE8AC3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E5DC-D71B-4A9A-BDD7-0E776894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EAD9-87C9-4A7C-9947-AB22CBB8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D431-DCEC-4BE5-B022-47B25E35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C745-955D-414D-9620-62806734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D697-CE6C-44F4-9319-9C849CB8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F699-6394-4062-B0B3-9D88E91F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34A-CDC0-42B7-9C25-41CDABDC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4E70-F899-48B5-A6E1-118E912B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E46-F653-4BF2-84B7-ED7E3A75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BF0-1EA7-41C8-AC1B-E99BA3A9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CCB-703F-4527-A0E9-58FEFFCF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CD5-C15B-4EE7-B0BD-D30445D3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CC3-B5F4-4ED0-9EB0-69B6893B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8CCF-211E-4B29-BB34-EB951C743BB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C940-E18A-449E-9A59-3F9BB3AEE08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24000" y="333360"/>
            <a:ext cx="4895640" cy="3456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ГОСУДАРСТВЕННОЕ ДОШКОЛЬНОЕ ОБРАЗОВАТЕЛЬНОЕ УЧРЕЖДЕНИЕ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ДЕТСКИЙ САД № 40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ОБЩЕРАЗВИВАЮЩЕГО ВИДА С ПРИОРИТЕТНЫМ ОСУЩЕСТВЛЕНИЕМ ДЕЯТЕЛЬНОСТИ ПО ПОЗНАВАТЕЛЬНО-РЕЧЕВОМУ РАЗВИТИЮ ДЕТЕЙ МОСКОВСКОГО РАЙОНА САНКТ-ПЕТЕРБУРГА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39640" y="4437000"/>
            <a:ext cx="540072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Из опыта рабо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накомство с организмом человек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сполнение деталей макета: «Тело человека.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419640" y="25653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полнение макета: «Строение человек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657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полнение дидактической игр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полнение макета: «Полезные витамины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635280" y="278136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ект: «Как мы устроены»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зентация проект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ект проведен в государственном дошкольном образовательном учреждении детский сад №40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итатель: Дядькина Ирина Анатольев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Цель проект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8560" y="2259000"/>
            <a:ext cx="71978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Цель: Расширить знания детей о том, как устроено тело челове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спитывать желание быть здоровым, беречь свой организ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и проект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8560" y="2200320"/>
            <a:ext cx="71978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- расширение знаний детей о строении челове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воспитывание желания беречь свой организ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формирование навыка правильного питания как составной части ЗОЖ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туальность проблем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8560" y="2259000"/>
            <a:ext cx="71978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стояние здоровья подрастающего поколения – важнейший показатель благополучия общества и государства, отражающий не только настоящую ситуацию, но и дающий точный прогноз на будущее. «Чтобы быть здоровым, нужны собственные усилия – постоянные, и значит заменить их ничем нельзя». (Н. Амосов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Человек должен овладеть искусством здоровой жизни, уметь вести здоровый образ жизни (ЗОЖ)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оспитывать в себе желание беречь свой организм, расти здоровым, заниматься спорт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варительная работ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32040" y="2571840"/>
            <a:ext cx="7138800" cy="29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едварительная работа: Беседа о строении челове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накомство с организмо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езентация книг по данной теме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ип проект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По доминирующей в проект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 деятельности: информацион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По содержани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творчески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По числу участников проект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групповой (15-21 человек, все желающие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По времени проведе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долгосрочный (3 месяца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По характеру контактов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в рамках ДО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По профилю знани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По характеру участия ребенка в проекте: 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астник от зарождения идеи до получения результата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остав проектной групп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уководитель проекта - воспитател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ти подготовительной групп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419640" y="29973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накомство со строением человек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сматривание строения челове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6:37:29Z</dcterms:created>
  <dc:creator>vik</dc:creator>
  <dc:description/>
  <dc:language>en-US</dc:language>
  <cp:lastModifiedBy>Ира</cp:lastModifiedBy>
  <dcterms:modified xsi:type="dcterms:W3CDTF">2013-09-29T14:16:53Z</dcterms:modified>
  <cp:revision>25</cp:revision>
  <dc:subject/>
  <dc:title>Слайд 1</dc:title>
</cp:coreProperties>
</file>