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491E-4D5D-49C2-8E36-97C3C5D798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F28-BB0B-4374-A9CB-DBC3544F2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FF5-9F10-46F3-9033-6E39FC7EF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4CA-B02D-4C75-84B4-B2B271CE2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ACE0-3689-41E7-890A-9D4DA22D7F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FB4-ABA0-4199-918E-A6C550CB2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7E55-6252-4C70-B3DE-8330007BC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CF0A-95DF-4A73-ACEF-3A30ED1A9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5BA-AE6C-496E-8372-9A96F6923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2273-A56D-4163-8B2A-A60BA0DD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021A-469A-4361-A34A-A7AEE77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1A81-C343-45B7-B926-3AD10F9E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0D2C-5FD4-4859-9726-96DB04BF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E5B7-18CB-42E2-B4D0-891D0594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A9D-BCF3-499B-8E24-2ACEAFF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29BF-75AB-46B1-933C-4701D25A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5C0-02ED-4B9B-99C1-FC88714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2B67-DF77-413E-BEBB-DF4F0DB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55C4-07F6-4365-94EE-F9E50556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C44-BEAA-40EE-82E9-6CA41DF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CC34-A855-4CEA-AD1C-3106AA3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F543-7C0D-41DE-A41B-EC2E5ED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566A-E943-485D-BB50-7DCAD4E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CE2-E590-47C4-951B-09C5857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A791-5CDE-4A19-9739-70AEFAEF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A19-BB23-4E1B-86CD-10000125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7775-3EB5-400C-9796-5623C6B5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8665-B8CE-4B6F-BA60-B18BDBF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87D9-F4ED-4A2D-A3EC-FCD2F44E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D5F8-925F-4B4C-B431-4FCEA263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8096-8DF2-47F4-8F06-0344420F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CF32-9C18-4878-B920-E239AD2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AC80-4FE0-4642-8BC3-B56553B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5EF-3FD7-4B79-B9D0-E2E6A12DD7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844-A4BA-46F7-B326-0DF72ACEE7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ение здоровьесберегающих технологий с обучающими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19720" y="45720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c"/>
                </a:solidFill>
                <a:latin typeface="Arial"/>
              </a:rPr>
              <a:t>Учитель индивидуа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c"/>
                </a:solidFill>
                <a:latin typeface="Arial"/>
              </a:rPr>
              <a:t>Каменской коррекционной школы №15: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асторнова В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/>
          <p:cNvSpPr/>
          <p:nvPr/>
        </p:nvSpPr>
        <p:spPr>
          <a:xfrm>
            <a:off x="2286000" y="2133720"/>
            <a:ext cx="2209680" cy="45720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572000"/>
              <a:gd name="textAreaBottom" fmla="*/ 4464360 h 4572000"/>
            </a:gdLst>
            <a:ahLst/>
            <a:rect l="textAreaLeft" t="textAreaTop" r="textAreaRight" b="textAreaBottom"/>
            <a:pathLst>
              <a:path w="21600" h="44688">
                <a:moveTo>
                  <a:pt x="3600" y="0"/>
                </a:moveTo>
                <a:arcTo wR="3600" hR="3600" stAng="16200000" swAng="-5400000"/>
                <a:lnTo>
                  <a:pt x="0" y="41088"/>
                </a:lnTo>
                <a:arcTo wR="3600" hR="3600" stAng="10800000" swAng="-5400000"/>
                <a:lnTo>
                  <a:pt x="18000" y="44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f4a1"/>
          </a:solidFill>
          <a:ln w="14400">
            <a:solidFill>
              <a:srgbClr val="097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имна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альчиков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ыхатель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л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ртикуля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572000" y="2133720"/>
            <a:ext cx="2209680" cy="4495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495680"/>
              <a:gd name="textAreaBottom" fmla="*/ 4388040 h 4495680"/>
            </a:gdLst>
            <a:ahLst/>
            <a:rect l="textAreaLeft" t="textAreaTop" r="textAreaRight" b="textAreaBottom"/>
            <a:pathLst>
              <a:path w="21600" h="43942">
                <a:moveTo>
                  <a:pt x="3600" y="0"/>
                </a:moveTo>
                <a:arcTo wR="3600" hR="3600" stAng="16200000" swAng="-5400000"/>
                <a:lnTo>
                  <a:pt x="0" y="40342"/>
                </a:lnTo>
                <a:arcTo wR="3600" hR="3600" stAng="10800000" swAng="-5400000"/>
                <a:lnTo>
                  <a:pt x="18000" y="43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14400">
            <a:solidFill>
              <a:srgbClr val="097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2"/>
                </a:solidFill>
                <a:latin typeface="Arial"/>
              </a:rPr>
              <a:t>Кинес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2"/>
                </a:solidFill>
                <a:latin typeface="Arial"/>
              </a:rPr>
              <a:t>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2"/>
                </a:solidFill>
                <a:latin typeface="Arial"/>
              </a:rPr>
              <a:t>Уроки- экскурси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2"/>
                </a:solidFill>
                <a:latin typeface="Arial"/>
              </a:rPr>
              <a:t>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52280" y="2133720"/>
            <a:ext cx="1981440" cy="44956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4495680"/>
              <a:gd name="textAreaBottom" fmla="*/ 4399200 h 4495680"/>
            </a:gdLst>
            <a:ahLst/>
            <a:rect l="textAreaLeft" t="textAreaTop" r="textAreaRight" b="textAreaBottom"/>
            <a:pathLst>
              <a:path w="21600" h="49003">
                <a:moveTo>
                  <a:pt x="3600" y="0"/>
                </a:moveTo>
                <a:arcTo wR="3600" hR="3600" stAng="16200000" swAng="-5400000"/>
                <a:lnTo>
                  <a:pt x="0" y="45403"/>
                </a:lnTo>
                <a:arcTo wR="3600" hR="3600" stAng="10800000" swAng="-5400000"/>
                <a:lnTo>
                  <a:pt x="18000" y="49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99"/>
          </a:solidFill>
          <a:ln w="14400">
            <a:solidFill>
              <a:srgbClr val="097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из.мин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Логоритм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кие упражнения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ля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934320" y="2133720"/>
            <a:ext cx="2057400" cy="4572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572000"/>
              <a:gd name="textAreaBottom" fmla="*/ 4471560 h 4572000"/>
            </a:gdLst>
            <a:ahLst/>
            <a:rect l="textAreaLeft" t="textAreaTop" r="textAreaRight" b="textAreaBottom"/>
            <a:pathLst>
              <a:path w="21600" h="47995">
                <a:moveTo>
                  <a:pt x="3600" y="0"/>
                </a:moveTo>
                <a:arcTo wR="3600" hR="3600" stAng="16200000" swAng="-5400000"/>
                <a:lnTo>
                  <a:pt x="0" y="44395"/>
                </a:lnTo>
                <a:arcTo wR="3600" hR="3600" stAng="10800000" swAng="-5400000"/>
                <a:lnTo>
                  <a:pt x="18000" y="479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f4a1"/>
          </a:solidFill>
          <a:ln w="14400">
            <a:solidFill>
              <a:srgbClr val="097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Массаж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само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Музыкотерап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изотера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Игротера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1840" y="501840"/>
            <a:ext cx="8140320" cy="825120"/>
          </a:xfrm>
          <a:prstGeom prst="rect">
            <a:avLst/>
          </a:prstGeom>
          <a:solidFill>
            <a:srgbClr val="cccce6"/>
          </a:solidFill>
          <a:ln w="14400">
            <a:solidFill>
              <a:srgbClr val="097535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рмы и средства работы по здоровьесбережению, применяемые учителями индивидуального об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5400000">
            <a:off x="5240160" y="13888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 rot="5400000">
            <a:off x="7602480" y="13888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 rot="5400000">
            <a:off x="3030480" y="13888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 rot="5400000">
            <a:off x="744480" y="13888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Запи67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Актуальность темы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Ещё с древних времён люди пытались лечить и оздоравливать себя разными средствами. Это были воздух, вода, солнце, растения – всё то, что их окружало.   Тем более актуально оздоравливание и здоровьесбережение в современной жизни; и конечно для людей с ограниченными возможностями здоров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бота с учащимися коррекционной школы предполагает, что учитель в образовательной деятельности уделяет обязательно внимание сбережению и укреплению здоровья обучающихся. А, если принимать во внимание то, что индивидуально обучаются на дому дети неспособные по состоянию здоровья посещать занятия в школе, требующие особого внимания взрослых к состоянию их самочувствия, то актуальность темы невозможно переоценить! Только большая любовь к профессии, особый склад характера помогают учителям индивидуального обучения, преподающим детям с ограниченными возможностями здоровья не навредить, а напротив укрепить здоровье ребёнка, расширить границы его возможностей, заставить его поверить в свои способности, поверить, если хотите, даже в чу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c"/>
                </a:solidFill>
                <a:latin typeface="Arial"/>
              </a:rPr>
              <a:t>Приносить пользу здоровью ребёнка и его семье посредством обоснованного выбора здоровьесберегающих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c"/>
                </a:solidFill>
                <a:latin typeface="Arial"/>
              </a:rPr>
              <a:t>Не допускать эмоциональных стрессов и негативных ситуаций, преобладания отрицательных оценочных суждений во время зан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c"/>
                </a:solidFill>
                <a:latin typeface="Arial"/>
              </a:rPr>
              <a:t>Следить за соблюдением санитарно-гигиенических и физиологических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c"/>
                </a:solidFill>
                <a:latin typeface="Arial"/>
              </a:rPr>
              <a:t>Учить соблюдению меры во всём, что касается здоровья, учить сознавать ценность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c"/>
                </a:solidFill>
                <a:latin typeface="Arial"/>
              </a:rPr>
              <a:t>Учить осознавать необходимость приложения усилий для поддержания и укрепления здоровья всеми участниками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7535"/>
                </a:solidFill>
                <a:latin typeface="Arial"/>
              </a:rPr>
              <a:t>Принципы здоровьесбережения в процессе индивидуально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Использование в обучении только тех методов, которые гарантируют сохранность здоровья и безопасность жизн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Учитель - образец для 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Особенности развития данного ребёнка учитываются при составлении учебных пл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Физкультура обязательна для обучающихся с ОВЗ (в нашем случае – лечебная физкульту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Без затраты значительных усилий нет мотивации удовлетворё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ивычки здорового образа жизни способствуют реализации определённого уровня здоровья почти неосозн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3"/>
          <p:cNvSpPr/>
          <p:nvPr/>
        </p:nvSpPr>
        <p:spPr>
          <a:xfrm>
            <a:off x="304920" y="1676520"/>
            <a:ext cx="8534160" cy="4724280"/>
          </a:xfrm>
          <a:prstGeom prst="ellipse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3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5" name="Oval 18"/>
          <p:cNvSpPr/>
          <p:nvPr/>
        </p:nvSpPr>
        <p:spPr>
          <a:xfrm>
            <a:off x="685800" y="3581280"/>
            <a:ext cx="3798720" cy="1994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ЗДОРОВ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ОБИТАНИЯ во внеу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время, профил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мероприятия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7535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2286000" y="1905120"/>
            <a:ext cx="4724280" cy="1955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2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2"/>
                </a:solidFill>
                <a:latin typeface="Arial"/>
              </a:rPr>
              <a:t>Образ жизн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2"/>
                </a:solidFill>
                <a:latin typeface="Arial"/>
              </a:rPr>
              <a:t>и работа с родителями</a:t>
            </a:r>
            <a:r>
              <a:rPr b="1" lang="ru-RU" sz="2800" spc="-1" strike="noStrike">
                <a:solidFill>
                  <a:srgbClr val="c802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4495680" y="3581280"/>
            <a:ext cx="4038840" cy="1998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223"/>
                </a:solidFill>
                <a:latin typeface="Arial"/>
              </a:rPr>
              <a:t>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223"/>
                </a:solidFill>
                <a:latin typeface="Arial"/>
              </a:rPr>
              <a:t>осозна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223"/>
                </a:solidFill>
                <a:latin typeface="Arial"/>
              </a:rPr>
              <a:t>укрепления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99cc"/>
                </a:solidFill>
                <a:latin typeface="Arial"/>
              </a:rPr>
              <a:t>во время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179280" y="3808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615"/>
                </a:solidFill>
                <a:latin typeface="Arial"/>
              </a:rPr>
              <a:t>Три кита, на которых базируется использование здоровьесберегающих технологий при индивидуальном обу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0" name="AutoShape 4"/>
          <p:cNvSpPr/>
          <p:nvPr/>
        </p:nvSpPr>
        <p:spPr>
          <a:xfrm>
            <a:off x="1447920" y="1295280"/>
            <a:ext cx="3124080" cy="1905120"/>
          </a:xfrm>
          <a:prstGeom prst="roundRect">
            <a:avLst>
              <a:gd name="adj" fmla="val 16667"/>
            </a:avLst>
          </a:prstGeom>
          <a:solidFill>
            <a:srgbClr val="68f4a1"/>
          </a:solidFill>
          <a:ln w="14400">
            <a:solidFill>
              <a:srgbClr val="097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Не допу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нервных перегрузок</a:t>
            </a:r>
            <a:r>
              <a:rPr b="1" lang="en-US" sz="2000" spc="-1" strike="noStrike">
                <a:solidFill>
                  <a:srgbClr val="0000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негатива, 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ситуаций успех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62120" y="3276720"/>
            <a:ext cx="533160" cy="1368360"/>
          </a:xfrm>
          <a:custGeom>
            <a:avLst/>
            <a:gdLst>
              <a:gd name="textAreaLeft" fmla="*/ 83160 w 533160"/>
              <a:gd name="textAreaRight" fmla="*/ 466560 w 5331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ff"/>
          </a:solidFill>
          <a:ln w="144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514600" y="3124080"/>
            <a:ext cx="10080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ff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600200" y="3276720"/>
            <a:ext cx="2819520" cy="182880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Полноц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питание, сказать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всему вредн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гигиена тел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жилища, м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1066680"/>
            <a:ext cx="609480" cy="579132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5791320"/>
              <a:gd name="textAreaBottom" fmla="*/ 5761800 h 5791320"/>
            </a:gdLst>
            <a:ahLst/>
            <a:rect l="textAreaLeft" t="textAreaTop" r="textAreaRight" b="textAreaBottom"/>
            <a:pathLst>
              <a:path w="21600" h="205136">
                <a:moveTo>
                  <a:pt x="3600" y="0"/>
                </a:moveTo>
                <a:arcTo wR="3600" hR="3600" stAng="16200000" swAng="-5400000"/>
                <a:lnTo>
                  <a:pt x="0" y="201536"/>
                </a:lnTo>
                <a:arcTo wR="3600" hR="3600" stAng="10800000" swAng="-5400000"/>
                <a:lnTo>
                  <a:pt x="18000" y="205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5003640" y="19162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5076720" y="389736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5943600" y="3352680"/>
            <a:ext cx="287964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18900000"/>
          </a:gradFill>
          <a:ln w="144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хра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ма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 rot="5400000">
            <a:off x="-2050560" y="4002840"/>
            <a:ext cx="493236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апросы и ожидания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5867280" y="1523880"/>
            <a:ext cx="288000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2700000"/>
          </a:gradFill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1676520" y="5257800"/>
            <a:ext cx="281916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Движ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физкуль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труд и участие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2"/>
                </a:solidFill>
                <a:latin typeface="Arial"/>
              </a:rPr>
              <a:t>обществ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2514600" y="5105520"/>
            <a:ext cx="1008000" cy="1666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ff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5076720" y="5734080"/>
            <a:ext cx="755640" cy="720720"/>
          </a:xfrm>
          <a:custGeom>
            <a:avLst/>
            <a:gdLst>
              <a:gd name="textAreaLeft" fmla="*/ 118080 w 755640"/>
              <a:gd name="textAreaRight" fmla="*/ 661320 w 7556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f3ada"/>
          </a:solidFill>
          <a:ln w="144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5943600" y="5181480"/>
            <a:ext cx="287964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8900000"/>
          </a:gradFill>
          <a:ln w="14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тивный образ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изическ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0" y="0"/>
            <a:ext cx="9144000" cy="873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7535"/>
                </a:solidFill>
                <a:latin typeface="Arial"/>
              </a:rPr>
              <a:t>Составляющие здоровь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7535"/>
                </a:solidFill>
                <a:latin typeface="Arial"/>
              </a:rPr>
              <a:t>на д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3970440" y="683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3"/>
          <p:cNvSpPr/>
          <p:nvPr/>
        </p:nvSpPr>
        <p:spPr>
          <a:xfrm>
            <a:off x="304920" y="1676520"/>
            <a:ext cx="8534160" cy="5029200"/>
          </a:xfrm>
          <a:prstGeom prst="ellipse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8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0" name="Oval 18"/>
          <p:cNvSpPr/>
          <p:nvPr/>
        </p:nvSpPr>
        <p:spPr>
          <a:xfrm>
            <a:off x="533520" y="3352680"/>
            <a:ext cx="3962160" cy="1905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звивать двиг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ктивность ребёнка, ловк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авильную ос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2286000" y="1752480"/>
            <a:ext cx="4572000" cy="1828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ргументировать</a:t>
            </a: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 в необход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получения медикаментоз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4495680" y="3429000"/>
            <a:ext cx="403884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3ada"/>
                </a:solidFill>
                <a:latin typeface="Arial"/>
              </a:rPr>
              <a:t>Знакомить с принцип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3ada"/>
                </a:solidFill>
                <a:latin typeface="Arial"/>
              </a:rPr>
              <a:t>здорового полноц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3ad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f3ada"/>
                </a:solidFill>
                <a:latin typeface="Arial"/>
              </a:rPr>
              <a:t>питания и здорового об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3ada"/>
                </a:solidFill>
                <a:latin typeface="Arial"/>
              </a:rPr>
              <a:t>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179280" y="4572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615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3615"/>
                </a:solidFill>
                <a:latin typeface="Arial"/>
              </a:rPr>
              <a:t>Задачи работы с семьёй обучающегося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2133720" y="4952880"/>
            <a:ext cx="4419360" cy="1676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Убедить соблю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правила гиги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тела и жил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3"/>
          <p:cNvSpPr/>
          <p:nvPr/>
        </p:nvSpPr>
        <p:spPr>
          <a:xfrm>
            <a:off x="304920" y="1447920"/>
            <a:ext cx="8534160" cy="5410080"/>
          </a:xfrm>
          <a:prstGeom prst="ellipse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7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9" name="Oval 18"/>
          <p:cNvSpPr/>
          <p:nvPr/>
        </p:nvSpPr>
        <p:spPr>
          <a:xfrm>
            <a:off x="609480" y="3429000"/>
            <a:ext cx="4027680" cy="2743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очень важная проблем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психолог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стабильность и микрокли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97535"/>
                </a:solidFill>
                <a:latin typeface="Arial"/>
              </a:rPr>
              <a:t>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2209680" y="1523880"/>
            <a:ext cx="4724640" cy="2210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здоровьесбереж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тяжёл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0"/>
          <p:cNvSpPr/>
          <p:nvPr/>
        </p:nvSpPr>
        <p:spPr>
          <a:xfrm>
            <a:off x="4572000" y="3429000"/>
            <a:ext cx="4038480" cy="2666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"/>
              </a:rPr>
              <a:t>личный пример родител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"/>
              </a:rPr>
              <a:t>наиболее важен для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179280" y="4572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615"/>
                </a:solidFill>
                <a:latin typeface="Arial"/>
              </a:rPr>
              <a:t>Необходимо убедить родителей в том, </a:t>
            </a:r>
            <a:r>
              <a:rPr b="1" lang="ru-RU" sz="3200" spc="-1" strike="noStrike">
                <a:solidFill>
                  <a:srgbClr val="0000f2"/>
                </a:solidFill>
                <a:latin typeface="Arial"/>
              </a:rPr>
              <a:t>что</a:t>
            </a:r>
            <a:r>
              <a:rPr b="1" lang="ru-RU" sz="3200" spc="-1" strike="noStrike">
                <a:solidFill>
                  <a:srgbClr val="ff3615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2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f2"/>
                </a:solidFill>
                <a:latin typeface="Arial"/>
              </a:rPr>
              <a:t>Возможности укрепления здоровья в учебное время.</a:t>
            </a:r>
            <a:r>
              <a:rPr b="0" lang="en-US" sz="4000" spc="-1" strike="noStrike">
                <a:solidFill>
                  <a:srgbClr val="0000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535"/>
                </a:solidFill>
                <a:latin typeface="Arial"/>
              </a:rPr>
              <a:t>В комплексе  регулярное проведение на уроках индивидуального обучения запланированной оздоровительной и здоровьесберегающей деятельности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535"/>
                </a:solidFill>
                <a:latin typeface="Arial"/>
              </a:rPr>
              <a:t>Рациональная организация двигательной активности участников образовательного процесса во время занятий, на переменах, во время прогулок, экскурсий, хозяйственно-бытового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535"/>
                </a:solidFill>
                <a:latin typeface="Arial"/>
              </a:rPr>
              <a:t>Соблюдение санитарно-гигиенических норм и требований к организации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535"/>
                </a:solidFill>
                <a:latin typeface="Arial"/>
              </a:rPr>
              <a:t>Систематическая работа по формированию  понимания ценности здоровья и здорового образа жизни с обучающимися и их сем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Презентация домашников</cp:keywords>
  <dc:language>en-US</dc:language>
  <cp:lastModifiedBy>1</cp:lastModifiedBy>
  <dcterms:modified xsi:type="dcterms:W3CDTF">2013-09-29T11:39:21Z</dcterms:modified>
  <cp:revision>3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