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7C5-69D9-4315-BFB5-5BB5499E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935-6442-4851-B9F9-2A515F41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8AF-A553-454A-8913-BEF30FA3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2E7-EBFB-4EC4-A473-85080E67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25E4-84B3-48BC-9908-CBC25AD5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2B0E-C0E9-4E36-99D5-0E6FAF30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6BA8-419F-4764-9DE4-7CD43F43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E174-A7AE-42AF-8E89-1B968173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C432-65AB-4659-92DF-EBDBD29E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527A-77D1-4868-A616-4C0778E2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0616-A1DD-4C4F-B707-1E24A6E6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DE4-93C0-46F7-B54A-B3B5A96A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A4A6-ED8A-4F61-B7D1-1ECC42B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ACC7-3FB4-4D53-9A31-6DBF4A94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9A23-3B1D-438E-97EE-FC4BABF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882B-6599-46F4-AD7B-7BCDEA23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689C-4B0B-4AB6-9E5F-9F764039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675-C25A-4A45-81AD-3DB3DE76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BBE-C9B7-4259-9BE7-66C9FF3B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ABA-871B-48A9-96A2-EAEB0DB9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891-F0A3-4471-B007-7856F097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B35-8B88-471E-A175-CA28ECEC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9A7-556D-4168-9CFA-B3454DC0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357-81E4-41E8-BCC6-B06C327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A8CE-8FE6-4582-B3D4-3BC1A397E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600F-E19A-4F22-803F-763D4DE33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yjulia.ru/data/cache/2011/05/29/781332_1724nothumb500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iolgra.ucoz.ru/_ph/13/439079289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nature.web.ru/nature/2001/03/16/0001162121/p200022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sustdev.narod.ru/pril_priroda/dopolnenie/www/05_equisetum_palustre1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myfl.ru/files/u4/flowers/PICT7491.jpg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dia.oregonlive.com/homesandgardens/photo/anemoneblandajpg-1e6604e0e51d7e6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dic.academic.ru/pictures/wiki/files/67/Creeping_butercup_close_800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westernhorse.ru/pic/travy/boligolov/101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pictures/enc_medicine/0214996091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g0.liveinternet.ru/images/attach/c/4/78/490/78490638_large_4600815_grechka_2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de.academic.ru/pictures/dewiki/108/lolium_multiflorum_detail..jpeg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plodopitomnik.com.ua/rhus.jpg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.vz.ru/upimg/m43/m432155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871720"/>
            <a:ext cx="625320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24000" y="2349360"/>
            <a:ext cx="648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Ядовитые расте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ПОМНИ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режде всего, пострадавшего следует отвести к врачу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Если это невозможно, нужно промыть желудок большим количеством воды и вывести яд из организм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ротивоядие принимаются </a:t>
            </a:r>
            <a:r>
              <a:rPr b="1" lang="en-US" sz="3200" spc="-1" strike="noStrike" u="sng">
                <a:solidFill>
                  <a:srgbClr val="333300"/>
                </a:solidFill>
                <a:uFillTx/>
                <a:latin typeface="Arial"/>
              </a:rPr>
              <a:t>ТОЛЬКО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по указанию врача!!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Ядовитые растения 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6920" y="1052280"/>
            <a:ext cx="403236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–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это растения, вырабатывающие и накапливающие в процессе своей жизни вещества, способные вызвать отравление или даже смерть у животных и людей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21160" y="1523520"/>
            <a:ext cx="3670560" cy="471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4 из 1876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1484280"/>
            <a:ext cx="32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51640" y="260280"/>
            <a:ext cx="334008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 наиболее опасным растениям относятся: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уколь, белена, вороний глаз, хвощ болотный, молочай, болигол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, из кустарников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тисс, самшит, можжевельник, жимолость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 други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" descr="Картинка 1 из 89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60280"/>
            <a:ext cx="2278080" cy="2233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Картинка 5 из 13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1557360"/>
            <a:ext cx="2736720" cy="1942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Картинка 15 из 2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47640" y="2924280"/>
            <a:ext cx="2044800" cy="2735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19640" y="4005360"/>
            <a:ext cx="199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404280"/>
            <a:ext cx="366876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Одинаково ядовиты растения как свежие, так и высушенны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о у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екоторых ядовитые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ущества пр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высушивании испаряются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( 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ветреница, лютик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) или уменьшаются (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болиголов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9" name="" descr="Картинка 4 из 722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260280"/>
            <a:ext cx="3395520" cy="2376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7 из 7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1773360"/>
            <a:ext cx="2952720" cy="208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Картинка 1 из 68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3573360"/>
            <a:ext cx="316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99760" y="1523520"/>
            <a:ext cx="3668760" cy="4714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6920" y="4723920"/>
            <a:ext cx="7774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У некоторых растений ядовиты кора и плоды, а листья и цветки безвредны (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крушина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), у других ядовиты цветки (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гречиха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), у третьих – только плоды (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плеве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), а некоторые целиком, кроме плодов (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сумах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).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5" name="" descr="Картинка 13 из 97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189000"/>
            <a:ext cx="3240000" cy="230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Картинка 6 из 3072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8900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Картинка 3 из 297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1989000"/>
            <a:ext cx="19206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Картинка 2 из 4312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2637000"/>
            <a:ext cx="2879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58920" y="4365720"/>
            <a:ext cx="7200720" cy="46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Если неосторожно обращаться с такими растениями при сборе или первичной обработке (ведь многие из них имеют и лекарственное значение), можно отравиться…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21160" y="1523520"/>
            <a:ext cx="3670560" cy="4714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Картинка 106 из 126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60280"/>
            <a:ext cx="50180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99760" y="1523520"/>
            <a:ext cx="3668760" cy="4714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31640" y="4508640"/>
            <a:ext cx="7561080" cy="43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Необходимо выкапывать или выкашивать ядовитые растения и сжигать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6" name="" descr="Картинка 53 из 663"/>
          <p:cNvPicPr/>
          <p:nvPr/>
        </p:nvPicPr>
        <p:blipFill>
          <a:blip r:embed="rId2"/>
          <a:stretch/>
        </p:blipFill>
        <p:spPr>
          <a:xfrm>
            <a:off x="1403280" y="1890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7280" y="4292640"/>
            <a:ext cx="7632720" cy="19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Среди культивируемых растений тоже есть ядовитые. Среди них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мак снотворный и аконит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. У мака ядовито все растение, у аконита – корн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21160" y="1523520"/>
            <a:ext cx="3670560" cy="4714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Картинка 3 из 203409"/>
          <p:cNvPicPr/>
          <p:nvPr/>
        </p:nvPicPr>
        <p:blipFill>
          <a:blip r:embed="rId2"/>
          <a:stretch/>
        </p:blipFill>
        <p:spPr>
          <a:xfrm>
            <a:off x="4427640" y="260280"/>
            <a:ext cx="4329000" cy="3413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Картинка 7 из 12340"/>
          <p:cNvPicPr/>
          <p:nvPr/>
        </p:nvPicPr>
        <p:blipFill>
          <a:blip r:embed="rId3"/>
          <a:stretch/>
        </p:blipFill>
        <p:spPr>
          <a:xfrm>
            <a:off x="1476360" y="189000"/>
            <a:ext cx="25621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63640" y="333360"/>
            <a:ext cx="349092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Нельзя брать ядовитые растения в рот, засовывать немытые руки, державшие ядовитое растение, в рот, нельзя касаться руками глаз. Даже слабые яды могут привести к тяжелым последствиям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" descr="Картинка 2 из 17578"/>
          <p:cNvPicPr/>
          <p:nvPr/>
        </p:nvPicPr>
        <p:blipFill>
          <a:blip r:embed="rId1"/>
          <a:stretch/>
        </p:blipFill>
        <p:spPr>
          <a:xfrm>
            <a:off x="1332000" y="260280"/>
            <a:ext cx="4010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44:02Z</dcterms:created>
  <dc:creator>Светлана</dc:creator>
  <dc:description/>
  <dc:language>en-US</dc:language>
  <cp:lastModifiedBy>Светлана</cp:lastModifiedBy>
  <dcterms:modified xsi:type="dcterms:W3CDTF">2012-01-16T15:20:00Z</dcterms:modified>
  <cp:revision>2</cp:revision>
  <dc:subject/>
  <dc:title>Слайд 1</dc:title>
</cp:coreProperties>
</file>