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126-3145-400B-A1DD-81D9C3D5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8F7-5A35-40BC-8F9F-75B62083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71C-B105-47A7-9072-1DBB1EA8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19E-1801-4B43-AF9D-4BC13F5F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A8C3-8080-402A-92C0-FF759B46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21C4-DA31-4A68-8EDE-2A971652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E52F-57E3-4E16-9F93-EC0A0C25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0A99-2C51-4925-9281-6EB4695A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3620-B070-46A4-A47F-796D1E5E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5243-320C-4161-846A-231CE2B7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EBD8-CEAC-4F4E-87AA-7962F8F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CFC-592B-42F0-B529-27E0AAC2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327D-F7F2-4F23-9CA7-15795023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9CFE-8C6D-483C-917C-94B816E8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95E7-9705-4D2F-B4AC-78B0E6DE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91F9-449A-408B-B902-BE388B4F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42E9-AF4D-402C-A5CC-34DC69D6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6A4-D916-4DC5-9365-4853D638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928-1783-4B27-9AE0-0053AC0E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735-D741-41B7-A8D9-575CC93D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EE7-BA6C-4249-9750-FF0F1355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1D8-8E88-49C0-9F19-DD82F96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CDA-762D-4AAF-B23A-27649DD9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3B7-4D31-4E01-9989-F8C7A720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7367-AD5C-4C0F-9C64-36191D0BD5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58CB-6C58-4926-ABE5-B6B053FFD0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УРОК ПО МАТЕМАТИКЕ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6 КЛАСС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492000" y="3933360"/>
            <a:ext cx="4665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ьминых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 Мустаевская средняя (полная)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а для капитан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льбоме 1105 марок, число иностранных марок составило 30% от числа российских марок. Сколько иностранных и сколько российских марок было в альбом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капитан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6954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1-практика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2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читай, выбери букву, составь сло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           2.               3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            5.             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- М;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- Р ;     - О;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- А;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-Л;     - Н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- 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слово блиц означает «Мол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9"/>
              <p:cNvSpPr txBox="1"/>
              <p:nvPr/>
            </p:nvSpPr>
            <p:spPr>
              <a:xfrm>
                <a:off x="1547640" y="3933720"/>
                <a:ext cx="25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5" name="Picture 4" descr="11111"/>
          <p:cNvPicPr/>
          <p:nvPr/>
        </p:nvPicPr>
        <p:blipFill>
          <a:blip r:embed="rId1"/>
          <a:srcRect l="34619" t="75689" r="49533" b="18342"/>
          <a:stretch/>
        </p:blipFill>
        <p:spPr>
          <a:xfrm>
            <a:off x="1547640" y="2205000"/>
            <a:ext cx="1008360" cy="531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1111"/>
          <p:cNvPicPr/>
          <p:nvPr/>
        </p:nvPicPr>
        <p:blipFill>
          <a:blip r:embed="rId2"/>
          <a:srcRect l="83884" t="34448" r="267" b="58281"/>
          <a:stretch/>
        </p:blipFill>
        <p:spPr>
          <a:xfrm>
            <a:off x="3059280" y="2133720"/>
            <a:ext cx="100800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1111"/>
          <p:cNvPicPr/>
          <p:nvPr/>
        </p:nvPicPr>
        <p:blipFill>
          <a:blip r:embed="rId3"/>
          <a:srcRect l="84454" t="81641" r="390" b="12711"/>
          <a:stretch/>
        </p:blipFill>
        <p:spPr>
          <a:xfrm>
            <a:off x="4572000" y="2997360"/>
            <a:ext cx="963720" cy="502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11111"/>
          <p:cNvPicPr/>
          <p:nvPr/>
        </p:nvPicPr>
        <p:blipFill>
          <a:blip r:embed="rId4"/>
          <a:srcRect l="51597" t="75173" r="32555" b="17560"/>
          <a:stretch/>
        </p:blipFill>
        <p:spPr>
          <a:xfrm>
            <a:off x="4572000" y="2133720"/>
            <a:ext cx="1008000" cy="64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11111"/>
          <p:cNvPicPr/>
          <p:nvPr/>
        </p:nvPicPr>
        <p:blipFill>
          <a:blip r:embed="rId5"/>
          <a:srcRect l="4030" t="41220" r="82390" b="53132"/>
          <a:stretch/>
        </p:blipFill>
        <p:spPr>
          <a:xfrm>
            <a:off x="1692360" y="2997360"/>
            <a:ext cx="863640" cy="502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11111"/>
          <p:cNvPicPr/>
          <p:nvPr/>
        </p:nvPicPr>
        <p:blipFill>
          <a:blip r:embed="rId6"/>
          <a:srcRect l="50472" t="16162" r="34803" b="76566"/>
          <a:stretch/>
        </p:blipFill>
        <p:spPr>
          <a:xfrm>
            <a:off x="3059280" y="2997360"/>
            <a:ext cx="936360" cy="647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3"/>
              <p:cNvSpPr txBox="1"/>
              <p:nvPr/>
            </p:nvSpPr>
            <p:spPr>
              <a:xfrm>
                <a:off x="2700360" y="3933720"/>
                <a:ext cx="157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5"/>
              <p:cNvSpPr txBox="1"/>
              <p:nvPr/>
            </p:nvSpPr>
            <p:spPr>
              <a:xfrm>
                <a:off x="3635280" y="3933720"/>
                <a:ext cx="3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6"/>
              <p:cNvSpPr txBox="1"/>
              <p:nvPr/>
            </p:nvSpPr>
            <p:spPr>
              <a:xfrm>
                <a:off x="4788000" y="3860640"/>
                <a:ext cx="32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7"/>
              <p:cNvSpPr txBox="1"/>
              <p:nvPr/>
            </p:nvSpPr>
            <p:spPr>
              <a:xfrm>
                <a:off x="6659640" y="3933720"/>
                <a:ext cx="3222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9"/>
              <p:cNvSpPr txBox="1"/>
              <p:nvPr/>
            </p:nvSpPr>
            <p:spPr>
              <a:xfrm>
                <a:off x="1547640" y="4797360"/>
                <a:ext cx="1447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44"/>
              <p:cNvSpPr txBox="1"/>
              <p:nvPr/>
            </p:nvSpPr>
            <p:spPr>
              <a:xfrm>
                <a:off x="7451640" y="3933720"/>
                <a:ext cx="3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(2 теория )  для 1 экипажа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акие дроби называются правиль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Как найти дробь от числ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Какое число называется чет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Сформулируйте признак дели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Что такое процен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Что значит сократить дроб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(2 теория для) для 2 экипажа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акие дроби называются неправиль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Как найти число по заданному значению его дроб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Сформулируйте признак делимости н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Как умножить дробь на дроб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Назовите самое маленькое натуральное чис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стный счет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бал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бал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бал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бал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Object 46"/>
              <p:cNvSpPr txBox="1"/>
              <p:nvPr/>
            </p:nvSpPr>
            <p:spPr>
              <a:xfrm>
                <a:off x="971640" y="2852640"/>
                <a:ext cx="1166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52"/>
              <p:cNvSpPr txBox="1"/>
              <p:nvPr/>
            </p:nvSpPr>
            <p:spPr>
              <a:xfrm>
                <a:off x="1547640" y="1413000"/>
                <a:ext cx="60962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5"/>
              <p:cNvSpPr txBox="1"/>
              <p:nvPr/>
            </p:nvSpPr>
            <p:spPr>
              <a:xfrm>
                <a:off x="900000" y="3933720"/>
                <a:ext cx="1224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8"/>
              <p:cNvSpPr txBox="1"/>
              <p:nvPr/>
            </p:nvSpPr>
            <p:spPr>
              <a:xfrm>
                <a:off x="971640" y="5157720"/>
                <a:ext cx="1224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61"/>
              <p:cNvSpPr txBox="1"/>
              <p:nvPr/>
            </p:nvSpPr>
            <p:spPr>
              <a:xfrm>
                <a:off x="2340000" y="2852640"/>
                <a:ext cx="1152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64"/>
              <p:cNvSpPr txBox="1"/>
              <p:nvPr/>
            </p:nvSpPr>
            <p:spPr>
              <a:xfrm>
                <a:off x="2268360" y="3933720"/>
                <a:ext cx="1224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7"/>
              <p:cNvSpPr txBox="1"/>
              <p:nvPr/>
            </p:nvSpPr>
            <p:spPr>
              <a:xfrm>
                <a:off x="2268360" y="5157720"/>
                <a:ext cx="1224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0"/>
              <p:cNvSpPr txBox="1"/>
              <p:nvPr/>
            </p:nvSpPr>
            <p:spPr>
              <a:xfrm>
                <a:off x="3564000" y="2852640"/>
                <a:ext cx="1224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3"/>
              <p:cNvSpPr txBox="1"/>
              <p:nvPr/>
            </p:nvSpPr>
            <p:spPr>
              <a:xfrm>
                <a:off x="3564000" y="3933720"/>
                <a:ext cx="12952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76"/>
              <p:cNvSpPr txBox="1"/>
              <p:nvPr/>
            </p:nvSpPr>
            <p:spPr>
              <a:xfrm>
                <a:off x="3564000" y="5084640"/>
                <a:ext cx="1152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79"/>
              <p:cNvSpPr txBox="1"/>
              <p:nvPr/>
            </p:nvSpPr>
            <p:spPr>
              <a:xfrm>
                <a:off x="4859280" y="2852640"/>
                <a:ext cx="1224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82"/>
              <p:cNvSpPr txBox="1"/>
              <p:nvPr/>
            </p:nvSpPr>
            <p:spPr>
              <a:xfrm>
                <a:off x="4788000" y="3933720"/>
                <a:ext cx="12967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5"/>
              <p:cNvSpPr txBox="1"/>
              <p:nvPr/>
            </p:nvSpPr>
            <p:spPr>
              <a:xfrm>
                <a:off x="4788000" y="5084640"/>
                <a:ext cx="129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8"/>
              <p:cNvSpPr txBox="1"/>
              <p:nvPr/>
            </p:nvSpPr>
            <p:spPr>
              <a:xfrm>
                <a:off x="6156360" y="2781360"/>
                <a:ext cx="129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1"/>
              <p:cNvSpPr txBox="1"/>
              <p:nvPr/>
            </p:nvSpPr>
            <p:spPr>
              <a:xfrm>
                <a:off x="6156360" y="3933720"/>
                <a:ext cx="12240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4"/>
              <p:cNvSpPr txBox="1"/>
              <p:nvPr/>
            </p:nvSpPr>
            <p:spPr>
              <a:xfrm>
                <a:off x="6156360" y="5084640"/>
                <a:ext cx="1224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7"/>
              <p:cNvSpPr txBox="1"/>
              <p:nvPr/>
            </p:nvSpPr>
            <p:spPr>
              <a:xfrm>
                <a:off x="7524720" y="2852640"/>
                <a:ext cx="10796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0"/>
              <p:cNvSpPr txBox="1"/>
              <p:nvPr/>
            </p:nvSpPr>
            <p:spPr>
              <a:xfrm>
                <a:off x="7451640" y="4005360"/>
                <a:ext cx="11527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03"/>
              <p:cNvSpPr txBox="1"/>
              <p:nvPr/>
            </p:nvSpPr>
            <p:spPr>
              <a:xfrm>
                <a:off x="7451640" y="5084640"/>
                <a:ext cx="12240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балл -    «Просто клас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балла -  «Супер клас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балла-   «Высший клас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01"/>
          <p:cNvPicPr/>
          <p:nvPr/>
        </p:nvPicPr>
        <p:blipFill>
          <a:blip r:embed="rId1"/>
          <a:stretch/>
        </p:blipFill>
        <p:spPr>
          <a:xfrm>
            <a:off x="7451640" y="260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150"/>
          <p:cNvPicPr/>
          <p:nvPr/>
        </p:nvPicPr>
        <p:blipFill>
          <a:blip r:embed="rId2"/>
          <a:stretch/>
        </p:blipFill>
        <p:spPr>
          <a:xfrm>
            <a:off x="1187280" y="479736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Hst01"/>
          <p:cNvPicPr/>
          <p:nvPr/>
        </p:nvPicPr>
        <p:blipFill>
          <a:blip r:embed="rId1"/>
          <a:stretch/>
        </p:blipFill>
        <p:spPr>
          <a:xfrm>
            <a:off x="2195640" y="2276640"/>
            <a:ext cx="3595680" cy="29826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5"/>
          <p:cNvSpPr txBox="1"/>
          <p:nvPr/>
        </p:nvSpPr>
        <p:spPr>
          <a:xfrm>
            <a:off x="1835280" y="40464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Тип урока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- урок обобщения и систематизации знаний</a:t>
            </a: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Класс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- 6 класс</a:t>
            </a:r>
            <a:br>
              <a:rPr sz="4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55280" y="1773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, авто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.Я.Виленкин,  Математика 6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места урока в изучаемой теме, разделе, курс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изучения главы «Обыкновенные дроб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е учебны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делать выбор, мотивация к уч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рганизовывать свою деятель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ть цель деятельности, составлять алгоритм реш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ь свою деятельность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равнивать, сопоставлять, иск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ую информацию по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бщаться, работать в группе, ум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 свое решение другим, умение выражать свои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768996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: проверить теоретические знания, умения и навыки по теме «Сложение, вычитание, умножение, деление обыкновенных дробей и смешенных чисел» 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ы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репить правила сложение, вычитание, умножение, деление обыкновенных дробей и смешанных чисел, применять их при решении задач с  экологическим содерж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вающ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родолжить развитие у учащихся основных приемов мышления (умения анализировать, сравнивать и т.д.), совершенствовать умение учащихся самостоятельно работать с дополнительной информацией. Развить историческое сознание школьников, заложить в основу воспитания необходимость знания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спитательные: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коллективизма, сплоченности, чувства ответственности, культуры общения , культуры диалога,  научить оценивать свои знания и умения, прививать любовь к ро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1187280" y="37620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й дидактический метод: проду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ные методы и приемы: частично-поиско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00000" y="1773360"/>
          <a:ext cx="7848720" cy="3744720"/>
        </p:xfrm>
        <a:graphic>
          <a:graphicData uri="http://schemas.openxmlformats.org/drawingml/2006/table">
            <a:tbl>
              <a:tblPr/>
              <a:tblGrid>
                <a:gridCol w="2975040"/>
                <a:gridCol w="4873680"/>
              </a:tblGrid>
              <a:tr h="374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применяемых образовательных технологий, обоснование их исполь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проблемной ситуац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ическое мыш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овая 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фференцируемое обу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ема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жение, вычитание, умножение,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ление обыкновенных дробей и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шанных чисел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916280" y="3872880"/>
            <a:ext cx="53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виз урока: «Тяжело в ученье легко в бо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Сувор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900000" y="1628640"/>
          <a:ext cx="7993080" cy="5040360"/>
        </p:xfrm>
        <a:graphic>
          <a:graphicData uri="http://schemas.openxmlformats.org/drawingml/2006/table">
            <a:tbl>
              <a:tblPr/>
              <a:tblGrid>
                <a:gridCol w="3029040"/>
                <a:gridCol w="4964040"/>
              </a:tblGrid>
              <a:tr h="504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е результ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логического и критического мышления, культуры речи; развитие интереса к математик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ные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ладение правилами  сложение, вычитание, умножение, деление обыкновенных дробей и смешанных чисел, которые необходимы для дальнейшего изучения математи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апредметные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представлений о значимости математики в  современном мире; о связи математики, истории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-633240" y="5378400"/>
            <a:ext cx="342720" cy="34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232080" y="595440"/>
            <a:ext cx="43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3232080" y="595440"/>
            <a:ext cx="43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3232080" y="595440"/>
            <a:ext cx="43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3232080" y="595440"/>
            <a:ext cx="43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2"/>
          <p:cNvSpPr/>
          <p:nvPr/>
        </p:nvSpPr>
        <p:spPr>
          <a:xfrm>
            <a:off x="3231720" y="4159080"/>
            <a:ext cx="3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3"/>
          <p:cNvSpPr/>
          <p:nvPr/>
        </p:nvSpPr>
        <p:spPr>
          <a:xfrm>
            <a:off x="3231000" y="5286960"/>
            <a:ext cx="43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ле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бо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Picture 127" descr="мб"/>
          <p:cNvPicPr/>
          <p:nvPr/>
        </p:nvPicPr>
        <p:blipFill>
          <a:blip r:embed="rId1"/>
          <a:stretch/>
        </p:blipFill>
        <p:spPr>
          <a:xfrm>
            <a:off x="2484360" y="2060640"/>
            <a:ext cx="2808360" cy="2652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28"/>
          <p:cNvSpPr/>
          <p:nvPr/>
        </p:nvSpPr>
        <p:spPr>
          <a:xfrm>
            <a:off x="1476360" y="2565360"/>
            <a:ext cx="187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б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балла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бал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9" descr="Копия (2) 1"/>
          <p:cNvPicPr/>
          <p:nvPr/>
        </p:nvPicPr>
        <p:blipFill>
          <a:blip r:embed="rId2"/>
          <a:stretch/>
        </p:blipFill>
        <p:spPr>
          <a:xfrm>
            <a:off x="5435640" y="2060640"/>
            <a:ext cx="27367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2670480" y="-434160"/>
            <a:ext cx="2852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56000" y="2276640"/>
          <a:ext cx="3240000" cy="2665080"/>
        </p:xfrm>
        <a:graphic>
          <a:graphicData uri="http://schemas.openxmlformats.org/drawingml/2006/table">
            <a:tbl>
              <a:tblPr/>
              <a:tblGrid>
                <a:gridCol w="811080"/>
                <a:gridCol w="809640"/>
                <a:gridCol w="808200"/>
                <a:gridCol w="81108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217"/>
          <p:cNvSpPr/>
          <p:nvPr/>
        </p:nvSpPr>
        <p:spPr>
          <a:xfrm>
            <a:off x="1477440" y="249228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8"/>
          <p:cNvSpPr/>
          <p:nvPr/>
        </p:nvSpPr>
        <p:spPr>
          <a:xfrm>
            <a:off x="1477440" y="32130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9"/>
          <p:cNvSpPr/>
          <p:nvPr/>
        </p:nvSpPr>
        <p:spPr>
          <a:xfrm>
            <a:off x="1404360" y="37893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0"/>
          <p:cNvSpPr/>
          <p:nvPr/>
        </p:nvSpPr>
        <p:spPr>
          <a:xfrm>
            <a:off x="1477440" y="443700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1"/>
          <p:cNvSpPr/>
          <p:nvPr/>
        </p:nvSpPr>
        <p:spPr>
          <a:xfrm>
            <a:off x="2268360" y="6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ви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русный корабль «Орел»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1667год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7" descr="Парусный корабль &quot;Орел&quot;"/>
          <p:cNvPicPr/>
          <p:nvPr/>
        </p:nvPicPr>
        <p:blipFill>
          <a:blip r:embed="rId1"/>
          <a:stretch/>
        </p:blipFill>
        <p:spPr>
          <a:xfrm>
            <a:off x="611280" y="1484280"/>
            <a:ext cx="3535200" cy="4537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4284720" y="1844640"/>
            <a:ext cx="374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русский парусный мореходный корабль, трехмачтовый фрегат.  По своему  парусному вооружении и мореходности он не уступал лучшим голландским и английским кораблям того времени. Вооружение судна: 22 пушки,40 мушкетов,40 пар пистолетов,  ручные гранаты   Летом 1669 года ему пришлось отражать атаки, восставшим против царя, казаков Степана Раз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экипаж одна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равелла «Санта-Мария»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1492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агманский корабль, на котором известный   мореплаватель Христофор Колумб, в 1492 году  совершил первое плавание через Атлантический Океан. Мореплаватели   собирались достичь берегов Индии и Японии, но вместо этого неожиданно открыли  новый материк – Америку (15ве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SantaMariaPalos1"/>
          <p:cNvPicPr/>
          <p:nvPr/>
        </p:nvPicPr>
        <p:blipFill>
          <a:blip r:embed="rId1"/>
          <a:srcRect l="5259" t="3185" r="5259" b="4759"/>
          <a:stretch/>
        </p:blipFill>
        <p:spPr>
          <a:xfrm>
            <a:off x="2771640" y="1484280"/>
            <a:ext cx="3029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рейсер «Аврора»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1903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4" descr="Pantserkruiser_Aurora"/>
          <p:cNvPicPr/>
          <p:nvPr/>
        </p:nvPicPr>
        <p:blipFill>
          <a:blip r:embed="rId1"/>
          <a:stretch/>
        </p:blipFill>
        <p:spPr>
          <a:xfrm>
            <a:off x="2419200" y="1628640"/>
            <a:ext cx="3945240" cy="2793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84360" y="4430880"/>
            <a:ext cx="8028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йсер Балтийского флота, водоизмещением 6700 тонн. Скорость 20 узлов. Холостой выстрел крейсера послужил сигналом к штурму «Зимнего дворца» во время Великой октябрьской социалистической революции 1917 года. Во время Великой Отечественной  войны крейсер участвовал в обороне Ленинграда.Вооружение:8 орудий 152-мм, 24 — 75-мм, 2 десантные пушки, 3 торпедных аппарата. Теперь это корабль-музей, который уже посетили  более 28 миллионов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дводная лодка «Наутилус»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1801 год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5" descr="SM U 3 800px.jpg"/>
          <p:cNvPicPr/>
          <p:nvPr/>
        </p:nvPicPr>
        <p:blipFill>
          <a:blip r:embed="rId1"/>
          <a:stretch/>
        </p:blipFill>
        <p:spPr>
          <a:xfrm>
            <a:off x="2195640" y="1700280"/>
            <a:ext cx="4176720" cy="2760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611280" y="46530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одная лодка «Наутилус» - это непросто фантастическое судно, описанное в романе писателя Жюль Верна «20 тысяч лье под водой».  В  действительности был такой корабль. Его изобрел Роберт  Фултон. Пробное погружение произошло в 1801 году. Над водой «Наутилус»  шел под парусом, под водой с помощью гребного ви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7315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рёл»                                        «Санта-Ма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врора»                                          «Наутилу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Парусный корабль &quot;Орел&quot;"/>
          <p:cNvPicPr/>
          <p:nvPr/>
        </p:nvPicPr>
        <p:blipFill>
          <a:blip r:embed="rId1"/>
          <a:stretch/>
        </p:blipFill>
        <p:spPr>
          <a:xfrm>
            <a:off x="1187280" y="765000"/>
            <a:ext cx="2327400" cy="259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SantaMariaPalos1"/>
          <p:cNvPicPr/>
          <p:nvPr/>
        </p:nvPicPr>
        <p:blipFill>
          <a:blip r:embed="rId2"/>
          <a:srcRect l="5259" t="3185" r="5259" b="4759"/>
          <a:stretch/>
        </p:blipFill>
        <p:spPr>
          <a:xfrm>
            <a:off x="5003640" y="836640"/>
            <a:ext cx="2341800" cy="251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antserkruiser_Aurora"/>
          <p:cNvPicPr/>
          <p:nvPr/>
        </p:nvPicPr>
        <p:blipFill>
          <a:blip r:embed="rId3"/>
          <a:stretch/>
        </p:blipFill>
        <p:spPr>
          <a:xfrm>
            <a:off x="826920" y="4005360"/>
            <a:ext cx="3240360" cy="2163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SM U 3 800px.jpg"/>
          <p:cNvPicPr/>
          <p:nvPr/>
        </p:nvPicPr>
        <p:blipFill>
          <a:blip r:embed="rId4"/>
          <a:stretch/>
        </p:blipFill>
        <p:spPr>
          <a:xfrm>
            <a:off x="4788000" y="4076640"/>
            <a:ext cx="31687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7:37:03Z</dcterms:created>
  <dc:creator>Customer</dc:creator>
  <dc:description/>
  <dc:language>en-US</dc:language>
  <cp:lastModifiedBy>ученик</cp:lastModifiedBy>
  <dcterms:modified xsi:type="dcterms:W3CDTF">2013-01-23T12:16:18Z</dcterms:modified>
  <cp:revision>38</cp:revision>
  <dc:subject/>
  <dc:title>Слайд 1</dc:title>
</cp:coreProperties>
</file>