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32E-8BBF-4409-A613-B47CB053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F88-AB80-46A2-9CFF-D6D1A90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EB8-A56E-41F5-A1D8-5CE53728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DFB-7258-474C-BC07-2BE4AA40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BE56-5CA5-44D4-AC9D-18D0C69A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C80-E9CC-47F1-A2A0-D144799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1D2-F940-4B6C-97F1-54D775C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2F68-B068-4B31-8AFD-186BBC96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F772-52F9-4F29-B97C-42BC7F8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CD43-C3BA-4FFA-8862-C111AE6E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0F1-2181-4756-B3FE-5009DC5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4DB-072A-413D-A89B-717809C8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E8B5-8AD6-4448-9FE4-1F80795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2378-03EA-47D7-B9C3-2F243E3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362F-1728-41F1-A966-85A2F8B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2772-C483-4226-8B44-CD7BFEDA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EFE6-7F2A-430A-9F1F-D1E2C9CC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90D6-29E5-4A09-BBF3-DC2B1D0F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D6FD-0112-4B63-8C6F-89B21B04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0D3D-F241-4EF4-A4B1-F9FB24F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3953-BC60-4035-9B55-09E8D31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3E8B-60B4-48EE-B7E5-AF27CB92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96C-CF08-4EE4-A2CE-C39DEB8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7EA9-887C-4A28-9644-A262946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0E4F-5D88-4FB1-BFE3-FD3629C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CDDB-D648-4143-8246-683B102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E026-C26F-4A8A-BB6E-46999D8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937F-6805-4FCE-B253-B5C655B8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8EAC-5421-4660-B9FF-9DC94A68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184B-1EDC-4193-8E63-968FA93E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73BD-4DE0-42AA-B892-26B25155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A611-A6D8-48EF-98C1-5178A58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7FA4-2D47-4CAA-86E9-F67E774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790-B2DE-425A-8801-7CF5648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0536-0EEE-4457-BB11-CC86478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906C-74FE-4AA2-8918-9DB521D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174B-EB76-43BB-9557-731C0A3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0F70-9402-44BA-B019-D83C1DF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99B7-5F45-4E6B-B1C5-9446646B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0435-9B59-4151-942E-51FC687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5812-E529-433D-BC72-5995A4FC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B69F-DC07-4A7C-9340-D8400C86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7AB7-92CD-4520-8293-A2BAA5BE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273D-BC4F-42B5-8F24-6FD20F3C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61C-FDA7-4DD7-B52E-37E3150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A879-043C-4324-934E-0F505C3F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8475-C33E-46DB-BB6A-A64F24C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9022-7975-4A67-A2A5-607D8C9A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46540-B1AB-4702-B959-BD08A8D5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F1E2-9FC8-43C8-9573-5B903B5B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BE04-BE9E-40CD-B6E7-98726AD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B98B-8E46-4786-8E9F-7E55270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BBB6-0184-49D9-85DA-FE1D485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B87D-10D3-4C78-8055-B45FEA4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8746C-F82C-41C0-8F74-5D79BDDB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6D2-B2A2-4A27-B7BF-5BF42F2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7409-B419-422B-8F2F-71A35E77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987A-FC4B-4F4F-BC10-9079796E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A974-20B3-4825-8066-6AC850BB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4791-B3D5-4F68-A87D-F246F8D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D609-252C-4D51-B500-D4E68E7A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46EA-D367-4794-93C3-7F013B0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BA8D-15F5-4C69-92D0-36A1399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ACAA-FB4A-4A27-8317-EAF1AC1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8F62-45FC-4014-95BF-7F8E8B0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A00E4-DB08-45D4-B149-7022963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7C8-61D1-440D-BE21-E7FEBF6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8EAA-971F-4DF8-A97B-D4EBDF87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E489A-A00F-4859-9B5C-8356D78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FAC8-147F-4E6E-BE5D-62AB4E5B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D6-80E4-4AF2-9267-55B5113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C62-F1C6-4926-935C-D7661DA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1354-53A3-4218-91A9-D7FEDA72C6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5671-A17B-48CC-ABAA-CABD20FA86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A51-0998-4104-A7A0-3723E515DC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B69-4D08-44F0-AF8B-B59CECB6C6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F9B-77A8-44CD-BD5A-B206922A1B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1F5-2EA3-41B6-B2A0-F3B51ED801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3" descr=""/>
          <p:cNvPicPr/>
          <p:nvPr/>
        </p:nvPicPr>
        <p:blipFill>
          <a:blip r:embed="rId1"/>
          <a:stretch/>
        </p:blipFill>
        <p:spPr>
          <a:xfrm>
            <a:off x="317520" y="-1042920"/>
            <a:ext cx="8942400" cy="548640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-115920"/>
            <a:ext cx="9047160" cy="40784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4427640" y="3716280"/>
            <a:ext cx="421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сь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:\лингвистическая сказка\918096-c609b5989f8d8b3e.jpg"/>
          <p:cNvPicPr/>
          <p:nvPr/>
        </p:nvPicPr>
        <p:blipFill>
          <a:blip r:embed="rId3"/>
          <a:stretch/>
        </p:blipFill>
        <p:spPr>
          <a:xfrm>
            <a:off x="179280" y="3789360"/>
            <a:ext cx="396108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549000"/>
            <a:ext cx="86868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данной работ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снить, какую роль играет использование лингвистически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ок (их чтение, анализ 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) как средств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доления трудностей при изучении морфологии русского языка, как влияют они на развитие речи и творческих способностей  учащих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2700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8" name="Picture 5" descr="H:\лингвистическая сказка\glagol.jpg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07640" y="1197000"/>
            <a:ext cx="8883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казка – это то, что известно с раннего детст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казка приобщает к родному языку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казка позволяет соединить теоретические знания и практические навы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пользование сказки позволяет преподать материал в доступной, интересной, яркой и образной форм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здание сказки самими учениками способно напрямую развить и орфографическую зоркость, помогая практическому усвоению теории, грамматических прави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накомство со сказкой позволяет развить воображение ребенка, тем самым способствовать его творческому развитию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2" name="Picture 2" descr="C:\Users\User\Desktop\1295125783_134.photoframe.korono.r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1692360" y="134136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Под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лингвистической сказкой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понимается особый дидактический рассказ, в котором используется сказочная фабула или бытовая ситуация для передачи сообщения о языковых фактах, правилах, законах и закономерностях языка 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8656560" cy="620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311040" y="450720"/>
            <a:ext cx="8925120" cy="434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:\лингвистическая сказка\pic6.jpg"/>
          <p:cNvPicPr/>
          <p:nvPr/>
        </p:nvPicPr>
        <p:blipFill>
          <a:blip r:embed="rId2"/>
          <a:stretch/>
        </p:blipFill>
        <p:spPr>
          <a:xfrm>
            <a:off x="4356000" y="4292640"/>
            <a:ext cx="431964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92160" y="450720"/>
            <a:ext cx="9124920" cy="615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9" name="Picture 2" descr="H:\лингвистическая сказка\13_45.jpg"/>
          <p:cNvPicPr/>
          <p:nvPr/>
        </p:nvPicPr>
        <p:blipFill>
          <a:blip r:embed="rId1"/>
          <a:stretch/>
        </p:blipFill>
        <p:spPr>
          <a:xfrm>
            <a:off x="1187280" y="692280"/>
            <a:ext cx="69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07:51Z</dcterms:created>
  <dc:creator>User</dc:creator>
  <dc:description/>
  <dc:language>en-US</dc:language>
  <cp:lastModifiedBy>Hornet</cp:lastModifiedBy>
  <dcterms:modified xsi:type="dcterms:W3CDTF">2013-01-17T17:11:37Z</dcterms:modified>
  <cp:revision>19</cp:revision>
  <dc:subject/>
  <dc:title>Презентация PowerPoint</dc:title>
</cp:coreProperties>
</file>